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5EE-D5F9-4FA6-96B3-C1AB0808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AB3-5C62-4F2A-AC27-05556188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90E-72B9-432D-8FCC-77E50969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8D5-6EA8-4492-9DFE-0B81F03C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859A-5F34-45AD-9FEB-677979FF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6A43-33B7-47BD-BDD5-F690DA69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44F6-125B-4D8E-9E8C-E1FD90E2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2DC1-B905-4FB3-B3A1-C069CFC5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39D5-36F5-4A75-9A25-7A9258E0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3A51-3D06-48CD-860B-26220A68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9972-0C78-4225-8CEC-9A9711BB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E07-A1D1-4F31-BAEF-67922506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DFCB-9804-4C2C-A2CF-B6DDEE60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09A0-F629-4755-AF7C-ADEB3410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6E37-8164-4E50-AEF0-20A15D3E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FF8B-5805-43EA-A397-5E6554B9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105F-087C-4473-B565-2D1FE1AE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2FC-BD35-4D58-AE7A-4F5E1AB9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158-A529-4E3C-85F5-DC9F182B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40E-FF1E-4D19-8042-03BEF343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BED-B355-4753-917A-75670B50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21C-53C2-4FBF-9245-0D464DE3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907-7964-4345-98E9-0F8FFB5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909-DBD7-4BA9-A2A2-C3B9CF39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BCF8-E7E2-4F40-B918-1181C114F6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D07A-4E5A-4720-A384-31E71B660E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56908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B Revision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find the angle between two vectors, use the formulae from the book for the product a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390760" y="4527720"/>
                <a:ext cx="33940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20760" y="2489040"/>
                <a:ext cx="1103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98840" y="2495520"/>
                <a:ext cx="934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286000" y="3562200"/>
                <a:ext cx="30877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2600" y="5467320"/>
                <a:ext cx="1567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41440" y="6246720"/>
                <a:ext cx="1683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V="1">
            <a:off x="6227640" y="2133360"/>
            <a:ext cx="180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2205000"/>
            <a:ext cx="1943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24720" y="2349360"/>
            <a:ext cx="239760" cy="432000"/>
          </a:xfrm>
          <a:custGeom>
            <a:avLst/>
            <a:gdLst/>
            <a:ahLst/>
            <a:rect l="l" t="t" r="r" b="b"/>
            <a:pathLst>
              <a:path w="151" h="272">
                <a:moveTo>
                  <a:pt x="0" y="0"/>
                </a:moveTo>
                <a:cubicBezTo>
                  <a:pt x="60" y="22"/>
                  <a:pt x="121" y="45"/>
                  <a:pt x="136" y="90"/>
                </a:cubicBezTo>
                <a:cubicBezTo>
                  <a:pt x="151" y="135"/>
                  <a:pt x="120" y="203"/>
                  <a:pt x="90" y="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1628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wo vector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924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278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860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 Coinc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3D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48360" y="3429000"/>
            <a:ext cx="2519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s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What poi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What ang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771640" y="1989000"/>
            <a:ext cx="1440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1989000"/>
            <a:ext cx="201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476360" y="335772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357720"/>
            <a:ext cx="792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866920" y="3213000"/>
            <a:ext cx="505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1640" y="3068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11280" y="1989000"/>
                <a:ext cx="223200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227640" y="2060640"/>
                <a:ext cx="230508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468360" y="148428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d the angles between these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28800" y="3643200"/>
            <a:ext cx="357120" cy="179640"/>
          </a:xfrm>
          <a:custGeom>
            <a:avLst/>
            <a:gdLst/>
            <a:ahLst/>
            <a:rect l="l" t="t" r="r" b="b"/>
            <a:pathLst>
              <a:path w="993" h="497">
                <a:moveTo>
                  <a:pt x="2679" y="10145"/>
                </a:moveTo>
                <a:cubicBezTo>
                  <a:pt x="2726" y="10165"/>
                  <a:pt x="2762" y="10194"/>
                  <a:pt x="2778" y="10145"/>
                </a:cubicBezTo>
                <a:cubicBezTo>
                  <a:pt x="2764" y="10116"/>
                  <a:pt x="2693" y="10148"/>
                  <a:pt x="2654" y="10195"/>
                </a:cubicBezTo>
                <a:cubicBezTo>
                  <a:pt x="2603" y="10257"/>
                  <a:pt x="2584" y="10367"/>
                  <a:pt x="2580" y="10443"/>
                </a:cubicBezTo>
                <a:cubicBezTo>
                  <a:pt x="2576" y="10517"/>
                  <a:pt x="2602" y="10562"/>
                  <a:pt x="2679" y="10567"/>
                </a:cubicBezTo>
                <a:cubicBezTo>
                  <a:pt x="2747" y="10572"/>
                  <a:pt x="2791" y="10563"/>
                  <a:pt x="2853" y="10542"/>
                </a:cubicBezTo>
              </a:path>
              <a:path w="993" h="497">
                <a:moveTo>
                  <a:pt x="3001" y="10468"/>
                </a:moveTo>
                <a:cubicBezTo>
                  <a:pt x="2974" y="10430"/>
                  <a:pt x="2977" y="10416"/>
                  <a:pt x="2977" y="10368"/>
                </a:cubicBezTo>
                <a:cubicBezTo>
                  <a:pt x="2977" y="10317"/>
                  <a:pt x="3004" y="10265"/>
                  <a:pt x="3051" y="10244"/>
                </a:cubicBezTo>
                <a:cubicBezTo>
                  <a:pt x="3101" y="10221"/>
                  <a:pt x="3136" y="10341"/>
                  <a:pt x="3150" y="10368"/>
                </a:cubicBezTo>
                <a:cubicBezTo>
                  <a:pt x="3184" y="10437"/>
                  <a:pt x="3203" y="10506"/>
                  <a:pt x="3125" y="10542"/>
                </a:cubicBezTo>
                <a:cubicBezTo>
                  <a:pt x="3075" y="10565"/>
                  <a:pt x="2981" y="10470"/>
                  <a:pt x="2952" y="10443"/>
                </a:cubicBezTo>
                <a:cubicBezTo>
                  <a:pt x="2924" y="10415"/>
                  <a:pt x="2915" y="10401"/>
                  <a:pt x="2927" y="10368"/>
                </a:cubicBezTo>
              </a:path>
              <a:path w="993" h="497">
                <a:moveTo>
                  <a:pt x="3448" y="10244"/>
                </a:moveTo>
                <a:cubicBezTo>
                  <a:pt x="3465" y="10237"/>
                  <a:pt x="3564" y="10207"/>
                  <a:pt x="3572" y="10195"/>
                </a:cubicBezTo>
                <a:cubicBezTo>
                  <a:pt x="3572" y="10187"/>
                  <a:pt x="3572" y="10178"/>
                  <a:pt x="3572" y="10170"/>
                </a:cubicBezTo>
                <a:cubicBezTo>
                  <a:pt x="3506" y="10170"/>
                  <a:pt x="3464" y="10192"/>
                  <a:pt x="3423" y="10244"/>
                </a:cubicBezTo>
                <a:cubicBezTo>
                  <a:pt x="3388" y="10287"/>
                  <a:pt x="3345" y="10369"/>
                  <a:pt x="3398" y="10418"/>
                </a:cubicBezTo>
                <a:cubicBezTo>
                  <a:pt x="3421" y="10439"/>
                  <a:pt x="3493" y="10483"/>
                  <a:pt x="3522" y="10492"/>
                </a:cubicBezTo>
                <a:cubicBezTo>
                  <a:pt x="3536" y="10496"/>
                  <a:pt x="3576" y="10541"/>
                  <a:pt x="3547" y="10567"/>
                </a:cubicBezTo>
                <a:cubicBezTo>
                  <a:pt x="3504" y="10589"/>
                  <a:pt x="3492" y="10592"/>
                  <a:pt x="3473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89040" y="3616200"/>
            <a:ext cx="1350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4589" y="10120"/>
                </a:moveTo>
                <a:cubicBezTo>
                  <a:pt x="4625" y="10109"/>
                  <a:pt x="4611" y="10084"/>
                  <a:pt x="4638" y="10046"/>
                </a:cubicBezTo>
                <a:cubicBezTo>
                  <a:pt x="4682" y="10057"/>
                  <a:pt x="4691" y="10081"/>
                  <a:pt x="4713" y="10120"/>
                </a:cubicBezTo>
                <a:cubicBezTo>
                  <a:pt x="4742" y="10170"/>
                  <a:pt x="4754" y="10262"/>
                  <a:pt x="4738" y="10319"/>
                </a:cubicBezTo>
                <a:cubicBezTo>
                  <a:pt x="4716" y="10396"/>
                  <a:pt x="4680" y="10393"/>
                  <a:pt x="4614" y="10393"/>
                </a:cubicBezTo>
                <a:cubicBezTo>
                  <a:pt x="4557" y="10393"/>
                  <a:pt x="4535" y="10381"/>
                  <a:pt x="4514" y="10319"/>
                </a:cubicBezTo>
                <a:cubicBezTo>
                  <a:pt x="4497" y="10267"/>
                  <a:pt x="4504" y="10159"/>
                  <a:pt x="4539" y="10120"/>
                </a:cubicBezTo>
                <a:cubicBezTo>
                  <a:pt x="4566" y="10090"/>
                  <a:pt x="4623" y="10083"/>
                  <a:pt x="4663" y="10096"/>
                </a:cubicBezTo>
                <a:cubicBezTo>
                  <a:pt x="4734" y="10119"/>
                  <a:pt x="4776" y="10225"/>
                  <a:pt x="4787" y="10294"/>
                </a:cubicBezTo>
                <a:cubicBezTo>
                  <a:pt x="4799" y="10369"/>
                  <a:pt x="4806" y="10503"/>
                  <a:pt x="4762" y="10567"/>
                </a:cubicBezTo>
                <a:cubicBezTo>
                  <a:pt x="4734" y="10607"/>
                  <a:pt x="4620" y="10694"/>
                  <a:pt x="4564" y="10666"/>
                </a:cubicBezTo>
                <a:cubicBezTo>
                  <a:pt x="4493" y="10630"/>
                  <a:pt x="4428" y="10547"/>
                  <a:pt x="4415" y="10468"/>
                </a:cubicBezTo>
                <a:cubicBezTo>
                  <a:pt x="4415" y="10402"/>
                  <a:pt x="4415" y="10385"/>
                  <a:pt x="4415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28880" y="3705120"/>
            <a:ext cx="71280" cy="637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5432" y="10294"/>
                </a:moveTo>
                <a:cubicBezTo>
                  <a:pt x="5457" y="10294"/>
                  <a:pt x="5465" y="10294"/>
                  <a:pt x="5482" y="10294"/>
                </a:cubicBezTo>
                <a:cubicBezTo>
                  <a:pt x="5432" y="10294"/>
                  <a:pt x="5423" y="10305"/>
                  <a:pt x="5383" y="10319"/>
                </a:cubicBezTo>
                <a:cubicBezTo>
                  <a:pt x="5375" y="10319"/>
                  <a:pt x="5366" y="10319"/>
                  <a:pt x="5358" y="10319"/>
                </a:cubicBezTo>
              </a:path>
              <a:path w="199" h="175">
                <a:moveTo>
                  <a:pt x="5507" y="10393"/>
                </a:moveTo>
                <a:cubicBezTo>
                  <a:pt x="5529" y="10416"/>
                  <a:pt x="5534" y="10424"/>
                  <a:pt x="5556" y="10418"/>
                </a:cubicBezTo>
                <a:cubicBezTo>
                  <a:pt x="5520" y="10418"/>
                  <a:pt x="5484" y="10425"/>
                  <a:pt x="5457" y="10443"/>
                </a:cubicBezTo>
                <a:cubicBezTo>
                  <a:pt x="5417" y="10469"/>
                  <a:pt x="5407" y="10468"/>
                  <a:pt x="5358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3200" y="3589200"/>
            <a:ext cx="179640" cy="135000"/>
          </a:xfrm>
          <a:custGeom>
            <a:avLst/>
            <a:gdLst/>
            <a:ahLst/>
            <a:rect l="l" t="t" r="r" b="b"/>
            <a:pathLst>
              <a:path w="497" h="374">
                <a:moveTo>
                  <a:pt x="7144" y="10195"/>
                </a:moveTo>
                <a:cubicBezTo>
                  <a:pt x="7068" y="10195"/>
                  <a:pt x="7009" y="10190"/>
                  <a:pt x="6945" y="10170"/>
                </a:cubicBezTo>
                <a:cubicBezTo>
                  <a:pt x="6925" y="10164"/>
                  <a:pt x="6892" y="10170"/>
                  <a:pt x="6871" y="10170"/>
                </a:cubicBezTo>
              </a:path>
              <a:path w="497" h="374">
                <a:moveTo>
                  <a:pt x="7317" y="10021"/>
                </a:moveTo>
                <a:cubicBezTo>
                  <a:pt x="7351" y="9975"/>
                  <a:pt x="7342" y="9959"/>
                  <a:pt x="7342" y="10021"/>
                </a:cubicBezTo>
                <a:cubicBezTo>
                  <a:pt x="7342" y="10110"/>
                  <a:pt x="7355" y="10184"/>
                  <a:pt x="7367" y="10269"/>
                </a:cubicBezTo>
                <a:cubicBezTo>
                  <a:pt x="7367" y="10311"/>
                  <a:pt x="7367" y="10319"/>
                  <a:pt x="7367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6680" y="3562200"/>
            <a:ext cx="322200" cy="152640"/>
          </a:xfrm>
          <a:custGeom>
            <a:avLst/>
            <a:gdLst/>
            <a:ahLst/>
            <a:rect l="l" t="t" r="r" b="b"/>
            <a:pathLst>
              <a:path w="894" h="423">
                <a:moveTo>
                  <a:pt x="7888" y="10120"/>
                </a:moveTo>
                <a:cubicBezTo>
                  <a:pt x="7888" y="10096"/>
                  <a:pt x="7888" y="10088"/>
                  <a:pt x="7913" y="10096"/>
                </a:cubicBezTo>
                <a:cubicBezTo>
                  <a:pt x="7878" y="10130"/>
                  <a:pt x="7849" y="10151"/>
                  <a:pt x="7838" y="10195"/>
                </a:cubicBezTo>
                <a:cubicBezTo>
                  <a:pt x="7821" y="10199"/>
                  <a:pt x="7746" y="10234"/>
                  <a:pt x="7739" y="10244"/>
                </a:cubicBezTo>
                <a:cubicBezTo>
                  <a:pt x="7739" y="10252"/>
                  <a:pt x="7739" y="10261"/>
                  <a:pt x="7739" y="10269"/>
                </a:cubicBezTo>
              </a:path>
              <a:path w="894" h="423">
                <a:moveTo>
                  <a:pt x="7888" y="10319"/>
                </a:moveTo>
                <a:cubicBezTo>
                  <a:pt x="7896" y="10319"/>
                  <a:pt x="7905" y="10319"/>
                  <a:pt x="7913" y="10319"/>
                </a:cubicBezTo>
                <a:cubicBezTo>
                  <a:pt x="7913" y="10294"/>
                  <a:pt x="7913" y="10269"/>
                  <a:pt x="7913" y="10244"/>
                </a:cubicBezTo>
                <a:cubicBezTo>
                  <a:pt x="7869" y="10234"/>
                  <a:pt x="7839" y="10200"/>
                  <a:pt x="7789" y="10195"/>
                </a:cubicBezTo>
                <a:cubicBezTo>
                  <a:pt x="7744" y="10190"/>
                  <a:pt x="7752" y="10199"/>
                  <a:pt x="7714" y="10170"/>
                </a:cubicBezTo>
              </a:path>
              <a:path w="894" h="423">
                <a:moveTo>
                  <a:pt x="8111" y="9996"/>
                </a:moveTo>
                <a:cubicBezTo>
                  <a:pt x="8103" y="9996"/>
                  <a:pt x="8094" y="9996"/>
                  <a:pt x="8086" y="9996"/>
                </a:cubicBezTo>
                <a:cubicBezTo>
                  <a:pt x="8099" y="9958"/>
                  <a:pt x="8108" y="9968"/>
                  <a:pt x="8136" y="9947"/>
                </a:cubicBezTo>
                <a:cubicBezTo>
                  <a:pt x="8167" y="9924"/>
                  <a:pt x="8196" y="9901"/>
                  <a:pt x="8235" y="9897"/>
                </a:cubicBezTo>
                <a:cubicBezTo>
                  <a:pt x="8284" y="9892"/>
                  <a:pt x="8323" y="9895"/>
                  <a:pt x="8334" y="9947"/>
                </a:cubicBezTo>
                <a:cubicBezTo>
                  <a:pt x="8352" y="10035"/>
                  <a:pt x="8265" y="10130"/>
                  <a:pt x="8235" y="10195"/>
                </a:cubicBezTo>
                <a:cubicBezTo>
                  <a:pt x="8218" y="10231"/>
                  <a:pt x="8210" y="10276"/>
                  <a:pt x="8210" y="10319"/>
                </a:cubicBezTo>
                <a:cubicBezTo>
                  <a:pt x="8263" y="10319"/>
                  <a:pt x="8290" y="10318"/>
                  <a:pt x="8334" y="10294"/>
                </a:cubicBezTo>
                <a:cubicBezTo>
                  <a:pt x="8398" y="10260"/>
                  <a:pt x="8487" y="10250"/>
                  <a:pt x="8558" y="10244"/>
                </a:cubicBezTo>
                <a:cubicBezTo>
                  <a:pt x="8582" y="10244"/>
                  <a:pt x="8591" y="10244"/>
                  <a:pt x="8607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38360" y="3589200"/>
            <a:ext cx="106560" cy="98640"/>
          </a:xfrm>
          <a:custGeom>
            <a:avLst/>
            <a:gdLst/>
            <a:ahLst/>
            <a:rect l="l" t="t" r="r" b="b"/>
            <a:pathLst>
              <a:path w="298" h="274">
                <a:moveTo>
                  <a:pt x="9847" y="10145"/>
                </a:moveTo>
                <a:cubicBezTo>
                  <a:pt x="9847" y="10137"/>
                  <a:pt x="9847" y="10128"/>
                  <a:pt x="9847" y="10120"/>
                </a:cubicBezTo>
                <a:cubicBezTo>
                  <a:pt x="9750" y="10120"/>
                  <a:pt x="9658" y="10123"/>
                  <a:pt x="9575" y="10096"/>
                </a:cubicBezTo>
                <a:cubicBezTo>
                  <a:pt x="9567" y="10096"/>
                  <a:pt x="9558" y="10096"/>
                  <a:pt x="9550" y="10096"/>
                </a:cubicBezTo>
              </a:path>
              <a:path w="298" h="274">
                <a:moveTo>
                  <a:pt x="9674" y="9996"/>
                </a:moveTo>
                <a:cubicBezTo>
                  <a:pt x="9696" y="9974"/>
                  <a:pt x="9701" y="9965"/>
                  <a:pt x="9723" y="9971"/>
                </a:cubicBezTo>
                <a:cubicBezTo>
                  <a:pt x="9723" y="10037"/>
                  <a:pt x="9709" y="10084"/>
                  <a:pt x="9699" y="10145"/>
                </a:cubicBezTo>
                <a:cubicBezTo>
                  <a:pt x="9699" y="10195"/>
                  <a:pt x="9699" y="10211"/>
                  <a:pt x="9699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59120" y="3517920"/>
            <a:ext cx="563760" cy="189000"/>
          </a:xfrm>
          <a:custGeom>
            <a:avLst/>
            <a:gdLst/>
            <a:ahLst/>
            <a:rect l="l" t="t" r="r" b="b"/>
            <a:pathLst>
              <a:path w="1563" h="522">
                <a:moveTo>
                  <a:pt x="10468" y="9922"/>
                </a:moveTo>
                <a:cubicBezTo>
                  <a:pt x="10456" y="9918"/>
                  <a:pt x="10413" y="9871"/>
                  <a:pt x="10443" y="9847"/>
                </a:cubicBezTo>
                <a:cubicBezTo>
                  <a:pt x="10474" y="9822"/>
                  <a:pt x="10482" y="9803"/>
                  <a:pt x="10542" y="9798"/>
                </a:cubicBezTo>
                <a:cubicBezTo>
                  <a:pt x="10581" y="9795"/>
                  <a:pt x="10650" y="9803"/>
                  <a:pt x="10666" y="9847"/>
                </a:cubicBezTo>
                <a:cubicBezTo>
                  <a:pt x="10684" y="9898"/>
                  <a:pt x="10661" y="9977"/>
                  <a:pt x="10641" y="10021"/>
                </a:cubicBezTo>
                <a:cubicBezTo>
                  <a:pt x="10614" y="10082"/>
                  <a:pt x="10562" y="10134"/>
                  <a:pt x="10542" y="10195"/>
                </a:cubicBezTo>
                <a:cubicBezTo>
                  <a:pt x="10536" y="10214"/>
                  <a:pt x="10542" y="10249"/>
                  <a:pt x="10542" y="10269"/>
                </a:cubicBezTo>
                <a:cubicBezTo>
                  <a:pt x="10593" y="10269"/>
                  <a:pt x="10599" y="10267"/>
                  <a:pt x="10641" y="10244"/>
                </a:cubicBezTo>
                <a:cubicBezTo>
                  <a:pt x="10694" y="10214"/>
                  <a:pt x="10731" y="10220"/>
                  <a:pt x="10790" y="10220"/>
                </a:cubicBezTo>
                <a:cubicBezTo>
                  <a:pt x="10798" y="10220"/>
                  <a:pt x="10807" y="10220"/>
                  <a:pt x="10815" y="10220"/>
                </a:cubicBezTo>
              </a:path>
              <a:path w="1563" h="522">
                <a:moveTo>
                  <a:pt x="11088" y="9971"/>
                </a:moveTo>
                <a:cubicBezTo>
                  <a:pt x="11096" y="9963"/>
                  <a:pt x="11104" y="9955"/>
                  <a:pt x="11112" y="9947"/>
                </a:cubicBezTo>
                <a:cubicBezTo>
                  <a:pt x="11101" y="9991"/>
                  <a:pt x="11072" y="10012"/>
                  <a:pt x="11038" y="10046"/>
                </a:cubicBezTo>
                <a:cubicBezTo>
                  <a:pt x="11009" y="10075"/>
                  <a:pt x="10997" y="10084"/>
                  <a:pt x="10988" y="10120"/>
                </a:cubicBezTo>
              </a:path>
              <a:path w="1563" h="522">
                <a:moveTo>
                  <a:pt x="11112" y="10071"/>
                </a:moveTo>
                <a:cubicBezTo>
                  <a:pt x="11120" y="10071"/>
                  <a:pt x="11129" y="10071"/>
                  <a:pt x="11137" y="10071"/>
                </a:cubicBezTo>
                <a:cubicBezTo>
                  <a:pt x="11128" y="10043"/>
                  <a:pt x="11103" y="10024"/>
                  <a:pt x="11063" y="10021"/>
                </a:cubicBezTo>
                <a:cubicBezTo>
                  <a:pt x="11021" y="10021"/>
                  <a:pt x="11013" y="10021"/>
                  <a:pt x="10988" y="10021"/>
                </a:cubicBezTo>
              </a:path>
              <a:path w="1563" h="522">
                <a:moveTo>
                  <a:pt x="11361" y="10071"/>
                </a:moveTo>
                <a:cubicBezTo>
                  <a:pt x="11361" y="10063"/>
                  <a:pt x="11361" y="10054"/>
                  <a:pt x="11361" y="10046"/>
                </a:cubicBezTo>
                <a:cubicBezTo>
                  <a:pt x="11419" y="10046"/>
                  <a:pt x="11476" y="10046"/>
                  <a:pt x="11534" y="10046"/>
                </a:cubicBezTo>
              </a:path>
              <a:path w="1563" h="522">
                <a:moveTo>
                  <a:pt x="11757" y="9897"/>
                </a:moveTo>
                <a:cubicBezTo>
                  <a:pt x="11717" y="9883"/>
                  <a:pt x="11727" y="9857"/>
                  <a:pt x="11757" y="9823"/>
                </a:cubicBezTo>
                <a:cubicBezTo>
                  <a:pt x="11784" y="9793"/>
                  <a:pt x="11840" y="9776"/>
                  <a:pt x="11881" y="9773"/>
                </a:cubicBezTo>
                <a:cubicBezTo>
                  <a:pt x="11964" y="9767"/>
                  <a:pt x="11956" y="9805"/>
                  <a:pt x="11956" y="9872"/>
                </a:cubicBezTo>
                <a:cubicBezTo>
                  <a:pt x="11956" y="9938"/>
                  <a:pt x="11952" y="9971"/>
                  <a:pt x="11906" y="10021"/>
                </a:cubicBezTo>
                <a:cubicBezTo>
                  <a:pt x="11883" y="10047"/>
                  <a:pt x="11857" y="10071"/>
                  <a:pt x="11832" y="10096"/>
                </a:cubicBezTo>
                <a:cubicBezTo>
                  <a:pt x="11871" y="10105"/>
                  <a:pt x="11887" y="10120"/>
                  <a:pt x="11931" y="10120"/>
                </a:cubicBezTo>
                <a:cubicBezTo>
                  <a:pt x="11977" y="10120"/>
                  <a:pt x="11999" y="10118"/>
                  <a:pt x="12005" y="10170"/>
                </a:cubicBezTo>
                <a:cubicBezTo>
                  <a:pt x="12012" y="10239"/>
                  <a:pt x="11981" y="10232"/>
                  <a:pt x="11931" y="10269"/>
                </a:cubicBezTo>
                <a:cubicBezTo>
                  <a:pt x="11908" y="10292"/>
                  <a:pt x="11904" y="10300"/>
                  <a:pt x="11881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18000" y="3562200"/>
            <a:ext cx="98280" cy="1177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2799" y="10046"/>
                </a:moveTo>
                <a:cubicBezTo>
                  <a:pt x="12807" y="10046"/>
                  <a:pt x="12816" y="10046"/>
                  <a:pt x="12824" y="10046"/>
                </a:cubicBezTo>
                <a:cubicBezTo>
                  <a:pt x="12777" y="10046"/>
                  <a:pt x="12745" y="10066"/>
                  <a:pt x="12700" y="10071"/>
                </a:cubicBezTo>
                <a:cubicBezTo>
                  <a:pt x="12651" y="10076"/>
                  <a:pt x="12600" y="10071"/>
                  <a:pt x="12551" y="10071"/>
                </a:cubicBezTo>
              </a:path>
              <a:path w="274" h="324">
                <a:moveTo>
                  <a:pt x="12675" y="9897"/>
                </a:moveTo>
                <a:cubicBezTo>
                  <a:pt x="12719" y="9912"/>
                  <a:pt x="12700" y="9968"/>
                  <a:pt x="12700" y="10021"/>
                </a:cubicBezTo>
                <a:cubicBezTo>
                  <a:pt x="12700" y="10087"/>
                  <a:pt x="12700" y="10154"/>
                  <a:pt x="12700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54760" y="3446640"/>
            <a:ext cx="384120" cy="233280"/>
          </a:xfrm>
          <a:custGeom>
            <a:avLst/>
            <a:gdLst/>
            <a:ahLst/>
            <a:rect l="l" t="t" r="r" b="b"/>
            <a:pathLst>
              <a:path w="1068" h="646">
                <a:moveTo>
                  <a:pt x="14039" y="9773"/>
                </a:moveTo>
                <a:cubicBezTo>
                  <a:pt x="14039" y="9748"/>
                  <a:pt x="14039" y="9740"/>
                  <a:pt x="14039" y="9723"/>
                </a:cubicBezTo>
                <a:cubicBezTo>
                  <a:pt x="14083" y="9738"/>
                  <a:pt x="14064" y="9794"/>
                  <a:pt x="14064" y="9847"/>
                </a:cubicBezTo>
                <a:cubicBezTo>
                  <a:pt x="14064" y="9950"/>
                  <a:pt x="14084" y="10044"/>
                  <a:pt x="14089" y="10145"/>
                </a:cubicBezTo>
                <a:cubicBezTo>
                  <a:pt x="14089" y="10162"/>
                  <a:pt x="14089" y="10178"/>
                  <a:pt x="14089" y="10195"/>
                </a:cubicBezTo>
              </a:path>
              <a:path w="1068" h="646">
                <a:moveTo>
                  <a:pt x="14288" y="9649"/>
                </a:moveTo>
                <a:cubicBezTo>
                  <a:pt x="14319" y="9625"/>
                  <a:pt x="14373" y="9603"/>
                  <a:pt x="14412" y="9599"/>
                </a:cubicBezTo>
                <a:cubicBezTo>
                  <a:pt x="14436" y="9599"/>
                  <a:pt x="14445" y="9599"/>
                  <a:pt x="14461" y="9599"/>
                </a:cubicBezTo>
                <a:cubicBezTo>
                  <a:pt x="14461" y="9644"/>
                  <a:pt x="14474" y="9714"/>
                  <a:pt x="14436" y="9748"/>
                </a:cubicBezTo>
                <a:cubicBezTo>
                  <a:pt x="14415" y="9767"/>
                  <a:pt x="14413" y="9763"/>
                  <a:pt x="14387" y="9798"/>
                </a:cubicBezTo>
                <a:cubicBezTo>
                  <a:pt x="14417" y="9821"/>
                  <a:pt x="14468" y="9841"/>
                  <a:pt x="14511" y="9823"/>
                </a:cubicBezTo>
                <a:cubicBezTo>
                  <a:pt x="14519" y="9815"/>
                  <a:pt x="14528" y="9806"/>
                  <a:pt x="14536" y="9798"/>
                </a:cubicBezTo>
              </a:path>
              <a:path w="1068" h="646">
                <a:moveTo>
                  <a:pt x="14784" y="9922"/>
                </a:moveTo>
                <a:cubicBezTo>
                  <a:pt x="14812" y="9922"/>
                  <a:pt x="14822" y="9919"/>
                  <a:pt x="14833" y="9897"/>
                </a:cubicBezTo>
                <a:cubicBezTo>
                  <a:pt x="14825" y="9938"/>
                  <a:pt x="14801" y="10012"/>
                  <a:pt x="14784" y="10046"/>
                </a:cubicBezTo>
                <a:cubicBezTo>
                  <a:pt x="14759" y="10071"/>
                  <a:pt x="14751" y="10079"/>
                  <a:pt x="14734" y="10096"/>
                </a:cubicBezTo>
              </a:path>
              <a:path w="1068" h="646">
                <a:moveTo>
                  <a:pt x="14858" y="10071"/>
                </a:moveTo>
                <a:cubicBezTo>
                  <a:pt x="14866" y="10071"/>
                  <a:pt x="14875" y="10071"/>
                  <a:pt x="14883" y="10071"/>
                </a:cubicBezTo>
                <a:cubicBezTo>
                  <a:pt x="14855" y="10043"/>
                  <a:pt x="14819" y="10008"/>
                  <a:pt x="14784" y="9996"/>
                </a:cubicBezTo>
                <a:cubicBezTo>
                  <a:pt x="14740" y="9981"/>
                  <a:pt x="14749" y="10017"/>
                  <a:pt x="14734" y="9971"/>
                </a:cubicBezTo>
              </a:path>
              <a:path w="1068" h="646">
                <a:moveTo>
                  <a:pt x="15056" y="9798"/>
                </a:moveTo>
                <a:cubicBezTo>
                  <a:pt x="15081" y="9798"/>
                  <a:pt x="15089" y="9798"/>
                  <a:pt x="15106" y="9798"/>
                </a:cubicBezTo>
                <a:cubicBezTo>
                  <a:pt x="15106" y="9939"/>
                  <a:pt x="15106" y="10079"/>
                  <a:pt x="15106" y="10220"/>
                </a:cubicBezTo>
              </a:path>
              <a:path w="1068" h="646">
                <a:moveTo>
                  <a:pt x="14635" y="9723"/>
                </a:moveTo>
                <a:cubicBezTo>
                  <a:pt x="14618" y="9719"/>
                  <a:pt x="14539" y="9648"/>
                  <a:pt x="14536" y="9649"/>
                </a:cubicBezTo>
                <a:cubicBezTo>
                  <a:pt x="14531" y="9650"/>
                  <a:pt x="14536" y="9765"/>
                  <a:pt x="14536" y="9773"/>
                </a:cubicBezTo>
                <a:cubicBezTo>
                  <a:pt x="14479" y="9759"/>
                  <a:pt x="14487" y="9728"/>
                  <a:pt x="14461" y="9674"/>
                </a:cubicBezTo>
                <a:cubicBezTo>
                  <a:pt x="14441" y="9633"/>
                  <a:pt x="14432" y="9627"/>
                  <a:pt x="14436" y="9599"/>
                </a:cubicBezTo>
                <a:cubicBezTo>
                  <a:pt x="14436" y="9552"/>
                  <a:pt x="14480" y="9673"/>
                  <a:pt x="14486" y="9699"/>
                </a:cubicBezTo>
                <a:cubicBezTo>
                  <a:pt x="14502" y="9766"/>
                  <a:pt x="14490" y="9832"/>
                  <a:pt x="14436" y="9748"/>
                </a:cubicBezTo>
                <a:cubicBezTo>
                  <a:pt x="14404" y="9698"/>
                  <a:pt x="14412" y="9656"/>
                  <a:pt x="14412" y="9599"/>
                </a:cubicBezTo>
                <a:cubicBezTo>
                  <a:pt x="14434" y="9556"/>
                  <a:pt x="14444" y="9638"/>
                  <a:pt x="14461" y="9674"/>
                </a:cubicBezTo>
                <a:cubicBezTo>
                  <a:pt x="14485" y="9723"/>
                  <a:pt x="14486" y="9745"/>
                  <a:pt x="14486" y="9798"/>
                </a:cubicBezTo>
                <a:cubicBezTo>
                  <a:pt x="14451" y="9755"/>
                  <a:pt x="14425" y="9704"/>
                  <a:pt x="14412" y="9649"/>
                </a:cubicBezTo>
                <a:cubicBezTo>
                  <a:pt x="14397" y="9587"/>
                  <a:pt x="14433" y="9660"/>
                  <a:pt x="14436" y="9674"/>
                </a:cubicBezTo>
                <a:cubicBezTo>
                  <a:pt x="14446" y="9722"/>
                  <a:pt x="14476" y="9777"/>
                  <a:pt x="14436" y="9723"/>
                </a:cubicBezTo>
                <a:cubicBezTo>
                  <a:pt x="14373" y="9638"/>
                  <a:pt x="14399" y="9640"/>
                  <a:pt x="14436" y="9723"/>
                </a:cubicBezTo>
                <a:cubicBezTo>
                  <a:pt x="14463" y="9784"/>
                  <a:pt x="14456" y="9822"/>
                  <a:pt x="14486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9240" y="3946680"/>
            <a:ext cx="2679840" cy="857160"/>
          </a:xfrm>
          <a:custGeom>
            <a:avLst/>
            <a:gdLst/>
            <a:ahLst/>
            <a:rect l="l" t="t" r="r" b="b"/>
            <a:pathLst>
              <a:path w="7443" h="2382">
                <a:moveTo>
                  <a:pt x="8657" y="11460"/>
                </a:moveTo>
                <a:cubicBezTo>
                  <a:pt x="8665" y="11460"/>
                  <a:pt x="8674" y="11460"/>
                  <a:pt x="8682" y="11460"/>
                </a:cubicBezTo>
                <a:cubicBezTo>
                  <a:pt x="8682" y="11576"/>
                  <a:pt x="8682" y="11691"/>
                  <a:pt x="8682" y="11807"/>
                </a:cubicBezTo>
              </a:path>
              <a:path w="7443" h="2382">
                <a:moveTo>
                  <a:pt x="8880" y="11385"/>
                </a:moveTo>
                <a:cubicBezTo>
                  <a:pt x="8880" y="11360"/>
                  <a:pt x="8880" y="11336"/>
                  <a:pt x="8880" y="11311"/>
                </a:cubicBezTo>
                <a:cubicBezTo>
                  <a:pt x="8921" y="11311"/>
                  <a:pt x="9007" y="11293"/>
                  <a:pt x="9029" y="11336"/>
                </a:cubicBezTo>
                <a:cubicBezTo>
                  <a:pt x="9051" y="11380"/>
                  <a:pt x="9014" y="11429"/>
                  <a:pt x="9004" y="11460"/>
                </a:cubicBezTo>
                <a:cubicBezTo>
                  <a:pt x="9004" y="11485"/>
                  <a:pt x="9004" y="11493"/>
                  <a:pt x="8979" y="11485"/>
                </a:cubicBezTo>
                <a:cubicBezTo>
                  <a:pt x="9037" y="11485"/>
                  <a:pt x="9095" y="11485"/>
                  <a:pt x="9153" y="11485"/>
                </a:cubicBezTo>
              </a:path>
              <a:path w="7443" h="2382">
                <a:moveTo>
                  <a:pt x="9401" y="11658"/>
                </a:moveTo>
                <a:cubicBezTo>
                  <a:pt x="9409" y="11658"/>
                  <a:pt x="9418" y="11658"/>
                  <a:pt x="9426" y="11658"/>
                </a:cubicBezTo>
                <a:cubicBezTo>
                  <a:pt x="9408" y="11603"/>
                  <a:pt x="9390" y="11645"/>
                  <a:pt x="9351" y="11658"/>
                </a:cubicBezTo>
                <a:cubicBezTo>
                  <a:pt x="9323" y="11668"/>
                  <a:pt x="9282" y="11658"/>
                  <a:pt x="9252" y="11658"/>
                </a:cubicBezTo>
              </a:path>
              <a:path w="7443" h="2382">
                <a:moveTo>
                  <a:pt x="9302" y="11559"/>
                </a:moveTo>
                <a:cubicBezTo>
                  <a:pt x="9310" y="11559"/>
                  <a:pt x="9319" y="11559"/>
                  <a:pt x="9327" y="11559"/>
                </a:cubicBezTo>
                <a:cubicBezTo>
                  <a:pt x="9327" y="11625"/>
                  <a:pt x="9327" y="11691"/>
                  <a:pt x="9327" y="11757"/>
                </a:cubicBezTo>
              </a:path>
              <a:path w="7443" h="2382">
                <a:moveTo>
                  <a:pt x="9550" y="11509"/>
                </a:moveTo>
                <a:cubicBezTo>
                  <a:pt x="9589" y="11497"/>
                  <a:pt x="9572" y="11453"/>
                  <a:pt x="9599" y="11435"/>
                </a:cubicBezTo>
                <a:cubicBezTo>
                  <a:pt x="9614" y="11425"/>
                  <a:pt x="9674" y="11396"/>
                  <a:pt x="9699" y="11410"/>
                </a:cubicBezTo>
                <a:cubicBezTo>
                  <a:pt x="9742" y="11434"/>
                  <a:pt x="9762" y="11486"/>
                  <a:pt x="9748" y="11534"/>
                </a:cubicBezTo>
                <a:cubicBezTo>
                  <a:pt x="9729" y="11598"/>
                  <a:pt x="9669" y="11642"/>
                  <a:pt x="9649" y="11708"/>
                </a:cubicBezTo>
                <a:cubicBezTo>
                  <a:pt x="9641" y="11735"/>
                  <a:pt x="9649" y="11779"/>
                  <a:pt x="9649" y="11807"/>
                </a:cubicBezTo>
                <a:cubicBezTo>
                  <a:pt x="9710" y="11807"/>
                  <a:pt x="9699" y="11779"/>
                  <a:pt x="9748" y="11757"/>
                </a:cubicBezTo>
                <a:cubicBezTo>
                  <a:pt x="9788" y="11739"/>
                  <a:pt x="9878" y="11757"/>
                  <a:pt x="9922" y="11757"/>
                </a:cubicBezTo>
              </a:path>
              <a:path w="7443" h="2382">
                <a:moveTo>
                  <a:pt x="9996" y="11311"/>
                </a:moveTo>
                <a:cubicBezTo>
                  <a:pt x="9996" y="11286"/>
                  <a:pt x="9996" y="11262"/>
                  <a:pt x="9996" y="11237"/>
                </a:cubicBezTo>
                <a:cubicBezTo>
                  <a:pt x="10037" y="11237"/>
                  <a:pt x="10079" y="11237"/>
                  <a:pt x="10120" y="11237"/>
                </a:cubicBezTo>
                <a:cubicBezTo>
                  <a:pt x="10108" y="11286"/>
                  <a:pt x="10062" y="11315"/>
                  <a:pt x="10046" y="11361"/>
                </a:cubicBezTo>
                <a:cubicBezTo>
                  <a:pt x="10046" y="11385"/>
                  <a:pt x="10046" y="11394"/>
                  <a:pt x="10046" y="11410"/>
                </a:cubicBezTo>
                <a:cubicBezTo>
                  <a:pt x="10079" y="11410"/>
                  <a:pt x="10112" y="11410"/>
                  <a:pt x="10145" y="11410"/>
                </a:cubicBezTo>
              </a:path>
              <a:path w="7443" h="2382">
                <a:moveTo>
                  <a:pt x="10517" y="11609"/>
                </a:moveTo>
                <a:cubicBezTo>
                  <a:pt x="10525" y="11609"/>
                  <a:pt x="10534" y="11609"/>
                  <a:pt x="10542" y="11609"/>
                </a:cubicBezTo>
                <a:cubicBezTo>
                  <a:pt x="10489" y="11609"/>
                  <a:pt x="10472" y="11629"/>
                  <a:pt x="10418" y="11633"/>
                </a:cubicBezTo>
                <a:cubicBezTo>
                  <a:pt x="10394" y="11635"/>
                  <a:pt x="10368" y="11633"/>
                  <a:pt x="10344" y="11633"/>
                </a:cubicBezTo>
              </a:path>
              <a:path w="7443" h="2382">
                <a:moveTo>
                  <a:pt x="10393" y="11509"/>
                </a:moveTo>
                <a:cubicBezTo>
                  <a:pt x="10421" y="11509"/>
                  <a:pt x="10432" y="11507"/>
                  <a:pt x="10443" y="11485"/>
                </a:cubicBezTo>
                <a:cubicBezTo>
                  <a:pt x="10443" y="11567"/>
                  <a:pt x="10439" y="11632"/>
                  <a:pt x="10468" y="11708"/>
                </a:cubicBezTo>
              </a:path>
              <a:path w="7443" h="2382">
                <a:moveTo>
                  <a:pt x="10740" y="11410"/>
                </a:moveTo>
                <a:cubicBezTo>
                  <a:pt x="10765" y="11410"/>
                  <a:pt x="10773" y="11410"/>
                  <a:pt x="10790" y="11410"/>
                </a:cubicBezTo>
                <a:cubicBezTo>
                  <a:pt x="10790" y="11526"/>
                  <a:pt x="10790" y="11641"/>
                  <a:pt x="10790" y="11757"/>
                </a:cubicBezTo>
              </a:path>
              <a:path w="7443" h="2382">
                <a:moveTo>
                  <a:pt x="10988" y="11286"/>
                </a:moveTo>
                <a:cubicBezTo>
                  <a:pt x="11023" y="11274"/>
                  <a:pt x="11012" y="11242"/>
                  <a:pt x="11063" y="11237"/>
                </a:cubicBezTo>
                <a:cubicBezTo>
                  <a:pt x="11088" y="11237"/>
                  <a:pt x="11096" y="11237"/>
                  <a:pt x="11112" y="11237"/>
                </a:cubicBezTo>
                <a:cubicBezTo>
                  <a:pt x="11112" y="11288"/>
                  <a:pt x="11100" y="11320"/>
                  <a:pt x="11088" y="11361"/>
                </a:cubicBezTo>
                <a:cubicBezTo>
                  <a:pt x="11080" y="11388"/>
                  <a:pt x="11038" y="11450"/>
                  <a:pt x="11063" y="11485"/>
                </a:cubicBezTo>
                <a:cubicBezTo>
                  <a:pt x="11085" y="11516"/>
                  <a:pt x="11135" y="11509"/>
                  <a:pt x="11162" y="11485"/>
                </a:cubicBezTo>
                <a:cubicBezTo>
                  <a:pt x="11196" y="11456"/>
                  <a:pt x="11220" y="11443"/>
                  <a:pt x="11237" y="11410"/>
                </a:cubicBezTo>
              </a:path>
              <a:path w="7443" h="2382">
                <a:moveTo>
                  <a:pt x="11212" y="11063"/>
                </a:moveTo>
                <a:cubicBezTo>
                  <a:pt x="11187" y="11063"/>
                  <a:pt x="11179" y="11063"/>
                  <a:pt x="11162" y="11063"/>
                </a:cubicBezTo>
                <a:cubicBezTo>
                  <a:pt x="11150" y="11067"/>
                  <a:pt x="11132" y="11086"/>
                  <a:pt x="11088" y="11088"/>
                </a:cubicBezTo>
                <a:cubicBezTo>
                  <a:pt x="10985" y="11092"/>
                  <a:pt x="10887" y="11102"/>
                  <a:pt x="10790" y="11112"/>
                </a:cubicBezTo>
                <a:cubicBezTo>
                  <a:pt x="10731" y="11118"/>
                  <a:pt x="10686" y="11093"/>
                  <a:pt x="10641" y="11088"/>
                </a:cubicBezTo>
                <a:cubicBezTo>
                  <a:pt x="10598" y="11083"/>
                  <a:pt x="10572" y="11110"/>
                  <a:pt x="10542" y="11112"/>
                </a:cubicBezTo>
                <a:cubicBezTo>
                  <a:pt x="10490" y="11116"/>
                  <a:pt x="10433" y="11133"/>
                  <a:pt x="10393" y="11137"/>
                </a:cubicBezTo>
                <a:cubicBezTo>
                  <a:pt x="10369" y="11140"/>
                  <a:pt x="10343" y="11135"/>
                  <a:pt x="10319" y="11137"/>
                </a:cubicBezTo>
                <a:cubicBezTo>
                  <a:pt x="10296" y="11145"/>
                  <a:pt x="10283" y="11172"/>
                  <a:pt x="10220" y="11162"/>
                </a:cubicBezTo>
                <a:cubicBezTo>
                  <a:pt x="10181" y="11156"/>
                  <a:pt x="10163" y="11142"/>
                  <a:pt x="10120" y="11137"/>
                </a:cubicBezTo>
                <a:cubicBezTo>
                  <a:pt x="10031" y="11127"/>
                  <a:pt x="9945" y="11154"/>
                  <a:pt x="9872" y="11162"/>
                </a:cubicBezTo>
                <a:cubicBezTo>
                  <a:pt x="9808" y="11169"/>
                  <a:pt x="9739" y="11162"/>
                  <a:pt x="9674" y="11162"/>
                </a:cubicBezTo>
                <a:cubicBezTo>
                  <a:pt x="9660" y="11156"/>
                  <a:pt x="9637" y="11147"/>
                  <a:pt x="9599" y="11137"/>
                </a:cubicBezTo>
                <a:cubicBezTo>
                  <a:pt x="9562" y="11128"/>
                  <a:pt x="9547" y="11114"/>
                  <a:pt x="9500" y="11112"/>
                </a:cubicBezTo>
                <a:cubicBezTo>
                  <a:pt x="9450" y="11110"/>
                  <a:pt x="9401" y="11112"/>
                  <a:pt x="9351" y="11112"/>
                </a:cubicBezTo>
                <a:cubicBezTo>
                  <a:pt x="9343" y="11114"/>
                  <a:pt x="9322" y="11145"/>
                  <a:pt x="9277" y="11137"/>
                </a:cubicBezTo>
                <a:cubicBezTo>
                  <a:pt x="9244" y="11131"/>
                  <a:pt x="9212" y="11122"/>
                  <a:pt x="9178" y="11112"/>
                </a:cubicBezTo>
                <a:cubicBezTo>
                  <a:pt x="9141" y="11101"/>
                  <a:pt x="9121" y="11092"/>
                  <a:pt x="9079" y="11088"/>
                </a:cubicBezTo>
                <a:cubicBezTo>
                  <a:pt x="8942" y="11073"/>
                  <a:pt x="8795" y="11088"/>
                  <a:pt x="8657" y="11088"/>
                </a:cubicBezTo>
                <a:cubicBezTo>
                  <a:pt x="8650" y="11091"/>
                  <a:pt x="8608" y="11129"/>
                  <a:pt x="8582" y="11137"/>
                </a:cubicBezTo>
                <a:cubicBezTo>
                  <a:pt x="8574" y="11137"/>
                  <a:pt x="8566" y="11137"/>
                  <a:pt x="8558" y="11137"/>
                </a:cubicBezTo>
                <a:cubicBezTo>
                  <a:pt x="8547" y="11165"/>
                  <a:pt x="8546" y="11211"/>
                  <a:pt x="8533" y="11237"/>
                </a:cubicBezTo>
                <a:cubicBezTo>
                  <a:pt x="8506" y="11288"/>
                  <a:pt x="8478" y="11329"/>
                  <a:pt x="8458" y="11385"/>
                </a:cubicBezTo>
                <a:cubicBezTo>
                  <a:pt x="8435" y="11447"/>
                  <a:pt x="8418" y="11493"/>
                  <a:pt x="8409" y="11559"/>
                </a:cubicBezTo>
                <a:cubicBezTo>
                  <a:pt x="8401" y="11619"/>
                  <a:pt x="8399" y="11676"/>
                  <a:pt x="8384" y="11733"/>
                </a:cubicBezTo>
                <a:cubicBezTo>
                  <a:pt x="8370" y="11785"/>
                  <a:pt x="8371" y="11828"/>
                  <a:pt x="8359" y="11881"/>
                </a:cubicBezTo>
                <a:cubicBezTo>
                  <a:pt x="8351" y="11919"/>
                  <a:pt x="8341" y="11940"/>
                  <a:pt x="8334" y="11981"/>
                </a:cubicBezTo>
                <a:cubicBezTo>
                  <a:pt x="8334" y="11989"/>
                  <a:pt x="8334" y="11997"/>
                  <a:pt x="8334" y="12005"/>
                </a:cubicBezTo>
                <a:cubicBezTo>
                  <a:pt x="8304" y="12021"/>
                  <a:pt x="8316" y="12014"/>
                  <a:pt x="8285" y="12030"/>
                </a:cubicBezTo>
                <a:cubicBezTo>
                  <a:pt x="8270" y="11998"/>
                  <a:pt x="8264" y="11973"/>
                  <a:pt x="8235" y="11931"/>
                </a:cubicBezTo>
                <a:cubicBezTo>
                  <a:pt x="8213" y="11899"/>
                  <a:pt x="8180" y="11858"/>
                  <a:pt x="8161" y="11832"/>
                </a:cubicBezTo>
                <a:cubicBezTo>
                  <a:pt x="8129" y="11816"/>
                  <a:pt x="8143" y="11823"/>
                  <a:pt x="8111" y="11807"/>
                </a:cubicBezTo>
              </a:path>
              <a:path w="7443" h="2382">
                <a:moveTo>
                  <a:pt x="11782" y="11658"/>
                </a:moveTo>
                <a:cubicBezTo>
                  <a:pt x="11790" y="11658"/>
                  <a:pt x="11799" y="11658"/>
                  <a:pt x="11807" y="11658"/>
                </a:cubicBezTo>
              </a:path>
              <a:path w="7443" h="2382">
                <a:moveTo>
                  <a:pt x="12502" y="11509"/>
                </a:moveTo>
                <a:cubicBezTo>
                  <a:pt x="12464" y="11497"/>
                  <a:pt x="12477" y="11480"/>
                  <a:pt x="12477" y="11435"/>
                </a:cubicBezTo>
                <a:cubicBezTo>
                  <a:pt x="12477" y="11395"/>
                  <a:pt x="12483" y="11355"/>
                  <a:pt x="12526" y="11336"/>
                </a:cubicBezTo>
                <a:cubicBezTo>
                  <a:pt x="12561" y="11320"/>
                  <a:pt x="12603" y="11340"/>
                  <a:pt x="12626" y="11361"/>
                </a:cubicBezTo>
                <a:cubicBezTo>
                  <a:pt x="12677" y="11406"/>
                  <a:pt x="12635" y="11439"/>
                  <a:pt x="12626" y="11485"/>
                </a:cubicBezTo>
                <a:cubicBezTo>
                  <a:pt x="12615" y="11540"/>
                  <a:pt x="12599" y="11612"/>
                  <a:pt x="12576" y="11658"/>
                </a:cubicBezTo>
                <a:cubicBezTo>
                  <a:pt x="12556" y="11697"/>
                  <a:pt x="12551" y="11686"/>
                  <a:pt x="12551" y="11733"/>
                </a:cubicBezTo>
                <a:cubicBezTo>
                  <a:pt x="12603" y="11733"/>
                  <a:pt x="12633" y="11721"/>
                  <a:pt x="12675" y="11708"/>
                </a:cubicBezTo>
                <a:cubicBezTo>
                  <a:pt x="12712" y="11697"/>
                  <a:pt x="12762" y="11687"/>
                  <a:pt x="12799" y="11683"/>
                </a:cubicBezTo>
                <a:cubicBezTo>
                  <a:pt x="12807" y="11683"/>
                  <a:pt x="12816" y="11683"/>
                  <a:pt x="12824" y="11683"/>
                </a:cubicBezTo>
              </a:path>
              <a:path w="7443" h="2382">
                <a:moveTo>
                  <a:pt x="13047" y="11137"/>
                </a:moveTo>
                <a:cubicBezTo>
                  <a:pt x="13039" y="11137"/>
                  <a:pt x="13030" y="11137"/>
                  <a:pt x="13022" y="11137"/>
                </a:cubicBezTo>
                <a:cubicBezTo>
                  <a:pt x="13035" y="11097"/>
                  <a:pt x="13061" y="11112"/>
                  <a:pt x="13097" y="11088"/>
                </a:cubicBezTo>
                <a:cubicBezTo>
                  <a:pt x="13134" y="11063"/>
                  <a:pt x="13172" y="11089"/>
                  <a:pt x="13146" y="11137"/>
                </a:cubicBezTo>
                <a:cubicBezTo>
                  <a:pt x="13127" y="11173"/>
                  <a:pt x="13102" y="11195"/>
                  <a:pt x="13097" y="11237"/>
                </a:cubicBezTo>
                <a:cubicBezTo>
                  <a:pt x="13097" y="11245"/>
                  <a:pt x="13097" y="11253"/>
                  <a:pt x="13097" y="11261"/>
                </a:cubicBezTo>
                <a:cubicBezTo>
                  <a:pt x="13130" y="11261"/>
                  <a:pt x="13163" y="11261"/>
                  <a:pt x="13196" y="11261"/>
                </a:cubicBezTo>
              </a:path>
              <a:path w="7443" h="2382">
                <a:moveTo>
                  <a:pt x="13494" y="11485"/>
                </a:moveTo>
                <a:cubicBezTo>
                  <a:pt x="13502" y="11493"/>
                  <a:pt x="13511" y="11501"/>
                  <a:pt x="13519" y="11509"/>
                </a:cubicBezTo>
                <a:cubicBezTo>
                  <a:pt x="13461" y="11509"/>
                  <a:pt x="13403" y="11509"/>
                  <a:pt x="13345" y="11509"/>
                </a:cubicBezTo>
              </a:path>
              <a:path w="7443" h="2382">
                <a:moveTo>
                  <a:pt x="13345" y="11410"/>
                </a:moveTo>
                <a:cubicBezTo>
                  <a:pt x="13353" y="11410"/>
                  <a:pt x="13362" y="11410"/>
                  <a:pt x="13370" y="11410"/>
                </a:cubicBezTo>
                <a:cubicBezTo>
                  <a:pt x="13385" y="11456"/>
                  <a:pt x="13395" y="11434"/>
                  <a:pt x="13395" y="11509"/>
                </a:cubicBezTo>
                <a:cubicBezTo>
                  <a:pt x="13395" y="11550"/>
                  <a:pt x="13395" y="11592"/>
                  <a:pt x="13395" y="11633"/>
                </a:cubicBezTo>
              </a:path>
              <a:path w="7443" h="2382">
                <a:moveTo>
                  <a:pt x="13717" y="11410"/>
                </a:moveTo>
                <a:cubicBezTo>
                  <a:pt x="13692" y="11410"/>
                  <a:pt x="13684" y="11410"/>
                  <a:pt x="13692" y="11385"/>
                </a:cubicBezTo>
                <a:cubicBezTo>
                  <a:pt x="13711" y="11331"/>
                  <a:pt x="13716" y="11364"/>
                  <a:pt x="13767" y="11336"/>
                </a:cubicBezTo>
                <a:cubicBezTo>
                  <a:pt x="13809" y="11313"/>
                  <a:pt x="13862" y="11291"/>
                  <a:pt x="13915" y="11286"/>
                </a:cubicBezTo>
                <a:cubicBezTo>
                  <a:pt x="13923" y="11286"/>
                  <a:pt x="13932" y="11286"/>
                  <a:pt x="13940" y="11286"/>
                </a:cubicBezTo>
                <a:cubicBezTo>
                  <a:pt x="13940" y="11337"/>
                  <a:pt x="13949" y="11371"/>
                  <a:pt x="13915" y="11410"/>
                </a:cubicBezTo>
                <a:cubicBezTo>
                  <a:pt x="13880" y="11450"/>
                  <a:pt x="13866" y="11455"/>
                  <a:pt x="13866" y="11509"/>
                </a:cubicBezTo>
                <a:cubicBezTo>
                  <a:pt x="13866" y="11517"/>
                  <a:pt x="13866" y="11526"/>
                  <a:pt x="13866" y="11534"/>
                </a:cubicBezTo>
                <a:cubicBezTo>
                  <a:pt x="13902" y="11534"/>
                  <a:pt x="13938" y="11541"/>
                  <a:pt x="13965" y="11559"/>
                </a:cubicBezTo>
                <a:cubicBezTo>
                  <a:pt x="13991" y="11577"/>
                  <a:pt x="14036" y="11621"/>
                  <a:pt x="14015" y="11658"/>
                </a:cubicBezTo>
                <a:cubicBezTo>
                  <a:pt x="13990" y="11703"/>
                  <a:pt x="13927" y="11690"/>
                  <a:pt x="13891" y="11708"/>
                </a:cubicBezTo>
                <a:cubicBezTo>
                  <a:pt x="13868" y="11731"/>
                  <a:pt x="13864" y="11739"/>
                  <a:pt x="13841" y="11733"/>
                </a:cubicBezTo>
              </a:path>
              <a:path w="7443" h="2382">
                <a:moveTo>
                  <a:pt x="14337" y="11212"/>
                </a:moveTo>
                <a:cubicBezTo>
                  <a:pt x="14347" y="11183"/>
                  <a:pt x="14371" y="11167"/>
                  <a:pt x="14412" y="11162"/>
                </a:cubicBezTo>
                <a:cubicBezTo>
                  <a:pt x="14436" y="11162"/>
                  <a:pt x="14445" y="11162"/>
                  <a:pt x="14461" y="11162"/>
                </a:cubicBezTo>
                <a:cubicBezTo>
                  <a:pt x="14461" y="11219"/>
                  <a:pt x="14431" y="11238"/>
                  <a:pt x="14412" y="11286"/>
                </a:cubicBezTo>
                <a:cubicBezTo>
                  <a:pt x="14398" y="11321"/>
                  <a:pt x="14387" y="11343"/>
                  <a:pt x="14387" y="11385"/>
                </a:cubicBezTo>
                <a:cubicBezTo>
                  <a:pt x="14387" y="11393"/>
                  <a:pt x="14387" y="11402"/>
                  <a:pt x="14387" y="11410"/>
                </a:cubicBezTo>
                <a:cubicBezTo>
                  <a:pt x="14434" y="11410"/>
                  <a:pt x="14467" y="11394"/>
                  <a:pt x="14511" y="11385"/>
                </a:cubicBezTo>
              </a:path>
              <a:path w="7443" h="2382">
                <a:moveTo>
                  <a:pt x="14908" y="11609"/>
                </a:moveTo>
                <a:cubicBezTo>
                  <a:pt x="14916" y="11609"/>
                  <a:pt x="14924" y="11609"/>
                  <a:pt x="14932" y="11609"/>
                </a:cubicBezTo>
                <a:cubicBezTo>
                  <a:pt x="14841" y="11609"/>
                  <a:pt x="14751" y="11609"/>
                  <a:pt x="14660" y="11609"/>
                </a:cubicBezTo>
              </a:path>
              <a:path w="7443" h="2382">
                <a:moveTo>
                  <a:pt x="14759" y="11460"/>
                </a:moveTo>
                <a:cubicBezTo>
                  <a:pt x="14767" y="11452"/>
                  <a:pt x="14776" y="11443"/>
                  <a:pt x="14784" y="11435"/>
                </a:cubicBezTo>
                <a:cubicBezTo>
                  <a:pt x="14813" y="11485"/>
                  <a:pt x="14808" y="11523"/>
                  <a:pt x="14808" y="11584"/>
                </a:cubicBezTo>
                <a:cubicBezTo>
                  <a:pt x="14808" y="11633"/>
                  <a:pt x="14808" y="11650"/>
                  <a:pt x="14808" y="11683"/>
                </a:cubicBezTo>
              </a:path>
              <a:path w="7443" h="2382">
                <a:moveTo>
                  <a:pt x="15131" y="11336"/>
                </a:moveTo>
                <a:cubicBezTo>
                  <a:pt x="15165" y="11268"/>
                  <a:pt x="15156" y="11419"/>
                  <a:pt x="15156" y="11435"/>
                </a:cubicBezTo>
                <a:cubicBezTo>
                  <a:pt x="15156" y="11526"/>
                  <a:pt x="15156" y="11617"/>
                  <a:pt x="15156" y="11708"/>
                </a:cubicBezTo>
              </a:path>
              <a:path w="7443" h="2382">
                <a:moveTo>
                  <a:pt x="15354" y="11187"/>
                </a:moveTo>
                <a:cubicBezTo>
                  <a:pt x="15367" y="11149"/>
                  <a:pt x="15376" y="11158"/>
                  <a:pt x="15404" y="11137"/>
                </a:cubicBezTo>
                <a:cubicBezTo>
                  <a:pt x="15426" y="11115"/>
                  <a:pt x="15431" y="11106"/>
                  <a:pt x="15453" y="11112"/>
                </a:cubicBezTo>
                <a:cubicBezTo>
                  <a:pt x="15453" y="11157"/>
                  <a:pt x="15459" y="11177"/>
                  <a:pt x="15429" y="11212"/>
                </a:cubicBezTo>
                <a:cubicBezTo>
                  <a:pt x="15398" y="11247"/>
                  <a:pt x="15404" y="11265"/>
                  <a:pt x="15404" y="11311"/>
                </a:cubicBezTo>
                <a:cubicBezTo>
                  <a:pt x="15455" y="11311"/>
                  <a:pt x="15490" y="11320"/>
                  <a:pt x="15528" y="11286"/>
                </a:cubicBezTo>
                <a:cubicBezTo>
                  <a:pt x="15536" y="11278"/>
                  <a:pt x="15545" y="11269"/>
                  <a:pt x="15553" y="11261"/>
                </a:cubicBezTo>
              </a:path>
              <a:path w="7443" h="2382">
                <a:moveTo>
                  <a:pt x="15404" y="10988"/>
                </a:moveTo>
                <a:cubicBezTo>
                  <a:pt x="15332" y="10988"/>
                  <a:pt x="15263" y="11007"/>
                  <a:pt x="15205" y="11013"/>
                </a:cubicBezTo>
                <a:cubicBezTo>
                  <a:pt x="15116" y="11023"/>
                  <a:pt x="15009" y="11029"/>
                  <a:pt x="14932" y="11038"/>
                </a:cubicBezTo>
                <a:cubicBezTo>
                  <a:pt x="14836" y="11049"/>
                  <a:pt x="14740" y="11022"/>
                  <a:pt x="14660" y="11013"/>
                </a:cubicBezTo>
                <a:cubicBezTo>
                  <a:pt x="14516" y="10997"/>
                  <a:pt x="14369" y="11026"/>
                  <a:pt x="14238" y="10988"/>
                </a:cubicBezTo>
                <a:cubicBezTo>
                  <a:pt x="14197" y="10976"/>
                  <a:pt x="14163" y="10967"/>
                  <a:pt x="14114" y="10964"/>
                </a:cubicBezTo>
                <a:cubicBezTo>
                  <a:pt x="14026" y="10958"/>
                  <a:pt x="13939" y="10981"/>
                  <a:pt x="13866" y="10988"/>
                </a:cubicBezTo>
                <a:cubicBezTo>
                  <a:pt x="13465" y="11024"/>
                  <a:pt x="13038" y="10970"/>
                  <a:pt x="12650" y="11013"/>
                </a:cubicBezTo>
                <a:cubicBezTo>
                  <a:pt x="12606" y="11018"/>
                  <a:pt x="12560" y="11033"/>
                  <a:pt x="12526" y="11038"/>
                </a:cubicBezTo>
                <a:cubicBezTo>
                  <a:pt x="12494" y="11043"/>
                  <a:pt x="12459" y="11035"/>
                  <a:pt x="12427" y="11038"/>
                </a:cubicBezTo>
                <a:cubicBezTo>
                  <a:pt x="12399" y="11044"/>
                  <a:pt x="12402" y="11042"/>
                  <a:pt x="12353" y="11038"/>
                </a:cubicBezTo>
                <a:cubicBezTo>
                  <a:pt x="12304" y="11034"/>
                  <a:pt x="12292" y="11040"/>
                  <a:pt x="12254" y="11063"/>
                </a:cubicBezTo>
                <a:cubicBezTo>
                  <a:pt x="12254" y="11071"/>
                  <a:pt x="12254" y="11080"/>
                  <a:pt x="12254" y="11088"/>
                </a:cubicBezTo>
                <a:cubicBezTo>
                  <a:pt x="12252" y="11092"/>
                  <a:pt x="12208" y="11137"/>
                  <a:pt x="12204" y="11162"/>
                </a:cubicBezTo>
                <a:cubicBezTo>
                  <a:pt x="12197" y="11204"/>
                  <a:pt x="12189" y="11227"/>
                  <a:pt x="12179" y="11261"/>
                </a:cubicBezTo>
                <a:cubicBezTo>
                  <a:pt x="12168" y="11301"/>
                  <a:pt x="12167" y="11345"/>
                  <a:pt x="12154" y="11385"/>
                </a:cubicBezTo>
                <a:cubicBezTo>
                  <a:pt x="12141" y="11422"/>
                  <a:pt x="12135" y="11443"/>
                  <a:pt x="12129" y="11485"/>
                </a:cubicBezTo>
                <a:cubicBezTo>
                  <a:pt x="12109" y="11627"/>
                  <a:pt x="12129" y="11787"/>
                  <a:pt x="12129" y="11931"/>
                </a:cubicBezTo>
                <a:cubicBezTo>
                  <a:pt x="12124" y="11920"/>
                  <a:pt x="12092" y="11866"/>
                  <a:pt x="12080" y="11832"/>
                </a:cubicBezTo>
                <a:cubicBezTo>
                  <a:pt x="12066" y="11792"/>
                  <a:pt x="12043" y="11745"/>
                  <a:pt x="12030" y="11708"/>
                </a:cubicBezTo>
                <a:cubicBezTo>
                  <a:pt x="12030" y="11700"/>
                  <a:pt x="12030" y="11691"/>
                  <a:pt x="12030" y="11683"/>
                </a:cubicBezTo>
              </a:path>
              <a:path w="7443" h="2382">
                <a:moveTo>
                  <a:pt x="11708" y="11485"/>
                </a:moveTo>
                <a:cubicBezTo>
                  <a:pt x="11708" y="11518"/>
                  <a:pt x="11708" y="11551"/>
                  <a:pt x="11708" y="11584"/>
                </a:cubicBezTo>
                <a:cubicBezTo>
                  <a:pt x="11685" y="11576"/>
                  <a:pt x="11669" y="11541"/>
                  <a:pt x="11658" y="11509"/>
                </a:cubicBezTo>
                <a:cubicBezTo>
                  <a:pt x="11643" y="11465"/>
                  <a:pt x="11674" y="11463"/>
                  <a:pt x="11683" y="11435"/>
                </a:cubicBezTo>
                <a:cubicBezTo>
                  <a:pt x="11711" y="11444"/>
                  <a:pt x="11728" y="11469"/>
                  <a:pt x="11733" y="11509"/>
                </a:cubicBezTo>
                <a:cubicBezTo>
                  <a:pt x="11737" y="11545"/>
                  <a:pt x="11707" y="11560"/>
                  <a:pt x="11683" y="11584"/>
                </a:cubicBezTo>
                <a:cubicBezTo>
                  <a:pt x="11660" y="11576"/>
                  <a:pt x="11644" y="11541"/>
                  <a:pt x="11633" y="11509"/>
                </a:cubicBezTo>
                <a:cubicBezTo>
                  <a:pt x="11621" y="11474"/>
                  <a:pt x="11627" y="11439"/>
                  <a:pt x="11658" y="11435"/>
                </a:cubicBezTo>
                <a:cubicBezTo>
                  <a:pt x="11700" y="11430"/>
                  <a:pt x="11683" y="11478"/>
                  <a:pt x="11683" y="11509"/>
                </a:cubicBezTo>
              </a:path>
              <a:path w="7443" h="2382">
                <a:moveTo>
                  <a:pt x="8830" y="12824"/>
                </a:moveTo>
                <a:cubicBezTo>
                  <a:pt x="8766" y="12824"/>
                  <a:pt x="8869" y="12824"/>
                  <a:pt x="8880" y="12824"/>
                </a:cubicBezTo>
                <a:cubicBezTo>
                  <a:pt x="8985" y="12824"/>
                  <a:pt x="9087" y="12822"/>
                  <a:pt x="9178" y="12849"/>
                </a:cubicBezTo>
                <a:cubicBezTo>
                  <a:pt x="9198" y="12855"/>
                  <a:pt x="9231" y="12849"/>
                  <a:pt x="9252" y="12849"/>
                </a:cubicBezTo>
                <a:cubicBezTo>
                  <a:pt x="9252" y="12900"/>
                  <a:pt x="9250" y="12907"/>
                  <a:pt x="9227" y="12948"/>
                </a:cubicBezTo>
                <a:cubicBezTo>
                  <a:pt x="9187" y="13020"/>
                  <a:pt x="9160" y="13096"/>
                  <a:pt x="9128" y="13171"/>
                </a:cubicBezTo>
                <a:cubicBezTo>
                  <a:pt x="9107" y="13219"/>
                  <a:pt x="9084" y="13273"/>
                  <a:pt x="9079" y="13320"/>
                </a:cubicBezTo>
                <a:cubicBezTo>
                  <a:pt x="9079" y="13328"/>
                  <a:pt x="9079" y="13337"/>
                  <a:pt x="9079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687920"/>
            <a:ext cx="1839960" cy="473040"/>
          </a:xfrm>
          <a:custGeom>
            <a:avLst/>
            <a:gdLst/>
            <a:ahLst/>
            <a:rect l="l" t="t" r="r" b="b"/>
            <a:pathLst>
              <a:path w="5111" h="1316">
                <a:moveTo>
                  <a:pt x="6077" y="13047"/>
                </a:moveTo>
                <a:cubicBezTo>
                  <a:pt x="6105" y="13047"/>
                  <a:pt x="6116" y="13045"/>
                  <a:pt x="6127" y="13022"/>
                </a:cubicBezTo>
                <a:cubicBezTo>
                  <a:pt x="6064" y="13022"/>
                  <a:pt x="6030" y="13030"/>
                  <a:pt x="5978" y="13047"/>
                </a:cubicBezTo>
                <a:cubicBezTo>
                  <a:pt x="5953" y="13047"/>
                  <a:pt x="5945" y="13047"/>
                  <a:pt x="5928" y="13047"/>
                </a:cubicBezTo>
              </a:path>
              <a:path w="5111" h="1316">
                <a:moveTo>
                  <a:pt x="6127" y="13271"/>
                </a:moveTo>
                <a:cubicBezTo>
                  <a:pt x="6135" y="13271"/>
                  <a:pt x="6144" y="13271"/>
                  <a:pt x="6152" y="13271"/>
                </a:cubicBezTo>
                <a:cubicBezTo>
                  <a:pt x="6139" y="13231"/>
                  <a:pt x="6103" y="13246"/>
                  <a:pt x="6052" y="13246"/>
                </a:cubicBezTo>
                <a:cubicBezTo>
                  <a:pt x="6024" y="13246"/>
                  <a:pt x="6014" y="13249"/>
                  <a:pt x="6003" y="13271"/>
                </a:cubicBezTo>
              </a:path>
              <a:path w="5111" h="1316">
                <a:moveTo>
                  <a:pt x="8582" y="13097"/>
                </a:moveTo>
                <a:cubicBezTo>
                  <a:pt x="8582" y="13089"/>
                  <a:pt x="8582" y="13080"/>
                  <a:pt x="8582" y="13072"/>
                </a:cubicBezTo>
                <a:cubicBezTo>
                  <a:pt x="8508" y="13072"/>
                  <a:pt x="8446" y="13085"/>
                  <a:pt x="8384" y="13097"/>
                </a:cubicBezTo>
                <a:cubicBezTo>
                  <a:pt x="8343" y="13097"/>
                  <a:pt x="8335" y="13097"/>
                  <a:pt x="8310" y="13097"/>
                </a:cubicBezTo>
              </a:path>
              <a:path w="5111" h="1316">
                <a:moveTo>
                  <a:pt x="11038" y="13618"/>
                </a:moveTo>
                <a:cubicBezTo>
                  <a:pt x="11000" y="13605"/>
                  <a:pt x="11016" y="13600"/>
                  <a:pt x="10964" y="13593"/>
                </a:cubicBezTo>
                <a:cubicBezTo>
                  <a:pt x="10894" y="13583"/>
                  <a:pt x="10798" y="13573"/>
                  <a:pt x="10740" y="13568"/>
                </a:cubicBezTo>
                <a:cubicBezTo>
                  <a:pt x="10674" y="13562"/>
                  <a:pt x="10603" y="13549"/>
                  <a:pt x="10542" y="13543"/>
                </a:cubicBezTo>
                <a:cubicBezTo>
                  <a:pt x="10419" y="13531"/>
                  <a:pt x="10288" y="13530"/>
                  <a:pt x="10170" y="13519"/>
                </a:cubicBezTo>
                <a:cubicBezTo>
                  <a:pt x="10007" y="13504"/>
                  <a:pt x="9824" y="13511"/>
                  <a:pt x="9674" y="13494"/>
                </a:cubicBezTo>
                <a:cubicBezTo>
                  <a:pt x="9568" y="13482"/>
                  <a:pt x="9444" y="13479"/>
                  <a:pt x="9351" y="13469"/>
                </a:cubicBezTo>
                <a:cubicBezTo>
                  <a:pt x="9221" y="13454"/>
                  <a:pt x="9071" y="13458"/>
                  <a:pt x="8954" y="13444"/>
                </a:cubicBezTo>
                <a:cubicBezTo>
                  <a:pt x="8900" y="13437"/>
                  <a:pt x="8823" y="13424"/>
                  <a:pt x="8781" y="13419"/>
                </a:cubicBezTo>
                <a:cubicBezTo>
                  <a:pt x="8699" y="13410"/>
                  <a:pt x="8632" y="13436"/>
                  <a:pt x="8558" y="13444"/>
                </a:cubicBezTo>
                <a:cubicBezTo>
                  <a:pt x="8478" y="13453"/>
                  <a:pt x="8411" y="13451"/>
                  <a:pt x="8334" y="13469"/>
                </a:cubicBezTo>
                <a:cubicBezTo>
                  <a:pt x="8268" y="13484"/>
                  <a:pt x="8204" y="13483"/>
                  <a:pt x="8136" y="13494"/>
                </a:cubicBezTo>
                <a:cubicBezTo>
                  <a:pt x="8054" y="13508"/>
                  <a:pt x="7973" y="13535"/>
                  <a:pt x="7888" y="13543"/>
                </a:cubicBezTo>
                <a:cubicBezTo>
                  <a:pt x="7830" y="13548"/>
                  <a:pt x="7766" y="13563"/>
                  <a:pt x="7714" y="13568"/>
                </a:cubicBezTo>
                <a:cubicBezTo>
                  <a:pt x="7639" y="13574"/>
                  <a:pt x="7561" y="13586"/>
                  <a:pt x="7491" y="13593"/>
                </a:cubicBezTo>
                <a:cubicBezTo>
                  <a:pt x="7418" y="13600"/>
                  <a:pt x="7341" y="13593"/>
                  <a:pt x="7268" y="13593"/>
                </a:cubicBezTo>
              </a:path>
              <a:path w="5111" h="1316">
                <a:moveTo>
                  <a:pt x="7169" y="14163"/>
                </a:moveTo>
                <a:cubicBezTo>
                  <a:pt x="7208" y="14105"/>
                  <a:pt x="7205" y="14096"/>
                  <a:pt x="7218" y="14114"/>
                </a:cubicBezTo>
                <a:cubicBezTo>
                  <a:pt x="7249" y="14158"/>
                  <a:pt x="7267" y="14211"/>
                  <a:pt x="7293" y="14263"/>
                </a:cubicBezTo>
                <a:cubicBezTo>
                  <a:pt x="7313" y="14303"/>
                  <a:pt x="7321" y="14310"/>
                  <a:pt x="7317" y="14337"/>
                </a:cubicBezTo>
                <a:cubicBezTo>
                  <a:pt x="7388" y="14319"/>
                  <a:pt x="7386" y="14280"/>
                  <a:pt x="7417" y="14213"/>
                </a:cubicBezTo>
                <a:cubicBezTo>
                  <a:pt x="7486" y="14064"/>
                  <a:pt x="7560" y="13910"/>
                  <a:pt x="7640" y="13767"/>
                </a:cubicBezTo>
                <a:cubicBezTo>
                  <a:pt x="7666" y="13720"/>
                  <a:pt x="7685" y="13649"/>
                  <a:pt x="7739" y="13643"/>
                </a:cubicBezTo>
                <a:cubicBezTo>
                  <a:pt x="7764" y="13643"/>
                  <a:pt x="7772" y="13643"/>
                  <a:pt x="7789" y="13643"/>
                </a:cubicBezTo>
              </a:path>
              <a:path w="5111" h="1316">
                <a:moveTo>
                  <a:pt x="7987" y="13915"/>
                </a:moveTo>
                <a:cubicBezTo>
                  <a:pt x="8034" y="13846"/>
                  <a:pt x="8014" y="13838"/>
                  <a:pt x="7987" y="13891"/>
                </a:cubicBezTo>
                <a:cubicBezTo>
                  <a:pt x="7965" y="13933"/>
                  <a:pt x="7962" y="13962"/>
                  <a:pt x="7962" y="14015"/>
                </a:cubicBezTo>
                <a:cubicBezTo>
                  <a:pt x="7962" y="14023"/>
                  <a:pt x="7962" y="14031"/>
                  <a:pt x="7962" y="14039"/>
                </a:cubicBezTo>
                <a:cubicBezTo>
                  <a:pt x="8028" y="14039"/>
                  <a:pt x="8073" y="14050"/>
                  <a:pt x="8136" y="14064"/>
                </a:cubicBezTo>
                <a:cubicBezTo>
                  <a:pt x="8187" y="14076"/>
                  <a:pt x="8245" y="14106"/>
                  <a:pt x="8260" y="14163"/>
                </a:cubicBezTo>
                <a:cubicBezTo>
                  <a:pt x="8280" y="14238"/>
                  <a:pt x="8256" y="14250"/>
                  <a:pt x="8210" y="14288"/>
                </a:cubicBezTo>
                <a:cubicBezTo>
                  <a:pt x="8162" y="14327"/>
                  <a:pt x="8099" y="14312"/>
                  <a:pt x="8037" y="14312"/>
                </a:cubicBezTo>
                <a:cubicBezTo>
                  <a:pt x="7995" y="14312"/>
                  <a:pt x="7987" y="14312"/>
                  <a:pt x="7962" y="14312"/>
                </a:cubicBezTo>
              </a:path>
              <a:path w="5111" h="1316">
                <a:moveTo>
                  <a:pt x="8285" y="13866"/>
                </a:moveTo>
                <a:cubicBezTo>
                  <a:pt x="8285" y="13858"/>
                  <a:pt x="8285" y="13849"/>
                  <a:pt x="8285" y="13841"/>
                </a:cubicBezTo>
                <a:cubicBezTo>
                  <a:pt x="8242" y="13852"/>
                  <a:pt x="8204" y="13876"/>
                  <a:pt x="8161" y="13891"/>
                </a:cubicBezTo>
                <a:cubicBezTo>
                  <a:pt x="8113" y="13914"/>
                  <a:pt x="8098" y="13922"/>
                  <a:pt x="8062" y="13915"/>
                </a:cubicBezTo>
              </a:path>
              <a:path w="5111" h="1316">
                <a:moveTo>
                  <a:pt x="8384" y="13643"/>
                </a:moveTo>
                <a:cubicBezTo>
                  <a:pt x="8319" y="13643"/>
                  <a:pt x="8265" y="13656"/>
                  <a:pt x="8210" y="13667"/>
                </a:cubicBezTo>
                <a:cubicBezTo>
                  <a:pt x="8142" y="13680"/>
                  <a:pt x="8079" y="13701"/>
                  <a:pt x="8012" y="13717"/>
                </a:cubicBezTo>
                <a:cubicBezTo>
                  <a:pt x="7938" y="13734"/>
                  <a:pt x="7875" y="13696"/>
                  <a:pt x="7813" y="13742"/>
                </a:cubicBezTo>
              </a:path>
              <a:path w="5111" h="1316">
                <a:moveTo>
                  <a:pt x="8954" y="14213"/>
                </a:moveTo>
                <a:cubicBezTo>
                  <a:pt x="8954" y="14188"/>
                  <a:pt x="8954" y="14180"/>
                  <a:pt x="8979" y="14188"/>
                </a:cubicBezTo>
                <a:cubicBezTo>
                  <a:pt x="8941" y="14197"/>
                  <a:pt x="8910" y="14211"/>
                  <a:pt x="8880" y="14238"/>
                </a:cubicBezTo>
                <a:cubicBezTo>
                  <a:pt x="8857" y="14258"/>
                  <a:pt x="8810" y="14300"/>
                  <a:pt x="8781" y="14312"/>
                </a:cubicBezTo>
                <a:cubicBezTo>
                  <a:pt x="8773" y="14312"/>
                  <a:pt x="8764" y="14312"/>
                  <a:pt x="8756" y="14312"/>
                </a:cubicBezTo>
              </a:path>
              <a:path w="5111" h="1316">
                <a:moveTo>
                  <a:pt x="8880" y="14263"/>
                </a:moveTo>
                <a:cubicBezTo>
                  <a:pt x="8901" y="14235"/>
                  <a:pt x="8931" y="14188"/>
                  <a:pt x="8880" y="14163"/>
                </a:cubicBezTo>
                <a:cubicBezTo>
                  <a:pt x="8860" y="14153"/>
                  <a:pt x="8804" y="14163"/>
                  <a:pt x="8781" y="14163"/>
                </a:cubicBezTo>
              </a:path>
              <a:path w="5111" h="1316">
                <a:moveTo>
                  <a:pt x="9277" y="14213"/>
                </a:moveTo>
                <a:cubicBezTo>
                  <a:pt x="9252" y="14172"/>
                  <a:pt x="9259" y="14184"/>
                  <a:pt x="9252" y="14139"/>
                </a:cubicBezTo>
                <a:cubicBezTo>
                  <a:pt x="9289" y="14174"/>
                  <a:pt x="9296" y="14204"/>
                  <a:pt x="9327" y="14238"/>
                </a:cubicBezTo>
                <a:cubicBezTo>
                  <a:pt x="9371" y="14286"/>
                  <a:pt x="9385" y="14287"/>
                  <a:pt x="9426" y="14312"/>
                </a:cubicBezTo>
                <a:cubicBezTo>
                  <a:pt x="9445" y="14236"/>
                  <a:pt x="9451" y="14172"/>
                  <a:pt x="9451" y="14089"/>
                </a:cubicBezTo>
                <a:cubicBezTo>
                  <a:pt x="9451" y="13957"/>
                  <a:pt x="9451" y="13824"/>
                  <a:pt x="9451" y="13692"/>
                </a:cubicBezTo>
                <a:cubicBezTo>
                  <a:pt x="9481" y="13710"/>
                  <a:pt x="9499" y="13736"/>
                  <a:pt x="9525" y="13742"/>
                </a:cubicBezTo>
                <a:cubicBezTo>
                  <a:pt x="9574" y="13752"/>
                  <a:pt x="9630" y="13729"/>
                  <a:pt x="9674" y="13717"/>
                </a:cubicBezTo>
                <a:cubicBezTo>
                  <a:pt x="9784" y="13687"/>
                  <a:pt x="9852" y="13667"/>
                  <a:pt x="9971" y="13667"/>
                </a:cubicBezTo>
                <a:cubicBezTo>
                  <a:pt x="10066" y="13667"/>
                  <a:pt x="10157" y="13655"/>
                  <a:pt x="10244" y="13692"/>
                </a:cubicBezTo>
                <a:cubicBezTo>
                  <a:pt x="10299" y="13715"/>
                  <a:pt x="10360" y="13734"/>
                  <a:pt x="10418" y="13742"/>
                </a:cubicBezTo>
                <a:cubicBezTo>
                  <a:pt x="10465" y="13749"/>
                  <a:pt x="10519" y="13742"/>
                  <a:pt x="10567" y="13742"/>
                </a:cubicBezTo>
              </a:path>
              <a:path w="5111" h="1316">
                <a:moveTo>
                  <a:pt x="9947" y="13940"/>
                </a:moveTo>
                <a:cubicBezTo>
                  <a:pt x="9947" y="13886"/>
                  <a:pt x="9947" y="13839"/>
                  <a:pt x="9947" y="13915"/>
                </a:cubicBezTo>
                <a:cubicBezTo>
                  <a:pt x="9947" y="14018"/>
                  <a:pt x="9936" y="14118"/>
                  <a:pt x="9971" y="14213"/>
                </a:cubicBezTo>
              </a:path>
              <a:path w="5111" h="1316">
                <a:moveTo>
                  <a:pt x="10071" y="13891"/>
                </a:moveTo>
                <a:cubicBezTo>
                  <a:pt x="10091" y="13851"/>
                  <a:pt x="10089" y="13834"/>
                  <a:pt x="10120" y="13841"/>
                </a:cubicBezTo>
                <a:cubicBezTo>
                  <a:pt x="10130" y="13888"/>
                  <a:pt x="10161" y="13937"/>
                  <a:pt x="10145" y="13990"/>
                </a:cubicBezTo>
                <a:cubicBezTo>
                  <a:pt x="10120" y="14075"/>
                  <a:pt x="10121" y="14043"/>
                  <a:pt x="10145" y="14114"/>
                </a:cubicBezTo>
                <a:cubicBezTo>
                  <a:pt x="10154" y="14142"/>
                  <a:pt x="10201" y="14157"/>
                  <a:pt x="10244" y="14139"/>
                </a:cubicBezTo>
                <a:cubicBezTo>
                  <a:pt x="10281" y="14123"/>
                  <a:pt x="10331" y="14096"/>
                  <a:pt x="10368" y="14089"/>
                </a:cubicBezTo>
                <a:cubicBezTo>
                  <a:pt x="10416" y="14079"/>
                  <a:pt x="10443" y="14064"/>
                  <a:pt x="10492" y="14064"/>
                </a:cubicBezTo>
                <a:cubicBezTo>
                  <a:pt x="10535" y="14064"/>
                  <a:pt x="10530" y="14054"/>
                  <a:pt x="10542" y="14089"/>
                </a:cubicBezTo>
              </a:path>
              <a:path w="5111" h="1316">
                <a:moveTo>
                  <a:pt x="10393" y="14039"/>
                </a:moveTo>
                <a:cubicBezTo>
                  <a:pt x="10385" y="14031"/>
                  <a:pt x="10376" y="14023"/>
                  <a:pt x="10368" y="14015"/>
                </a:cubicBezTo>
                <a:cubicBezTo>
                  <a:pt x="10368" y="14104"/>
                  <a:pt x="10362" y="14180"/>
                  <a:pt x="10393" y="14263"/>
                </a:cubicBezTo>
              </a:path>
              <a:path w="5111" h="1316">
                <a:moveTo>
                  <a:pt x="8756" y="14337"/>
                </a:moveTo>
                <a:cubicBezTo>
                  <a:pt x="8764" y="14337"/>
                  <a:pt x="8773" y="14337"/>
                  <a:pt x="8781" y="14337"/>
                </a:cubicBezTo>
                <a:cubicBezTo>
                  <a:pt x="8789" y="14307"/>
                  <a:pt x="8798" y="14293"/>
                  <a:pt x="8806" y="14263"/>
                </a:cubicBezTo>
                <a:cubicBezTo>
                  <a:pt x="8845" y="14250"/>
                  <a:pt x="8816" y="14251"/>
                  <a:pt x="8855" y="14238"/>
                </a:cubicBezTo>
                <a:cubicBezTo>
                  <a:pt x="8865" y="14209"/>
                  <a:pt x="8876" y="14195"/>
                  <a:pt x="8905" y="14163"/>
                </a:cubicBezTo>
                <a:cubicBezTo>
                  <a:pt x="8932" y="14134"/>
                  <a:pt x="8989" y="14119"/>
                  <a:pt x="9004" y="14089"/>
                </a:cubicBezTo>
                <a:cubicBezTo>
                  <a:pt x="9004" y="14081"/>
                  <a:pt x="9004" y="14072"/>
                  <a:pt x="9004" y="14064"/>
                </a:cubicBezTo>
                <a:cubicBezTo>
                  <a:pt x="9044" y="14054"/>
                  <a:pt x="9063" y="14025"/>
                  <a:pt x="9103" y="14015"/>
                </a:cubicBezTo>
                <a:cubicBezTo>
                  <a:pt x="9116" y="13975"/>
                  <a:pt x="9115" y="14005"/>
                  <a:pt x="9128" y="13965"/>
                </a:cubicBezTo>
              </a:path>
              <a:path w="5111" h="1316">
                <a:moveTo>
                  <a:pt x="9103" y="14263"/>
                </a:moveTo>
                <a:cubicBezTo>
                  <a:pt x="9103" y="14255"/>
                  <a:pt x="9103" y="14246"/>
                  <a:pt x="9103" y="14238"/>
                </a:cubicBezTo>
                <a:cubicBezTo>
                  <a:pt x="9062" y="14227"/>
                  <a:pt x="9012" y="14191"/>
                  <a:pt x="8979" y="14163"/>
                </a:cubicBezTo>
                <a:cubicBezTo>
                  <a:pt x="8940" y="14129"/>
                  <a:pt x="8897" y="14107"/>
                  <a:pt x="8855" y="14089"/>
                </a:cubicBezTo>
                <a:cubicBezTo>
                  <a:pt x="8808" y="14069"/>
                  <a:pt x="8769" y="14042"/>
                  <a:pt x="8731" y="14015"/>
                </a:cubicBezTo>
              </a:path>
              <a:path w="5111" h="1316">
                <a:moveTo>
                  <a:pt x="8260" y="13866"/>
                </a:moveTo>
                <a:cubicBezTo>
                  <a:pt x="8186" y="13866"/>
                  <a:pt x="8111" y="13866"/>
                  <a:pt x="8037" y="13866"/>
                </a:cubicBezTo>
                <a:cubicBezTo>
                  <a:pt x="8029" y="13889"/>
                  <a:pt x="7995" y="13904"/>
                  <a:pt x="7962" y="13915"/>
                </a:cubicBezTo>
                <a:cubicBezTo>
                  <a:pt x="7954" y="13915"/>
                  <a:pt x="7946" y="13915"/>
                  <a:pt x="7938" y="13915"/>
                </a:cubicBezTo>
                <a:cubicBezTo>
                  <a:pt x="7925" y="13953"/>
                  <a:pt x="7913" y="13936"/>
                  <a:pt x="7913" y="13990"/>
                </a:cubicBezTo>
                <a:cubicBezTo>
                  <a:pt x="7913" y="14015"/>
                  <a:pt x="7913" y="14039"/>
                  <a:pt x="7913" y="14064"/>
                </a:cubicBezTo>
                <a:cubicBezTo>
                  <a:pt x="7875" y="14077"/>
                  <a:pt x="7888" y="14094"/>
                  <a:pt x="7888" y="14139"/>
                </a:cubicBezTo>
                <a:cubicBezTo>
                  <a:pt x="7888" y="14197"/>
                  <a:pt x="7888" y="14254"/>
                  <a:pt x="7888" y="14312"/>
                </a:cubicBezTo>
                <a:cubicBezTo>
                  <a:pt x="7913" y="14312"/>
                  <a:pt x="7921" y="14312"/>
                  <a:pt x="7938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47880" y="5367240"/>
            <a:ext cx="144360" cy="258840"/>
          </a:xfrm>
          <a:custGeom>
            <a:avLst/>
            <a:gdLst/>
            <a:ahLst/>
            <a:rect l="l" t="t" r="r" b="b"/>
            <a:pathLst>
              <a:path w="397" h="720">
                <a:moveTo>
                  <a:pt x="5407" y="15081"/>
                </a:moveTo>
                <a:cubicBezTo>
                  <a:pt x="5361" y="15065"/>
                  <a:pt x="5380" y="15041"/>
                  <a:pt x="5383" y="15032"/>
                </a:cubicBezTo>
                <a:cubicBezTo>
                  <a:pt x="5383" y="15024"/>
                  <a:pt x="5383" y="15015"/>
                  <a:pt x="5383" y="15007"/>
                </a:cubicBezTo>
                <a:cubicBezTo>
                  <a:pt x="5442" y="15007"/>
                  <a:pt x="5430" y="15017"/>
                  <a:pt x="5457" y="15056"/>
                </a:cubicBezTo>
                <a:cubicBezTo>
                  <a:pt x="5488" y="15102"/>
                  <a:pt x="5482" y="15120"/>
                  <a:pt x="5482" y="15180"/>
                </a:cubicBezTo>
                <a:cubicBezTo>
                  <a:pt x="5482" y="15221"/>
                  <a:pt x="5476" y="15260"/>
                  <a:pt x="5432" y="15280"/>
                </a:cubicBezTo>
                <a:cubicBezTo>
                  <a:pt x="5382" y="15302"/>
                  <a:pt x="5320" y="15268"/>
                  <a:pt x="5283" y="15255"/>
                </a:cubicBezTo>
                <a:cubicBezTo>
                  <a:pt x="5248" y="15243"/>
                  <a:pt x="5251" y="15218"/>
                  <a:pt x="5234" y="15180"/>
                </a:cubicBezTo>
                <a:cubicBezTo>
                  <a:pt x="5211" y="15128"/>
                  <a:pt x="5209" y="15110"/>
                  <a:pt x="5209" y="15056"/>
                </a:cubicBezTo>
                <a:cubicBezTo>
                  <a:pt x="5209" y="15020"/>
                  <a:pt x="5216" y="14983"/>
                  <a:pt x="5234" y="14957"/>
                </a:cubicBezTo>
                <a:cubicBezTo>
                  <a:pt x="5242" y="14944"/>
                  <a:pt x="5319" y="14895"/>
                  <a:pt x="5333" y="14908"/>
                </a:cubicBezTo>
                <a:cubicBezTo>
                  <a:pt x="5351" y="14926"/>
                  <a:pt x="5381" y="14980"/>
                  <a:pt x="5407" y="15007"/>
                </a:cubicBezTo>
                <a:cubicBezTo>
                  <a:pt x="5459" y="15060"/>
                  <a:pt x="5453" y="15116"/>
                  <a:pt x="5482" y="15180"/>
                </a:cubicBezTo>
                <a:cubicBezTo>
                  <a:pt x="5510" y="15242"/>
                  <a:pt x="5527" y="15311"/>
                  <a:pt x="5531" y="15379"/>
                </a:cubicBezTo>
                <a:cubicBezTo>
                  <a:pt x="5535" y="15461"/>
                  <a:pt x="5500" y="15487"/>
                  <a:pt x="5482" y="15553"/>
                </a:cubicBezTo>
                <a:cubicBezTo>
                  <a:pt x="5462" y="15629"/>
                  <a:pt x="5472" y="15627"/>
                  <a:pt x="5383" y="15627"/>
                </a:cubicBezTo>
                <a:cubicBezTo>
                  <a:pt x="5318" y="15627"/>
                  <a:pt x="5234" y="15630"/>
                  <a:pt x="5184" y="15577"/>
                </a:cubicBezTo>
                <a:cubicBezTo>
                  <a:pt x="5133" y="15522"/>
                  <a:pt x="5135" y="15447"/>
                  <a:pt x="5135" y="15379"/>
                </a:cubicBezTo>
                <a:cubicBezTo>
                  <a:pt x="5135" y="15329"/>
                  <a:pt x="5135" y="15313"/>
                  <a:pt x="5135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626080"/>
            <a:ext cx="81000" cy="61920"/>
          </a:xfrm>
          <a:custGeom>
            <a:avLst/>
            <a:gdLst/>
            <a:ahLst/>
            <a:rect l="l" t="t" r="r" b="b"/>
            <a:pathLst>
              <a:path w="225" h="175">
                <a:moveTo>
                  <a:pt x="6102" y="15652"/>
                </a:moveTo>
                <a:cubicBezTo>
                  <a:pt x="6102" y="15644"/>
                  <a:pt x="6102" y="15635"/>
                  <a:pt x="6102" y="15627"/>
                </a:cubicBezTo>
                <a:cubicBezTo>
                  <a:pt x="6044" y="15627"/>
                  <a:pt x="5986" y="15627"/>
                  <a:pt x="5928" y="15627"/>
                </a:cubicBezTo>
              </a:path>
              <a:path w="225" h="175">
                <a:moveTo>
                  <a:pt x="6152" y="15801"/>
                </a:moveTo>
                <a:cubicBezTo>
                  <a:pt x="6094" y="15801"/>
                  <a:pt x="6036" y="15801"/>
                  <a:pt x="5978" y="158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94000" y="5473800"/>
            <a:ext cx="500040" cy="233280"/>
          </a:xfrm>
          <a:custGeom>
            <a:avLst/>
            <a:gdLst/>
            <a:ahLst/>
            <a:rect l="l" t="t" r="r" b="b"/>
            <a:pathLst>
              <a:path w="1390" h="646">
                <a:moveTo>
                  <a:pt x="6648" y="15429"/>
                </a:moveTo>
                <a:cubicBezTo>
                  <a:pt x="6648" y="15387"/>
                  <a:pt x="6638" y="15391"/>
                  <a:pt x="6672" y="15379"/>
                </a:cubicBezTo>
                <a:cubicBezTo>
                  <a:pt x="6659" y="15419"/>
                  <a:pt x="6648" y="15435"/>
                  <a:pt x="6648" y="15503"/>
                </a:cubicBezTo>
                <a:cubicBezTo>
                  <a:pt x="6648" y="15586"/>
                  <a:pt x="6648" y="15668"/>
                  <a:pt x="6648" y="15751"/>
                </a:cubicBezTo>
              </a:path>
              <a:path w="1390" h="646">
                <a:moveTo>
                  <a:pt x="6896" y="15404"/>
                </a:moveTo>
                <a:cubicBezTo>
                  <a:pt x="6919" y="15381"/>
                  <a:pt x="6927" y="15377"/>
                  <a:pt x="6921" y="15354"/>
                </a:cubicBezTo>
                <a:cubicBezTo>
                  <a:pt x="6912" y="15415"/>
                  <a:pt x="6896" y="15437"/>
                  <a:pt x="6896" y="15503"/>
                </a:cubicBezTo>
                <a:cubicBezTo>
                  <a:pt x="6896" y="15565"/>
                  <a:pt x="6880" y="15631"/>
                  <a:pt x="6921" y="15677"/>
                </a:cubicBezTo>
                <a:cubicBezTo>
                  <a:pt x="6957" y="15718"/>
                  <a:pt x="7017" y="15701"/>
                  <a:pt x="7069" y="15701"/>
                </a:cubicBezTo>
                <a:cubicBezTo>
                  <a:pt x="7167" y="15701"/>
                  <a:pt x="7257" y="15704"/>
                  <a:pt x="7342" y="15677"/>
                </a:cubicBezTo>
                <a:cubicBezTo>
                  <a:pt x="7350" y="15677"/>
                  <a:pt x="7359" y="15677"/>
                  <a:pt x="7367" y="15677"/>
                </a:cubicBezTo>
              </a:path>
              <a:path w="1390" h="646">
                <a:moveTo>
                  <a:pt x="7243" y="15577"/>
                </a:moveTo>
                <a:cubicBezTo>
                  <a:pt x="7218" y="15577"/>
                  <a:pt x="7210" y="15577"/>
                  <a:pt x="7193" y="15577"/>
                </a:cubicBezTo>
                <a:cubicBezTo>
                  <a:pt x="7193" y="15668"/>
                  <a:pt x="7193" y="15759"/>
                  <a:pt x="7193" y="15850"/>
                </a:cubicBezTo>
              </a:path>
              <a:path w="1390" h="646">
                <a:moveTo>
                  <a:pt x="7541" y="15677"/>
                </a:moveTo>
                <a:cubicBezTo>
                  <a:pt x="7511" y="15669"/>
                  <a:pt x="7466" y="15646"/>
                  <a:pt x="7491" y="15602"/>
                </a:cubicBezTo>
                <a:cubicBezTo>
                  <a:pt x="7514" y="15560"/>
                  <a:pt x="7524" y="15546"/>
                  <a:pt x="7565" y="15528"/>
                </a:cubicBezTo>
                <a:cubicBezTo>
                  <a:pt x="7611" y="15508"/>
                  <a:pt x="7677" y="15475"/>
                  <a:pt x="7714" y="15528"/>
                </a:cubicBezTo>
                <a:cubicBezTo>
                  <a:pt x="7750" y="15579"/>
                  <a:pt x="7789" y="15687"/>
                  <a:pt x="7764" y="15751"/>
                </a:cubicBezTo>
                <a:cubicBezTo>
                  <a:pt x="7740" y="15814"/>
                  <a:pt x="7677" y="15792"/>
                  <a:pt x="7640" y="15776"/>
                </a:cubicBezTo>
                <a:cubicBezTo>
                  <a:pt x="7585" y="15752"/>
                  <a:pt x="7576" y="15721"/>
                  <a:pt x="7541" y="15677"/>
                </a:cubicBezTo>
              </a:path>
              <a:path w="1390" h="646">
                <a:moveTo>
                  <a:pt x="7913" y="15255"/>
                </a:moveTo>
                <a:cubicBezTo>
                  <a:pt x="7925" y="15206"/>
                  <a:pt x="7937" y="15205"/>
                  <a:pt x="7987" y="15205"/>
                </a:cubicBezTo>
                <a:cubicBezTo>
                  <a:pt x="8058" y="15205"/>
                  <a:pt x="8037" y="15278"/>
                  <a:pt x="8037" y="15329"/>
                </a:cubicBezTo>
                <a:cubicBezTo>
                  <a:pt x="8037" y="15365"/>
                  <a:pt x="8001" y="15401"/>
                  <a:pt x="7962" y="15379"/>
                </a:cubicBezTo>
                <a:cubicBezTo>
                  <a:pt x="7940" y="15356"/>
                  <a:pt x="7932" y="15351"/>
                  <a:pt x="7938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21000" y="5626080"/>
            <a:ext cx="268200" cy="142920"/>
          </a:xfrm>
          <a:custGeom>
            <a:avLst/>
            <a:gdLst/>
            <a:ahLst/>
            <a:rect l="l" t="t" r="r" b="b"/>
            <a:pathLst>
              <a:path w="745" h="398">
                <a:moveTo>
                  <a:pt x="9277" y="15677"/>
                </a:moveTo>
                <a:cubicBezTo>
                  <a:pt x="9289" y="15606"/>
                  <a:pt x="9303" y="15618"/>
                  <a:pt x="9277" y="15652"/>
                </a:cubicBezTo>
                <a:cubicBezTo>
                  <a:pt x="9225" y="15721"/>
                  <a:pt x="9227" y="15763"/>
                  <a:pt x="9227" y="15850"/>
                </a:cubicBezTo>
                <a:cubicBezTo>
                  <a:pt x="9227" y="15918"/>
                  <a:pt x="9254" y="16002"/>
                  <a:pt x="9327" y="16024"/>
                </a:cubicBezTo>
                <a:cubicBezTo>
                  <a:pt x="9376" y="16024"/>
                  <a:pt x="9393" y="16024"/>
                  <a:pt x="9426" y="16024"/>
                </a:cubicBezTo>
              </a:path>
              <a:path w="745" h="398">
                <a:moveTo>
                  <a:pt x="9575" y="15875"/>
                </a:moveTo>
                <a:cubicBezTo>
                  <a:pt x="9507" y="15816"/>
                  <a:pt x="9488" y="15801"/>
                  <a:pt x="9401" y="15801"/>
                </a:cubicBezTo>
                <a:cubicBezTo>
                  <a:pt x="9360" y="15801"/>
                  <a:pt x="9352" y="15801"/>
                  <a:pt x="9327" y="15801"/>
                </a:cubicBezTo>
              </a:path>
              <a:path w="745" h="398">
                <a:moveTo>
                  <a:pt x="9723" y="15850"/>
                </a:moveTo>
                <a:cubicBezTo>
                  <a:pt x="9701" y="15828"/>
                  <a:pt x="9693" y="15823"/>
                  <a:pt x="9699" y="15801"/>
                </a:cubicBezTo>
                <a:cubicBezTo>
                  <a:pt x="9742" y="15768"/>
                  <a:pt x="9812" y="15738"/>
                  <a:pt x="9872" y="15751"/>
                </a:cubicBezTo>
                <a:cubicBezTo>
                  <a:pt x="9949" y="15767"/>
                  <a:pt x="9968" y="15861"/>
                  <a:pt x="9971" y="15925"/>
                </a:cubicBezTo>
                <a:cubicBezTo>
                  <a:pt x="9975" y="16007"/>
                  <a:pt x="9941" y="15999"/>
                  <a:pt x="9872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76760" y="5537160"/>
            <a:ext cx="117360" cy="214200"/>
          </a:xfrm>
          <a:custGeom>
            <a:avLst/>
            <a:gdLst/>
            <a:ahLst/>
            <a:rect l="l" t="t" r="r" b="b"/>
            <a:pathLst>
              <a:path w="324" h="596">
                <a:moveTo>
                  <a:pt x="10542" y="15553"/>
                </a:moveTo>
                <a:cubicBezTo>
                  <a:pt x="10504" y="15515"/>
                  <a:pt x="10492" y="15506"/>
                  <a:pt x="10492" y="15453"/>
                </a:cubicBezTo>
                <a:cubicBezTo>
                  <a:pt x="10492" y="15387"/>
                  <a:pt x="10565" y="15382"/>
                  <a:pt x="10616" y="15379"/>
                </a:cubicBezTo>
                <a:cubicBezTo>
                  <a:pt x="10698" y="15374"/>
                  <a:pt x="10736" y="15432"/>
                  <a:pt x="10740" y="15503"/>
                </a:cubicBezTo>
                <a:cubicBezTo>
                  <a:pt x="10744" y="15567"/>
                  <a:pt x="10694" y="15616"/>
                  <a:pt x="10641" y="15652"/>
                </a:cubicBezTo>
                <a:cubicBezTo>
                  <a:pt x="10598" y="15674"/>
                  <a:pt x="10587" y="15678"/>
                  <a:pt x="10567" y="15701"/>
                </a:cubicBezTo>
                <a:cubicBezTo>
                  <a:pt x="10581" y="15756"/>
                  <a:pt x="10614" y="15774"/>
                  <a:pt x="10666" y="15801"/>
                </a:cubicBezTo>
                <a:cubicBezTo>
                  <a:pt x="10722" y="15830"/>
                  <a:pt x="10797" y="15858"/>
                  <a:pt x="10815" y="15925"/>
                </a:cubicBezTo>
                <a:cubicBezTo>
                  <a:pt x="10815" y="15941"/>
                  <a:pt x="10815" y="15958"/>
                  <a:pt x="10815" y="15974"/>
                </a:cubicBezTo>
                <a:cubicBezTo>
                  <a:pt x="10734" y="15974"/>
                  <a:pt x="10667" y="15978"/>
                  <a:pt x="10592" y="15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0680" y="5527800"/>
            <a:ext cx="339480" cy="250560"/>
          </a:xfrm>
          <a:custGeom>
            <a:avLst/>
            <a:gdLst/>
            <a:ahLst/>
            <a:rect l="l" t="t" r="r" b="b"/>
            <a:pathLst>
              <a:path w="944" h="696">
                <a:moveTo>
                  <a:pt x="11187" y="15677"/>
                </a:moveTo>
                <a:cubicBezTo>
                  <a:pt x="11254" y="15677"/>
                  <a:pt x="11148" y="15677"/>
                  <a:pt x="11137" y="15677"/>
                </a:cubicBezTo>
                <a:cubicBezTo>
                  <a:pt x="11129" y="15677"/>
                  <a:pt x="11120" y="15677"/>
                  <a:pt x="11112" y="15677"/>
                </a:cubicBezTo>
                <a:cubicBezTo>
                  <a:pt x="11112" y="15749"/>
                  <a:pt x="11133" y="15732"/>
                  <a:pt x="11187" y="15776"/>
                </a:cubicBezTo>
                <a:cubicBezTo>
                  <a:pt x="11220" y="15802"/>
                  <a:pt x="11304" y="15869"/>
                  <a:pt x="11311" y="15900"/>
                </a:cubicBezTo>
                <a:cubicBezTo>
                  <a:pt x="11311" y="15925"/>
                  <a:pt x="11311" y="15933"/>
                  <a:pt x="11311" y="15949"/>
                </a:cubicBezTo>
                <a:cubicBezTo>
                  <a:pt x="11250" y="15949"/>
                  <a:pt x="11212" y="15954"/>
                  <a:pt x="11162" y="15925"/>
                </a:cubicBezTo>
              </a:path>
              <a:path w="944" h="696">
                <a:moveTo>
                  <a:pt x="11609" y="15627"/>
                </a:moveTo>
                <a:cubicBezTo>
                  <a:pt x="11646" y="15627"/>
                  <a:pt x="11737" y="15634"/>
                  <a:pt x="11757" y="15602"/>
                </a:cubicBezTo>
                <a:cubicBezTo>
                  <a:pt x="11782" y="15564"/>
                  <a:pt x="11782" y="15500"/>
                  <a:pt x="11782" y="15453"/>
                </a:cubicBezTo>
                <a:cubicBezTo>
                  <a:pt x="11782" y="15399"/>
                  <a:pt x="11764" y="15360"/>
                  <a:pt x="11708" y="15354"/>
                </a:cubicBezTo>
                <a:cubicBezTo>
                  <a:pt x="11619" y="15344"/>
                  <a:pt x="11606" y="15441"/>
                  <a:pt x="11584" y="15503"/>
                </a:cubicBezTo>
                <a:cubicBezTo>
                  <a:pt x="11545" y="15615"/>
                  <a:pt x="11559" y="15733"/>
                  <a:pt x="11559" y="15850"/>
                </a:cubicBezTo>
                <a:cubicBezTo>
                  <a:pt x="11559" y="15916"/>
                  <a:pt x="11559" y="15983"/>
                  <a:pt x="11559" y="16049"/>
                </a:cubicBezTo>
              </a:path>
              <a:path w="944" h="696">
                <a:moveTo>
                  <a:pt x="11733" y="15974"/>
                </a:moveTo>
                <a:cubicBezTo>
                  <a:pt x="11727" y="15914"/>
                  <a:pt x="11733" y="15855"/>
                  <a:pt x="11658" y="15850"/>
                </a:cubicBezTo>
                <a:cubicBezTo>
                  <a:pt x="11617" y="15847"/>
                  <a:pt x="11575" y="15850"/>
                  <a:pt x="11534" y="15850"/>
                </a:cubicBezTo>
              </a:path>
              <a:path w="944" h="696">
                <a:moveTo>
                  <a:pt x="11931" y="16024"/>
                </a:moveTo>
                <a:cubicBezTo>
                  <a:pt x="11972" y="16024"/>
                  <a:pt x="12014" y="16024"/>
                  <a:pt x="12055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01960" y="3867120"/>
            <a:ext cx="2492280" cy="71640"/>
          </a:xfrm>
          <a:custGeom>
            <a:avLst/>
            <a:gdLst/>
            <a:ahLst/>
            <a:rect l="l" t="t" r="r" b="b"/>
            <a:pathLst>
              <a:path w="6921" h="200">
                <a:moveTo>
                  <a:pt x="14982" y="10740"/>
                </a:moveTo>
                <a:cubicBezTo>
                  <a:pt x="14758" y="10740"/>
                  <a:pt x="14520" y="10752"/>
                  <a:pt x="14312" y="10765"/>
                </a:cubicBezTo>
                <a:cubicBezTo>
                  <a:pt x="13967" y="10787"/>
                  <a:pt x="13614" y="10785"/>
                  <a:pt x="13271" y="10790"/>
                </a:cubicBezTo>
                <a:cubicBezTo>
                  <a:pt x="13038" y="10794"/>
                  <a:pt x="12805" y="10804"/>
                  <a:pt x="12576" y="10815"/>
                </a:cubicBezTo>
                <a:cubicBezTo>
                  <a:pt x="12295" y="10828"/>
                  <a:pt x="12009" y="10823"/>
                  <a:pt x="11733" y="10840"/>
                </a:cubicBezTo>
                <a:cubicBezTo>
                  <a:pt x="11502" y="10855"/>
                  <a:pt x="11266" y="10852"/>
                  <a:pt x="11038" y="10864"/>
                </a:cubicBezTo>
                <a:cubicBezTo>
                  <a:pt x="10759" y="10879"/>
                  <a:pt x="10467" y="10873"/>
                  <a:pt x="10195" y="10889"/>
                </a:cubicBezTo>
                <a:cubicBezTo>
                  <a:pt x="9940" y="10904"/>
                  <a:pt x="9674" y="10897"/>
                  <a:pt x="9426" y="10914"/>
                </a:cubicBezTo>
                <a:cubicBezTo>
                  <a:pt x="9106" y="10935"/>
                  <a:pt x="8771" y="10919"/>
                  <a:pt x="8458" y="10939"/>
                </a:cubicBezTo>
                <a:cubicBezTo>
                  <a:pt x="8355" y="10945"/>
                  <a:pt x="8111" y="10939"/>
                  <a:pt x="8086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6360" y="189000"/>
            <a:ext cx="7905600" cy="4172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12880" y="1544760"/>
            <a:ext cx="152280" cy="108000"/>
          </a:xfrm>
          <a:custGeom>
            <a:avLst/>
            <a:gdLst/>
            <a:ahLst/>
            <a:rect l="l" t="t" r="r" b="b"/>
            <a:pathLst>
              <a:path w="423" h="299">
                <a:moveTo>
                  <a:pt x="2456" y="4390"/>
                </a:moveTo>
                <a:cubicBezTo>
                  <a:pt x="2492" y="4378"/>
                  <a:pt x="2480" y="4360"/>
                  <a:pt x="2480" y="4316"/>
                </a:cubicBezTo>
                <a:cubicBezTo>
                  <a:pt x="2480" y="4308"/>
                  <a:pt x="2480" y="4299"/>
                  <a:pt x="2480" y="4291"/>
                </a:cubicBezTo>
                <a:cubicBezTo>
                  <a:pt x="2429" y="4291"/>
                  <a:pt x="2396" y="4283"/>
                  <a:pt x="2356" y="4316"/>
                </a:cubicBezTo>
                <a:cubicBezTo>
                  <a:pt x="2301" y="4361"/>
                  <a:pt x="2308" y="4388"/>
                  <a:pt x="2282" y="4440"/>
                </a:cubicBezTo>
                <a:cubicBezTo>
                  <a:pt x="2270" y="4463"/>
                  <a:pt x="2226" y="4533"/>
                  <a:pt x="2257" y="4564"/>
                </a:cubicBezTo>
                <a:cubicBezTo>
                  <a:pt x="2295" y="4602"/>
                  <a:pt x="2320" y="4576"/>
                  <a:pt x="2356" y="4564"/>
                </a:cubicBezTo>
                <a:cubicBezTo>
                  <a:pt x="2407" y="4547"/>
                  <a:pt x="2422" y="4486"/>
                  <a:pt x="2456" y="4440"/>
                </a:cubicBezTo>
                <a:cubicBezTo>
                  <a:pt x="2475" y="4414"/>
                  <a:pt x="2480" y="4346"/>
                  <a:pt x="2480" y="4390"/>
                </a:cubicBezTo>
                <a:cubicBezTo>
                  <a:pt x="2480" y="4419"/>
                  <a:pt x="2506" y="4517"/>
                  <a:pt x="2530" y="4539"/>
                </a:cubicBezTo>
                <a:cubicBezTo>
                  <a:pt x="2584" y="4588"/>
                  <a:pt x="2623" y="4598"/>
                  <a:pt x="2679" y="45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1080" y="1384200"/>
            <a:ext cx="339840" cy="339840"/>
          </a:xfrm>
          <a:custGeom>
            <a:avLst/>
            <a:gdLst/>
            <a:ahLst/>
            <a:rect l="l" t="t" r="r" b="b"/>
            <a:pathLst>
              <a:path w="944" h="943">
                <a:moveTo>
                  <a:pt x="3150" y="3870"/>
                </a:moveTo>
                <a:cubicBezTo>
                  <a:pt x="3192" y="3838"/>
                  <a:pt x="3205" y="3831"/>
                  <a:pt x="3175" y="3870"/>
                </a:cubicBezTo>
                <a:cubicBezTo>
                  <a:pt x="3140" y="3916"/>
                  <a:pt x="3096" y="3935"/>
                  <a:pt x="3076" y="3994"/>
                </a:cubicBezTo>
                <a:cubicBezTo>
                  <a:pt x="3061" y="4039"/>
                  <a:pt x="3038" y="4095"/>
                  <a:pt x="3026" y="4142"/>
                </a:cubicBezTo>
                <a:cubicBezTo>
                  <a:pt x="3012" y="4199"/>
                  <a:pt x="3008" y="4285"/>
                  <a:pt x="3001" y="4341"/>
                </a:cubicBezTo>
                <a:cubicBezTo>
                  <a:pt x="2988" y="4442"/>
                  <a:pt x="3012" y="4523"/>
                  <a:pt x="3051" y="4614"/>
                </a:cubicBezTo>
                <a:cubicBezTo>
                  <a:pt x="3080" y="4680"/>
                  <a:pt x="3101" y="4714"/>
                  <a:pt x="3101" y="4787"/>
                </a:cubicBezTo>
              </a:path>
              <a:path w="944" h="943">
                <a:moveTo>
                  <a:pt x="3398" y="4167"/>
                </a:moveTo>
                <a:cubicBezTo>
                  <a:pt x="3398" y="4124"/>
                  <a:pt x="3404" y="4108"/>
                  <a:pt x="3448" y="4093"/>
                </a:cubicBezTo>
                <a:cubicBezTo>
                  <a:pt x="3495" y="4077"/>
                  <a:pt x="3563" y="4088"/>
                  <a:pt x="3597" y="4118"/>
                </a:cubicBezTo>
                <a:cubicBezTo>
                  <a:pt x="3622" y="4140"/>
                  <a:pt x="3633" y="4183"/>
                  <a:pt x="3621" y="4217"/>
                </a:cubicBezTo>
                <a:cubicBezTo>
                  <a:pt x="3600" y="4277"/>
                  <a:pt x="3554" y="4292"/>
                  <a:pt x="3522" y="4341"/>
                </a:cubicBezTo>
                <a:cubicBezTo>
                  <a:pt x="3499" y="4376"/>
                  <a:pt x="3482" y="4404"/>
                  <a:pt x="3473" y="4440"/>
                </a:cubicBezTo>
                <a:cubicBezTo>
                  <a:pt x="3505" y="4448"/>
                  <a:pt x="3568" y="4450"/>
                  <a:pt x="3597" y="4465"/>
                </a:cubicBezTo>
                <a:cubicBezTo>
                  <a:pt x="3625" y="4479"/>
                  <a:pt x="3669" y="4520"/>
                  <a:pt x="3671" y="4539"/>
                </a:cubicBezTo>
                <a:cubicBezTo>
                  <a:pt x="3679" y="4604"/>
                  <a:pt x="3656" y="4609"/>
                  <a:pt x="3597" y="4614"/>
                </a:cubicBezTo>
                <a:cubicBezTo>
                  <a:pt x="3564" y="4617"/>
                  <a:pt x="3530" y="4614"/>
                  <a:pt x="3497" y="4614"/>
                </a:cubicBezTo>
              </a:path>
              <a:path w="944" h="943">
                <a:moveTo>
                  <a:pt x="3820" y="4415"/>
                </a:moveTo>
                <a:cubicBezTo>
                  <a:pt x="3820" y="4407"/>
                  <a:pt x="3820" y="4398"/>
                  <a:pt x="3820" y="4390"/>
                </a:cubicBezTo>
                <a:cubicBezTo>
                  <a:pt x="3820" y="4443"/>
                  <a:pt x="3821" y="4470"/>
                  <a:pt x="3845" y="4514"/>
                </a:cubicBezTo>
                <a:cubicBezTo>
                  <a:pt x="3879" y="4577"/>
                  <a:pt x="3880" y="4564"/>
                  <a:pt x="3944" y="4564"/>
                </a:cubicBezTo>
              </a:path>
              <a:path w="944" h="943">
                <a:moveTo>
                  <a:pt x="3919" y="4242"/>
                </a:moveTo>
                <a:cubicBezTo>
                  <a:pt x="3919" y="4234"/>
                  <a:pt x="3919" y="4225"/>
                  <a:pt x="3919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35040" y="1571760"/>
            <a:ext cx="73080" cy="810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4440" y="4490"/>
                </a:moveTo>
                <a:cubicBezTo>
                  <a:pt x="4448" y="4490"/>
                  <a:pt x="4457" y="4490"/>
                  <a:pt x="4465" y="4490"/>
                </a:cubicBezTo>
                <a:cubicBezTo>
                  <a:pt x="4399" y="4490"/>
                  <a:pt x="4332" y="4490"/>
                  <a:pt x="4266" y="4490"/>
                </a:cubicBezTo>
              </a:path>
              <a:path w="200" h="224">
                <a:moveTo>
                  <a:pt x="4291" y="4366"/>
                </a:moveTo>
                <a:cubicBezTo>
                  <a:pt x="4333" y="4366"/>
                  <a:pt x="4341" y="4366"/>
                  <a:pt x="4366" y="4366"/>
                </a:cubicBezTo>
                <a:cubicBezTo>
                  <a:pt x="4366" y="4440"/>
                  <a:pt x="4366" y="4515"/>
                  <a:pt x="4366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14680" y="1446120"/>
            <a:ext cx="179280" cy="216000"/>
          </a:xfrm>
          <a:custGeom>
            <a:avLst/>
            <a:gdLst/>
            <a:ahLst/>
            <a:rect l="l" t="t" r="r" b="b"/>
            <a:pathLst>
              <a:path w="498" h="597">
                <a:moveTo>
                  <a:pt x="4787" y="4167"/>
                </a:moveTo>
                <a:cubicBezTo>
                  <a:pt x="4787" y="4139"/>
                  <a:pt x="4789" y="4128"/>
                  <a:pt x="4812" y="4118"/>
                </a:cubicBezTo>
                <a:cubicBezTo>
                  <a:pt x="4783" y="4127"/>
                  <a:pt x="4767" y="4151"/>
                  <a:pt x="4762" y="4192"/>
                </a:cubicBezTo>
                <a:cubicBezTo>
                  <a:pt x="4755" y="4257"/>
                  <a:pt x="4776" y="4261"/>
                  <a:pt x="4837" y="4266"/>
                </a:cubicBezTo>
                <a:cubicBezTo>
                  <a:pt x="4889" y="4270"/>
                  <a:pt x="4919" y="4257"/>
                  <a:pt x="4961" y="4291"/>
                </a:cubicBezTo>
                <a:cubicBezTo>
                  <a:pt x="5000" y="4322"/>
                  <a:pt x="4986" y="4369"/>
                  <a:pt x="4986" y="4415"/>
                </a:cubicBezTo>
                <a:cubicBezTo>
                  <a:pt x="4986" y="4449"/>
                  <a:pt x="4942" y="4483"/>
                  <a:pt x="4911" y="4490"/>
                </a:cubicBezTo>
                <a:cubicBezTo>
                  <a:pt x="4867" y="4499"/>
                  <a:pt x="4807" y="4490"/>
                  <a:pt x="4762" y="4490"/>
                </a:cubicBezTo>
              </a:path>
              <a:path w="498" h="597">
                <a:moveTo>
                  <a:pt x="5011" y="4043"/>
                </a:moveTo>
                <a:cubicBezTo>
                  <a:pt x="5011" y="4035"/>
                  <a:pt x="5011" y="4026"/>
                  <a:pt x="5011" y="4018"/>
                </a:cubicBezTo>
                <a:cubicBezTo>
                  <a:pt x="4960" y="4018"/>
                  <a:pt x="4952" y="4029"/>
                  <a:pt x="4911" y="4043"/>
                </a:cubicBezTo>
                <a:cubicBezTo>
                  <a:pt x="4883" y="4043"/>
                  <a:pt x="4873" y="4046"/>
                  <a:pt x="4862" y="4068"/>
                </a:cubicBezTo>
              </a:path>
              <a:path w="498" h="597">
                <a:moveTo>
                  <a:pt x="5159" y="4316"/>
                </a:moveTo>
                <a:cubicBezTo>
                  <a:pt x="5182" y="4293"/>
                  <a:pt x="5186" y="4285"/>
                  <a:pt x="5209" y="4291"/>
                </a:cubicBezTo>
                <a:cubicBezTo>
                  <a:pt x="5209" y="4334"/>
                  <a:pt x="5220" y="4376"/>
                  <a:pt x="5234" y="4415"/>
                </a:cubicBezTo>
                <a:cubicBezTo>
                  <a:pt x="5246" y="4449"/>
                  <a:pt x="5282" y="4523"/>
                  <a:pt x="5259" y="4564"/>
                </a:cubicBezTo>
                <a:cubicBezTo>
                  <a:pt x="5235" y="4608"/>
                  <a:pt x="5203" y="4614"/>
                  <a:pt x="5159" y="4614"/>
                </a:cubicBezTo>
                <a:cubicBezTo>
                  <a:pt x="5133" y="4614"/>
                  <a:pt x="5114" y="4586"/>
                  <a:pt x="5085" y="4564"/>
                </a:cubicBezTo>
              </a:path>
              <a:path w="498" h="597">
                <a:moveTo>
                  <a:pt x="5234" y="4093"/>
                </a:moveTo>
                <a:cubicBezTo>
                  <a:pt x="5226" y="4093"/>
                  <a:pt x="5217" y="4093"/>
                  <a:pt x="5209" y="4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08160" y="1490760"/>
            <a:ext cx="9864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6127" y="4242"/>
                </a:moveTo>
                <a:cubicBezTo>
                  <a:pt x="6127" y="4234"/>
                  <a:pt x="6127" y="4225"/>
                  <a:pt x="6127" y="4217"/>
                </a:cubicBezTo>
                <a:cubicBezTo>
                  <a:pt x="6049" y="4217"/>
                  <a:pt x="5993" y="4220"/>
                  <a:pt x="5928" y="4242"/>
                </a:cubicBezTo>
                <a:cubicBezTo>
                  <a:pt x="5909" y="4248"/>
                  <a:pt x="5874" y="4242"/>
                  <a:pt x="5854" y="4242"/>
                </a:cubicBezTo>
              </a:path>
              <a:path w="274" h="225">
                <a:moveTo>
                  <a:pt x="5953" y="4142"/>
                </a:moveTo>
                <a:cubicBezTo>
                  <a:pt x="5989" y="4166"/>
                  <a:pt x="5978" y="4209"/>
                  <a:pt x="5978" y="4266"/>
                </a:cubicBezTo>
                <a:cubicBezTo>
                  <a:pt x="5978" y="4316"/>
                  <a:pt x="5978" y="4333"/>
                  <a:pt x="5978" y="4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30280" y="1393920"/>
            <a:ext cx="54000" cy="150840"/>
          </a:xfrm>
          <a:custGeom>
            <a:avLst/>
            <a:gdLst/>
            <a:ahLst/>
            <a:rect l="l" t="t" r="r" b="b"/>
            <a:pathLst>
              <a:path w="150" h="422">
                <a:moveTo>
                  <a:pt x="6499" y="4093"/>
                </a:moveTo>
                <a:cubicBezTo>
                  <a:pt x="6550" y="4026"/>
                  <a:pt x="6502" y="4058"/>
                  <a:pt x="6499" y="4068"/>
                </a:cubicBezTo>
                <a:cubicBezTo>
                  <a:pt x="6482" y="4130"/>
                  <a:pt x="6459" y="4178"/>
                  <a:pt x="6499" y="4242"/>
                </a:cubicBezTo>
                <a:cubicBezTo>
                  <a:pt x="6531" y="4294"/>
                  <a:pt x="6568" y="4291"/>
                  <a:pt x="6623" y="4291"/>
                </a:cubicBezTo>
              </a:path>
              <a:path w="150" h="422">
                <a:moveTo>
                  <a:pt x="6623" y="3919"/>
                </a:moveTo>
                <a:cubicBezTo>
                  <a:pt x="6601" y="3897"/>
                  <a:pt x="6592" y="3892"/>
                  <a:pt x="6598" y="38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27200" y="144612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7020" y="4068"/>
                </a:moveTo>
                <a:cubicBezTo>
                  <a:pt x="7065" y="4068"/>
                  <a:pt x="7078" y="4048"/>
                  <a:pt x="7119" y="4043"/>
                </a:cubicBezTo>
                <a:cubicBezTo>
                  <a:pt x="7170" y="4037"/>
                  <a:pt x="7199" y="4029"/>
                  <a:pt x="7243" y="4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24120" y="1312920"/>
            <a:ext cx="374760" cy="295200"/>
          </a:xfrm>
          <a:custGeom>
            <a:avLst/>
            <a:gdLst/>
            <a:ahLst/>
            <a:rect l="l" t="t" r="r" b="b"/>
            <a:pathLst>
              <a:path w="1043" h="820">
                <a:moveTo>
                  <a:pt x="7615" y="3845"/>
                </a:moveTo>
                <a:cubicBezTo>
                  <a:pt x="7590" y="3845"/>
                  <a:pt x="7582" y="3845"/>
                  <a:pt x="7565" y="3845"/>
                </a:cubicBezTo>
                <a:cubicBezTo>
                  <a:pt x="7565" y="3787"/>
                  <a:pt x="7577" y="3766"/>
                  <a:pt x="7640" y="3746"/>
                </a:cubicBezTo>
                <a:cubicBezTo>
                  <a:pt x="7688" y="3730"/>
                  <a:pt x="7761" y="3746"/>
                  <a:pt x="7813" y="3746"/>
                </a:cubicBezTo>
                <a:cubicBezTo>
                  <a:pt x="7813" y="3799"/>
                  <a:pt x="7822" y="3848"/>
                  <a:pt x="7789" y="3894"/>
                </a:cubicBezTo>
                <a:cubicBezTo>
                  <a:pt x="7736" y="3968"/>
                  <a:pt x="7723" y="4017"/>
                  <a:pt x="7689" y="4093"/>
                </a:cubicBezTo>
                <a:cubicBezTo>
                  <a:pt x="7672" y="4132"/>
                  <a:pt x="7665" y="4121"/>
                  <a:pt x="7665" y="4167"/>
                </a:cubicBezTo>
                <a:cubicBezTo>
                  <a:pt x="7712" y="4167"/>
                  <a:pt x="7728" y="4150"/>
                  <a:pt x="7764" y="4142"/>
                </a:cubicBezTo>
                <a:cubicBezTo>
                  <a:pt x="7796" y="4135"/>
                  <a:pt x="7859" y="4134"/>
                  <a:pt x="7888" y="4118"/>
                </a:cubicBezTo>
                <a:cubicBezTo>
                  <a:pt x="7896" y="4110"/>
                  <a:pt x="7905" y="4101"/>
                  <a:pt x="7913" y="4093"/>
                </a:cubicBezTo>
              </a:path>
              <a:path w="1043" h="820">
                <a:moveTo>
                  <a:pt x="8037" y="4018"/>
                </a:moveTo>
                <a:cubicBezTo>
                  <a:pt x="8082" y="3985"/>
                  <a:pt x="8087" y="3986"/>
                  <a:pt x="8111" y="4018"/>
                </a:cubicBezTo>
                <a:cubicBezTo>
                  <a:pt x="8155" y="4076"/>
                  <a:pt x="8196" y="4142"/>
                  <a:pt x="8210" y="4217"/>
                </a:cubicBezTo>
                <a:cubicBezTo>
                  <a:pt x="8219" y="4265"/>
                  <a:pt x="8233" y="4435"/>
                  <a:pt x="8186" y="4465"/>
                </a:cubicBezTo>
                <a:cubicBezTo>
                  <a:pt x="8151" y="4487"/>
                  <a:pt x="8087" y="4455"/>
                  <a:pt x="8062" y="4440"/>
                </a:cubicBezTo>
              </a:path>
              <a:path w="1043" h="820">
                <a:moveTo>
                  <a:pt x="8111" y="3870"/>
                </a:moveTo>
                <a:cubicBezTo>
                  <a:pt x="8111" y="3822"/>
                  <a:pt x="8128" y="3845"/>
                  <a:pt x="8136" y="3870"/>
                </a:cubicBezTo>
              </a:path>
              <a:path w="1043" h="820">
                <a:moveTo>
                  <a:pt x="8210" y="3696"/>
                </a:moveTo>
                <a:cubicBezTo>
                  <a:pt x="8222" y="3646"/>
                  <a:pt x="8234" y="3646"/>
                  <a:pt x="8285" y="3646"/>
                </a:cubicBezTo>
                <a:cubicBezTo>
                  <a:pt x="8345" y="3646"/>
                  <a:pt x="8406" y="3633"/>
                  <a:pt x="8458" y="3671"/>
                </a:cubicBezTo>
                <a:cubicBezTo>
                  <a:pt x="8529" y="3723"/>
                  <a:pt x="8593" y="3805"/>
                  <a:pt x="8607" y="3894"/>
                </a:cubicBezTo>
                <a:cubicBezTo>
                  <a:pt x="8626" y="4020"/>
                  <a:pt x="8582" y="4068"/>
                  <a:pt x="8533" y="4167"/>
                </a:cubicBezTo>
                <a:cubicBezTo>
                  <a:pt x="8510" y="4235"/>
                  <a:pt x="8509" y="4256"/>
                  <a:pt x="8458" y="4266"/>
                </a:cubicBezTo>
              </a:path>
              <a:path w="1043" h="820">
                <a:moveTo>
                  <a:pt x="8210" y="4217"/>
                </a:moveTo>
                <a:cubicBezTo>
                  <a:pt x="8156" y="4175"/>
                  <a:pt x="8169" y="4211"/>
                  <a:pt x="8111" y="4217"/>
                </a:cubicBezTo>
                <a:cubicBezTo>
                  <a:pt x="8087" y="4220"/>
                  <a:pt x="8061" y="4217"/>
                  <a:pt x="8037" y="4217"/>
                </a:cubicBezTo>
                <a:cubicBezTo>
                  <a:pt x="8025" y="4252"/>
                  <a:pt x="8030" y="4242"/>
                  <a:pt x="7987" y="42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7800" y="1946160"/>
            <a:ext cx="982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2530" y="5407"/>
                </a:moveTo>
                <a:cubicBezTo>
                  <a:pt x="2538" y="5407"/>
                  <a:pt x="2547" y="5407"/>
                  <a:pt x="2555" y="5407"/>
                </a:cubicBezTo>
                <a:cubicBezTo>
                  <a:pt x="2493" y="5407"/>
                  <a:pt x="2456" y="5415"/>
                  <a:pt x="2406" y="5432"/>
                </a:cubicBezTo>
                <a:cubicBezTo>
                  <a:pt x="2378" y="5432"/>
                  <a:pt x="2367" y="5434"/>
                  <a:pt x="2356" y="5457"/>
                </a:cubicBezTo>
              </a:path>
              <a:path w="274" h="150">
                <a:moveTo>
                  <a:pt x="2604" y="5482"/>
                </a:moveTo>
                <a:cubicBezTo>
                  <a:pt x="2612" y="5490"/>
                  <a:pt x="2621" y="5499"/>
                  <a:pt x="2629" y="5507"/>
                </a:cubicBezTo>
                <a:cubicBezTo>
                  <a:pt x="2565" y="5507"/>
                  <a:pt x="2539" y="5517"/>
                  <a:pt x="2480" y="5531"/>
                </a:cubicBezTo>
                <a:cubicBezTo>
                  <a:pt x="2452" y="5531"/>
                  <a:pt x="2442" y="5534"/>
                  <a:pt x="2431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938240"/>
            <a:ext cx="115920" cy="8892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3448" y="5407"/>
                </a:moveTo>
                <a:cubicBezTo>
                  <a:pt x="3473" y="5407"/>
                  <a:pt x="3481" y="5407"/>
                  <a:pt x="3497" y="5407"/>
                </a:cubicBezTo>
                <a:cubicBezTo>
                  <a:pt x="3488" y="5379"/>
                  <a:pt x="3440" y="5366"/>
                  <a:pt x="3398" y="5383"/>
                </a:cubicBezTo>
                <a:cubicBezTo>
                  <a:pt x="3354" y="5401"/>
                  <a:pt x="3316" y="5431"/>
                  <a:pt x="3299" y="5482"/>
                </a:cubicBezTo>
                <a:cubicBezTo>
                  <a:pt x="3286" y="5520"/>
                  <a:pt x="3301" y="5555"/>
                  <a:pt x="3324" y="5581"/>
                </a:cubicBezTo>
                <a:cubicBezTo>
                  <a:pt x="3359" y="5620"/>
                  <a:pt x="3388" y="5612"/>
                  <a:pt x="3423" y="5581"/>
                </a:cubicBezTo>
                <a:cubicBezTo>
                  <a:pt x="3465" y="5544"/>
                  <a:pt x="3448" y="5485"/>
                  <a:pt x="3448" y="5432"/>
                </a:cubicBezTo>
                <a:cubicBezTo>
                  <a:pt x="3448" y="5424"/>
                  <a:pt x="3448" y="5415"/>
                  <a:pt x="3448" y="5407"/>
                </a:cubicBezTo>
                <a:cubicBezTo>
                  <a:pt x="3473" y="5424"/>
                  <a:pt x="3497" y="5485"/>
                  <a:pt x="3522" y="5531"/>
                </a:cubicBezTo>
                <a:cubicBezTo>
                  <a:pt x="3550" y="5584"/>
                  <a:pt x="3576" y="5594"/>
                  <a:pt x="3621" y="56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93920" y="1697040"/>
            <a:ext cx="106200" cy="303120"/>
          </a:xfrm>
          <a:custGeom>
            <a:avLst/>
            <a:gdLst/>
            <a:ahLst/>
            <a:rect l="l" t="t" r="r" b="b"/>
            <a:pathLst>
              <a:path w="298" h="844">
                <a:moveTo>
                  <a:pt x="4142" y="5085"/>
                </a:moveTo>
                <a:cubicBezTo>
                  <a:pt x="4165" y="5062"/>
                  <a:pt x="4173" y="5058"/>
                  <a:pt x="4167" y="5035"/>
                </a:cubicBezTo>
                <a:cubicBezTo>
                  <a:pt x="4126" y="5076"/>
                  <a:pt x="4095" y="5108"/>
                  <a:pt x="4068" y="5159"/>
                </a:cubicBezTo>
                <a:cubicBezTo>
                  <a:pt x="4027" y="5235"/>
                  <a:pt x="4043" y="5322"/>
                  <a:pt x="4043" y="5407"/>
                </a:cubicBezTo>
                <a:cubicBezTo>
                  <a:pt x="4043" y="5466"/>
                  <a:pt x="4060" y="5512"/>
                  <a:pt x="4093" y="5556"/>
                </a:cubicBezTo>
              </a:path>
              <a:path w="298" h="844">
                <a:moveTo>
                  <a:pt x="3969" y="4713"/>
                </a:moveTo>
                <a:cubicBezTo>
                  <a:pt x="3942" y="4713"/>
                  <a:pt x="3882" y="4720"/>
                  <a:pt x="3870" y="4738"/>
                </a:cubicBezTo>
                <a:cubicBezTo>
                  <a:pt x="3870" y="4746"/>
                  <a:pt x="3870" y="4754"/>
                  <a:pt x="3870" y="4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8760" y="1589040"/>
            <a:ext cx="847440" cy="393840"/>
          </a:xfrm>
          <a:custGeom>
            <a:avLst/>
            <a:gdLst/>
            <a:ahLst/>
            <a:rect l="l" t="t" r="r" b="b"/>
            <a:pathLst>
              <a:path w="2357" h="1093">
                <a:moveTo>
                  <a:pt x="4465" y="5011"/>
                </a:moveTo>
                <a:cubicBezTo>
                  <a:pt x="4465" y="5058"/>
                  <a:pt x="4445" y="5090"/>
                  <a:pt x="4440" y="5135"/>
                </a:cubicBezTo>
                <a:cubicBezTo>
                  <a:pt x="4434" y="5191"/>
                  <a:pt x="4440" y="5251"/>
                  <a:pt x="4440" y="5308"/>
                </a:cubicBezTo>
                <a:cubicBezTo>
                  <a:pt x="4531" y="5308"/>
                  <a:pt x="4603" y="5304"/>
                  <a:pt x="4688" y="5283"/>
                </a:cubicBezTo>
                <a:cubicBezTo>
                  <a:pt x="4717" y="5276"/>
                  <a:pt x="4757" y="5283"/>
                  <a:pt x="4787" y="5283"/>
                </a:cubicBezTo>
              </a:path>
              <a:path w="2357" h="1093">
                <a:moveTo>
                  <a:pt x="4589" y="5209"/>
                </a:moveTo>
                <a:cubicBezTo>
                  <a:pt x="4589" y="5168"/>
                  <a:pt x="4589" y="5242"/>
                  <a:pt x="4589" y="5283"/>
                </a:cubicBezTo>
                <a:cubicBezTo>
                  <a:pt x="4589" y="5341"/>
                  <a:pt x="4586" y="5362"/>
                  <a:pt x="4614" y="5407"/>
                </a:cubicBezTo>
              </a:path>
              <a:path w="2357" h="1093">
                <a:moveTo>
                  <a:pt x="4961" y="5184"/>
                </a:moveTo>
                <a:cubicBezTo>
                  <a:pt x="4961" y="5176"/>
                  <a:pt x="4961" y="5167"/>
                  <a:pt x="4961" y="5159"/>
                </a:cubicBezTo>
                <a:cubicBezTo>
                  <a:pt x="5015" y="5177"/>
                  <a:pt x="4974" y="5209"/>
                  <a:pt x="4961" y="5259"/>
                </a:cubicBezTo>
                <a:cubicBezTo>
                  <a:pt x="4949" y="5305"/>
                  <a:pt x="4968" y="5348"/>
                  <a:pt x="5011" y="5358"/>
                </a:cubicBezTo>
                <a:cubicBezTo>
                  <a:pt x="5033" y="5363"/>
                  <a:pt x="5063" y="5358"/>
                  <a:pt x="5085" y="5358"/>
                </a:cubicBezTo>
              </a:path>
              <a:path w="2357" h="1093">
                <a:moveTo>
                  <a:pt x="5035" y="5110"/>
                </a:moveTo>
                <a:cubicBezTo>
                  <a:pt x="5014" y="5066"/>
                  <a:pt x="5001" y="5045"/>
                  <a:pt x="5035" y="5085"/>
                </a:cubicBezTo>
              </a:path>
              <a:path w="2357" h="1093">
                <a:moveTo>
                  <a:pt x="5581" y="5234"/>
                </a:moveTo>
                <a:cubicBezTo>
                  <a:pt x="5581" y="5226"/>
                  <a:pt x="5581" y="5217"/>
                  <a:pt x="5581" y="5209"/>
                </a:cubicBezTo>
                <a:cubicBezTo>
                  <a:pt x="5540" y="5219"/>
                  <a:pt x="5525" y="5254"/>
                  <a:pt x="5482" y="5259"/>
                </a:cubicBezTo>
                <a:cubicBezTo>
                  <a:pt x="5450" y="5263"/>
                  <a:pt x="5415" y="5259"/>
                  <a:pt x="5383" y="5259"/>
                </a:cubicBezTo>
              </a:path>
              <a:path w="2357" h="1093">
                <a:moveTo>
                  <a:pt x="5407" y="5159"/>
                </a:moveTo>
                <a:cubicBezTo>
                  <a:pt x="5449" y="5159"/>
                  <a:pt x="5457" y="5159"/>
                  <a:pt x="5482" y="5159"/>
                </a:cubicBezTo>
                <a:cubicBezTo>
                  <a:pt x="5482" y="5230"/>
                  <a:pt x="5489" y="5274"/>
                  <a:pt x="5507" y="5333"/>
                </a:cubicBezTo>
                <a:cubicBezTo>
                  <a:pt x="5507" y="5341"/>
                  <a:pt x="5507" y="5350"/>
                  <a:pt x="5507" y="5358"/>
                </a:cubicBezTo>
              </a:path>
              <a:path w="2357" h="1093">
                <a:moveTo>
                  <a:pt x="5829" y="4986"/>
                </a:moveTo>
                <a:cubicBezTo>
                  <a:pt x="5814" y="4955"/>
                  <a:pt x="5811" y="4916"/>
                  <a:pt x="5854" y="4887"/>
                </a:cubicBezTo>
                <a:cubicBezTo>
                  <a:pt x="5903" y="4853"/>
                  <a:pt x="5947" y="4862"/>
                  <a:pt x="6003" y="4862"/>
                </a:cubicBezTo>
                <a:cubicBezTo>
                  <a:pt x="6066" y="4862"/>
                  <a:pt x="6052" y="4913"/>
                  <a:pt x="6052" y="4961"/>
                </a:cubicBezTo>
                <a:cubicBezTo>
                  <a:pt x="6052" y="5010"/>
                  <a:pt x="6007" y="5072"/>
                  <a:pt x="5978" y="5110"/>
                </a:cubicBezTo>
                <a:cubicBezTo>
                  <a:pt x="5945" y="5154"/>
                  <a:pt x="5943" y="5116"/>
                  <a:pt x="5928" y="5159"/>
                </a:cubicBezTo>
                <a:cubicBezTo>
                  <a:pt x="5973" y="5170"/>
                  <a:pt x="5998" y="5184"/>
                  <a:pt x="6052" y="5184"/>
                </a:cubicBezTo>
                <a:cubicBezTo>
                  <a:pt x="6092" y="5184"/>
                  <a:pt x="6118" y="5208"/>
                  <a:pt x="6127" y="5234"/>
                </a:cubicBezTo>
                <a:cubicBezTo>
                  <a:pt x="6085" y="5266"/>
                  <a:pt x="6059" y="5259"/>
                  <a:pt x="6003" y="5259"/>
                </a:cubicBezTo>
                <a:cubicBezTo>
                  <a:pt x="5978" y="5259"/>
                  <a:pt x="5970" y="5259"/>
                  <a:pt x="5953" y="5259"/>
                </a:cubicBezTo>
              </a:path>
              <a:path w="2357" h="1093">
                <a:moveTo>
                  <a:pt x="6300" y="5159"/>
                </a:moveTo>
                <a:cubicBezTo>
                  <a:pt x="6323" y="5137"/>
                  <a:pt x="6328" y="5129"/>
                  <a:pt x="6350" y="5135"/>
                </a:cubicBezTo>
                <a:cubicBezTo>
                  <a:pt x="6361" y="5177"/>
                  <a:pt x="6392" y="5211"/>
                  <a:pt x="6400" y="5259"/>
                </a:cubicBezTo>
                <a:cubicBezTo>
                  <a:pt x="6408" y="5304"/>
                  <a:pt x="6436" y="5417"/>
                  <a:pt x="6424" y="5457"/>
                </a:cubicBezTo>
                <a:cubicBezTo>
                  <a:pt x="6411" y="5502"/>
                  <a:pt x="6362" y="5507"/>
                  <a:pt x="6325" y="5507"/>
                </a:cubicBezTo>
              </a:path>
              <a:path w="2357" h="1093">
                <a:moveTo>
                  <a:pt x="6325" y="4986"/>
                </a:moveTo>
                <a:lnTo>
                  <a:pt x="6325" y="4986"/>
                </a:lnTo>
                <a:lnTo>
                  <a:pt x="6325" y="4986"/>
                </a:lnTo>
                <a:lnTo>
                  <a:pt x="6325" y="4986"/>
                </a:lnTo>
              </a:path>
              <a:path w="2357" h="1093">
                <a:moveTo>
                  <a:pt x="6499" y="4762"/>
                </a:moveTo>
                <a:cubicBezTo>
                  <a:pt x="6546" y="4762"/>
                  <a:pt x="6562" y="4779"/>
                  <a:pt x="6598" y="4787"/>
                </a:cubicBezTo>
                <a:cubicBezTo>
                  <a:pt x="6657" y="4800"/>
                  <a:pt x="6717" y="4845"/>
                  <a:pt x="6747" y="4911"/>
                </a:cubicBezTo>
                <a:cubicBezTo>
                  <a:pt x="6799" y="5025"/>
                  <a:pt x="6805" y="5059"/>
                  <a:pt x="6747" y="5159"/>
                </a:cubicBezTo>
                <a:cubicBezTo>
                  <a:pt x="6722" y="5209"/>
                  <a:pt x="6714" y="5226"/>
                  <a:pt x="6697" y="5259"/>
                </a:cubicBezTo>
              </a:path>
              <a:path w="2357" h="1093">
                <a:moveTo>
                  <a:pt x="6524" y="5383"/>
                </a:moveTo>
                <a:cubicBezTo>
                  <a:pt x="6532" y="5383"/>
                  <a:pt x="6540" y="5383"/>
                  <a:pt x="6548" y="5383"/>
                </a:cubicBezTo>
                <a:cubicBezTo>
                  <a:pt x="6469" y="5383"/>
                  <a:pt x="6362" y="5362"/>
                  <a:pt x="6300" y="5407"/>
                </a:cubicBezTo>
              </a:path>
              <a:path w="2357" h="1093">
                <a:moveTo>
                  <a:pt x="5060" y="5482"/>
                </a:moveTo>
                <a:cubicBezTo>
                  <a:pt x="5034" y="5475"/>
                  <a:pt x="4993" y="5439"/>
                  <a:pt x="4961" y="5457"/>
                </a:cubicBezTo>
                <a:cubicBezTo>
                  <a:pt x="4923" y="5478"/>
                  <a:pt x="4933" y="5482"/>
                  <a:pt x="4887" y="5482"/>
                </a:cubicBezTo>
              </a:path>
              <a:path w="2357" h="1093">
                <a:moveTo>
                  <a:pt x="5283" y="4738"/>
                </a:moveTo>
                <a:cubicBezTo>
                  <a:pt x="5238" y="4738"/>
                  <a:pt x="5224" y="4758"/>
                  <a:pt x="5184" y="4762"/>
                </a:cubicBezTo>
                <a:cubicBezTo>
                  <a:pt x="5156" y="4762"/>
                  <a:pt x="5145" y="4764"/>
                  <a:pt x="5135" y="4787"/>
                </a:cubicBezTo>
              </a:path>
              <a:path w="2357" h="1093">
                <a:moveTo>
                  <a:pt x="6623" y="4415"/>
                </a:moveTo>
                <a:cubicBezTo>
                  <a:pt x="6566" y="4415"/>
                  <a:pt x="6545" y="4425"/>
                  <a:pt x="6499" y="4440"/>
                </a:cubicBezTo>
                <a:cubicBezTo>
                  <a:pt x="6491" y="4440"/>
                  <a:pt x="6482" y="4440"/>
                  <a:pt x="6474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20960" y="1803240"/>
            <a:ext cx="108000" cy="71640"/>
          </a:xfrm>
          <a:custGeom>
            <a:avLst/>
            <a:gdLst/>
            <a:ahLst/>
            <a:rect l="l" t="t" r="r" b="b"/>
            <a:pathLst>
              <a:path w="299" h="199">
                <a:moveTo>
                  <a:pt x="8062" y="5035"/>
                </a:moveTo>
                <a:cubicBezTo>
                  <a:pt x="8062" y="5027"/>
                  <a:pt x="8062" y="5019"/>
                  <a:pt x="8062" y="5011"/>
                </a:cubicBezTo>
                <a:cubicBezTo>
                  <a:pt x="8006" y="5011"/>
                  <a:pt x="7983" y="5020"/>
                  <a:pt x="7938" y="5035"/>
                </a:cubicBezTo>
                <a:cubicBezTo>
                  <a:pt x="7897" y="5048"/>
                  <a:pt x="7877" y="5037"/>
                  <a:pt x="7838" y="5060"/>
                </a:cubicBezTo>
              </a:path>
              <a:path w="299" h="199">
                <a:moveTo>
                  <a:pt x="8136" y="5184"/>
                </a:moveTo>
                <a:cubicBezTo>
                  <a:pt x="8078" y="5184"/>
                  <a:pt x="8033" y="5175"/>
                  <a:pt x="7987" y="5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32080" y="1677960"/>
            <a:ext cx="223920" cy="189000"/>
          </a:xfrm>
          <a:custGeom>
            <a:avLst/>
            <a:gdLst/>
            <a:ahLst/>
            <a:rect l="l" t="t" r="r" b="b"/>
            <a:pathLst>
              <a:path w="621" h="522">
                <a:moveTo>
                  <a:pt x="9252" y="4762"/>
                </a:moveTo>
                <a:cubicBezTo>
                  <a:pt x="9252" y="4710"/>
                  <a:pt x="9256" y="4710"/>
                  <a:pt x="9227" y="4688"/>
                </a:cubicBezTo>
                <a:cubicBezTo>
                  <a:pt x="9198" y="4665"/>
                  <a:pt x="9146" y="4645"/>
                  <a:pt x="9103" y="4663"/>
                </a:cubicBezTo>
                <a:cubicBezTo>
                  <a:pt x="9073" y="4676"/>
                  <a:pt x="8995" y="4728"/>
                  <a:pt x="8979" y="4762"/>
                </a:cubicBezTo>
                <a:cubicBezTo>
                  <a:pt x="8963" y="4797"/>
                  <a:pt x="8983" y="4839"/>
                  <a:pt x="9004" y="4862"/>
                </a:cubicBezTo>
                <a:cubicBezTo>
                  <a:pt x="9047" y="4911"/>
                  <a:pt x="9083" y="4900"/>
                  <a:pt x="9128" y="4936"/>
                </a:cubicBezTo>
                <a:cubicBezTo>
                  <a:pt x="9160" y="4961"/>
                  <a:pt x="9200" y="4996"/>
                  <a:pt x="9203" y="5035"/>
                </a:cubicBezTo>
                <a:cubicBezTo>
                  <a:pt x="9208" y="5111"/>
                  <a:pt x="9206" y="5130"/>
                  <a:pt x="9128" y="5135"/>
                </a:cubicBezTo>
                <a:cubicBezTo>
                  <a:pt x="9072" y="5138"/>
                  <a:pt x="9045" y="5141"/>
                  <a:pt x="9004" y="5110"/>
                </a:cubicBezTo>
                <a:cubicBezTo>
                  <a:pt x="9015" y="5056"/>
                  <a:pt x="9044" y="4981"/>
                  <a:pt x="9079" y="4936"/>
                </a:cubicBezTo>
                <a:cubicBezTo>
                  <a:pt x="9137" y="4862"/>
                  <a:pt x="9158" y="4796"/>
                  <a:pt x="9227" y="4738"/>
                </a:cubicBezTo>
                <a:cubicBezTo>
                  <a:pt x="9250" y="4715"/>
                  <a:pt x="9254" y="4707"/>
                  <a:pt x="9277" y="4713"/>
                </a:cubicBezTo>
              </a:path>
              <a:path w="621" h="522">
                <a:moveTo>
                  <a:pt x="9451" y="4936"/>
                </a:moveTo>
                <a:cubicBezTo>
                  <a:pt x="9451" y="4911"/>
                  <a:pt x="9451" y="4887"/>
                  <a:pt x="9451" y="4862"/>
                </a:cubicBezTo>
                <a:cubicBezTo>
                  <a:pt x="9451" y="4911"/>
                  <a:pt x="9452" y="4920"/>
                  <a:pt x="9475" y="4961"/>
                </a:cubicBezTo>
                <a:cubicBezTo>
                  <a:pt x="9508" y="5020"/>
                  <a:pt x="9509" y="5035"/>
                  <a:pt x="9575" y="5035"/>
                </a:cubicBezTo>
              </a:path>
              <a:path w="621" h="522">
                <a:moveTo>
                  <a:pt x="9575" y="4812"/>
                </a:moveTo>
                <a:cubicBezTo>
                  <a:pt x="9559" y="4741"/>
                  <a:pt x="9550" y="4723"/>
                  <a:pt x="9550" y="4663"/>
                </a:cubicBezTo>
              </a:path>
              <a:path w="621" h="522">
                <a:moveTo>
                  <a:pt x="9599" y="5135"/>
                </a:moveTo>
                <a:cubicBezTo>
                  <a:pt x="9541" y="5135"/>
                  <a:pt x="9523" y="5156"/>
                  <a:pt x="9475" y="5159"/>
                </a:cubicBezTo>
                <a:cubicBezTo>
                  <a:pt x="9431" y="5159"/>
                  <a:pt x="9417" y="5156"/>
                  <a:pt x="9401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25920" y="1687680"/>
            <a:ext cx="81000" cy="982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10294" y="4812"/>
                </a:moveTo>
                <a:cubicBezTo>
                  <a:pt x="10231" y="4812"/>
                  <a:pt x="10197" y="4820"/>
                  <a:pt x="10145" y="4837"/>
                </a:cubicBezTo>
                <a:cubicBezTo>
                  <a:pt x="10126" y="4843"/>
                  <a:pt x="10091" y="4837"/>
                  <a:pt x="10071" y="4837"/>
                </a:cubicBezTo>
              </a:path>
              <a:path w="224" h="274">
                <a:moveTo>
                  <a:pt x="10145" y="4713"/>
                </a:moveTo>
                <a:cubicBezTo>
                  <a:pt x="10145" y="4705"/>
                  <a:pt x="10145" y="4696"/>
                  <a:pt x="10145" y="4688"/>
                </a:cubicBezTo>
                <a:cubicBezTo>
                  <a:pt x="10170" y="4696"/>
                  <a:pt x="10188" y="4747"/>
                  <a:pt x="10195" y="4787"/>
                </a:cubicBezTo>
                <a:cubicBezTo>
                  <a:pt x="10207" y="4857"/>
                  <a:pt x="10191" y="4894"/>
                  <a:pt x="10220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4760" y="1589040"/>
            <a:ext cx="63360" cy="206280"/>
          </a:xfrm>
          <a:custGeom>
            <a:avLst/>
            <a:gdLst/>
            <a:ahLst/>
            <a:rect l="l" t="t" r="r" b="b"/>
            <a:pathLst>
              <a:path w="175" h="572">
                <a:moveTo>
                  <a:pt x="10889" y="4465"/>
                </a:moveTo>
                <a:cubicBezTo>
                  <a:pt x="10906" y="4453"/>
                  <a:pt x="10982" y="4384"/>
                  <a:pt x="10939" y="4415"/>
                </a:cubicBezTo>
                <a:cubicBezTo>
                  <a:pt x="10890" y="4450"/>
                  <a:pt x="10861" y="4510"/>
                  <a:pt x="10840" y="4564"/>
                </a:cubicBezTo>
                <a:cubicBezTo>
                  <a:pt x="10805" y="4655"/>
                  <a:pt x="10767" y="4763"/>
                  <a:pt x="10790" y="4862"/>
                </a:cubicBezTo>
                <a:cubicBezTo>
                  <a:pt x="10803" y="4917"/>
                  <a:pt x="10838" y="4973"/>
                  <a:pt x="10889" y="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4960" y="1616040"/>
            <a:ext cx="98280" cy="152280"/>
          </a:xfrm>
          <a:custGeom>
            <a:avLst/>
            <a:gdLst/>
            <a:ahLst/>
            <a:rect l="l" t="t" r="r" b="b"/>
            <a:pathLst>
              <a:path w="273" h="422">
                <a:moveTo>
                  <a:pt x="11237" y="4539"/>
                </a:moveTo>
                <a:cubicBezTo>
                  <a:pt x="11237" y="4514"/>
                  <a:pt x="11237" y="4506"/>
                  <a:pt x="11237" y="4490"/>
                </a:cubicBezTo>
                <a:cubicBezTo>
                  <a:pt x="11237" y="4597"/>
                  <a:pt x="11237" y="4705"/>
                  <a:pt x="11237" y="4812"/>
                </a:cubicBezTo>
                <a:cubicBezTo>
                  <a:pt x="11267" y="4801"/>
                  <a:pt x="11294" y="4763"/>
                  <a:pt x="11336" y="4738"/>
                </a:cubicBezTo>
                <a:cubicBezTo>
                  <a:pt x="11406" y="4696"/>
                  <a:pt x="11433" y="4710"/>
                  <a:pt x="11485" y="4762"/>
                </a:cubicBezTo>
                <a:cubicBezTo>
                  <a:pt x="11525" y="4802"/>
                  <a:pt x="11515" y="4862"/>
                  <a:pt x="11460" y="4887"/>
                </a:cubicBezTo>
                <a:cubicBezTo>
                  <a:pt x="11423" y="4904"/>
                  <a:pt x="11351" y="4905"/>
                  <a:pt x="11311" y="4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49800" y="1571760"/>
            <a:ext cx="304560" cy="187200"/>
          </a:xfrm>
          <a:custGeom>
            <a:avLst/>
            <a:gdLst/>
            <a:ahLst/>
            <a:rect l="l" t="t" r="r" b="b"/>
            <a:pathLst>
              <a:path w="844" h="522">
                <a:moveTo>
                  <a:pt x="11807" y="4762"/>
                </a:moveTo>
                <a:cubicBezTo>
                  <a:pt x="11846" y="4753"/>
                  <a:pt x="11862" y="4738"/>
                  <a:pt x="11906" y="4738"/>
                </a:cubicBezTo>
                <a:cubicBezTo>
                  <a:pt x="11931" y="4738"/>
                  <a:pt x="11939" y="4738"/>
                  <a:pt x="11956" y="4738"/>
                </a:cubicBezTo>
              </a:path>
              <a:path w="844" h="522">
                <a:moveTo>
                  <a:pt x="12105" y="4638"/>
                </a:moveTo>
                <a:cubicBezTo>
                  <a:pt x="12105" y="4605"/>
                  <a:pt x="12092" y="4558"/>
                  <a:pt x="12129" y="4539"/>
                </a:cubicBezTo>
                <a:cubicBezTo>
                  <a:pt x="12158" y="4524"/>
                  <a:pt x="12286" y="4529"/>
                  <a:pt x="12303" y="4564"/>
                </a:cubicBezTo>
                <a:cubicBezTo>
                  <a:pt x="12324" y="4607"/>
                  <a:pt x="12279" y="4660"/>
                  <a:pt x="12254" y="4688"/>
                </a:cubicBezTo>
                <a:cubicBezTo>
                  <a:pt x="12217" y="4730"/>
                  <a:pt x="12204" y="4757"/>
                  <a:pt x="12204" y="4812"/>
                </a:cubicBezTo>
                <a:cubicBezTo>
                  <a:pt x="12287" y="4812"/>
                  <a:pt x="12369" y="4812"/>
                  <a:pt x="12452" y="4812"/>
                </a:cubicBezTo>
              </a:path>
              <a:path w="844" h="522">
                <a:moveTo>
                  <a:pt x="12328" y="4440"/>
                </a:moveTo>
                <a:cubicBezTo>
                  <a:pt x="12365" y="4375"/>
                  <a:pt x="12393" y="4343"/>
                  <a:pt x="12477" y="4366"/>
                </a:cubicBezTo>
                <a:cubicBezTo>
                  <a:pt x="12563" y="4389"/>
                  <a:pt x="12593" y="4469"/>
                  <a:pt x="12626" y="4539"/>
                </a:cubicBezTo>
                <a:cubicBezTo>
                  <a:pt x="12653" y="4597"/>
                  <a:pt x="12668" y="4696"/>
                  <a:pt x="12650" y="4762"/>
                </a:cubicBezTo>
                <a:cubicBezTo>
                  <a:pt x="12630" y="4836"/>
                  <a:pt x="12597" y="4873"/>
                  <a:pt x="12526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60920" y="1562040"/>
            <a:ext cx="98280" cy="268200"/>
          </a:xfrm>
          <a:custGeom>
            <a:avLst/>
            <a:gdLst/>
            <a:ahLst/>
            <a:rect l="l" t="t" r="r" b="b"/>
            <a:pathLst>
              <a:path w="274" h="745">
                <a:moveTo>
                  <a:pt x="12948" y="4638"/>
                </a:moveTo>
                <a:cubicBezTo>
                  <a:pt x="13008" y="4647"/>
                  <a:pt x="13049" y="4649"/>
                  <a:pt x="13072" y="4713"/>
                </a:cubicBezTo>
                <a:cubicBezTo>
                  <a:pt x="13093" y="4771"/>
                  <a:pt x="13097" y="4823"/>
                  <a:pt x="13097" y="4887"/>
                </a:cubicBezTo>
                <a:cubicBezTo>
                  <a:pt x="13097" y="4944"/>
                  <a:pt x="13081" y="5018"/>
                  <a:pt x="13047" y="5060"/>
                </a:cubicBezTo>
                <a:cubicBezTo>
                  <a:pt x="13025" y="5082"/>
                  <a:pt x="13020" y="5091"/>
                  <a:pt x="12998" y="5085"/>
                </a:cubicBezTo>
              </a:path>
              <a:path w="274" h="745">
                <a:moveTo>
                  <a:pt x="12998" y="4341"/>
                </a:moveTo>
                <a:lnTo>
                  <a:pt x="12998" y="4341"/>
                </a:lnTo>
                <a:lnTo>
                  <a:pt x="12998" y="4341"/>
                </a:lnTo>
                <a:lnTo>
                  <a:pt x="12998" y="4341"/>
                </a:lnTo>
                <a:lnTo>
                  <a:pt x="12998" y="4341"/>
                </a:lnTo>
              </a:path>
              <a:path w="274" h="745">
                <a:moveTo>
                  <a:pt x="13221" y="4961"/>
                </a:moveTo>
                <a:cubicBezTo>
                  <a:pt x="13155" y="4961"/>
                  <a:pt x="13088" y="4961"/>
                  <a:pt x="13022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57160" y="2259000"/>
            <a:ext cx="88920" cy="6336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2604" y="6300"/>
                </a:moveTo>
                <a:cubicBezTo>
                  <a:pt x="2604" y="6292"/>
                  <a:pt x="2604" y="6284"/>
                  <a:pt x="2604" y="6276"/>
                </a:cubicBezTo>
                <a:cubicBezTo>
                  <a:pt x="2530" y="6276"/>
                  <a:pt x="2455" y="6276"/>
                  <a:pt x="2381" y="6276"/>
                </a:cubicBezTo>
              </a:path>
              <a:path w="249" h="174">
                <a:moveTo>
                  <a:pt x="2629" y="6400"/>
                </a:moveTo>
                <a:cubicBezTo>
                  <a:pt x="2589" y="6410"/>
                  <a:pt x="2566" y="6437"/>
                  <a:pt x="2530" y="6449"/>
                </a:cubicBezTo>
                <a:cubicBezTo>
                  <a:pt x="2522" y="6449"/>
                  <a:pt x="2513" y="6449"/>
                  <a:pt x="2505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4920" y="2133720"/>
            <a:ext cx="358920" cy="188640"/>
          </a:xfrm>
          <a:custGeom>
            <a:avLst/>
            <a:gdLst/>
            <a:ahLst/>
            <a:rect l="l" t="t" r="r" b="b"/>
            <a:pathLst>
              <a:path w="993" h="522">
                <a:moveTo>
                  <a:pt x="3349" y="5953"/>
                </a:moveTo>
                <a:cubicBezTo>
                  <a:pt x="3349" y="5928"/>
                  <a:pt x="3349" y="5920"/>
                  <a:pt x="3373" y="5928"/>
                </a:cubicBezTo>
                <a:cubicBezTo>
                  <a:pt x="3373" y="5975"/>
                  <a:pt x="3354" y="6018"/>
                  <a:pt x="3349" y="6052"/>
                </a:cubicBezTo>
                <a:cubicBezTo>
                  <a:pt x="3336" y="6139"/>
                  <a:pt x="3349" y="6237"/>
                  <a:pt x="3349" y="6325"/>
                </a:cubicBezTo>
                <a:cubicBezTo>
                  <a:pt x="3412" y="6325"/>
                  <a:pt x="3446" y="6317"/>
                  <a:pt x="3497" y="6300"/>
                </a:cubicBezTo>
                <a:cubicBezTo>
                  <a:pt x="3531" y="6288"/>
                  <a:pt x="3588" y="6280"/>
                  <a:pt x="3621" y="6276"/>
                </a:cubicBezTo>
                <a:cubicBezTo>
                  <a:pt x="3653" y="6272"/>
                  <a:pt x="3688" y="6276"/>
                  <a:pt x="3721" y="6276"/>
                </a:cubicBezTo>
              </a:path>
              <a:path w="993" h="522">
                <a:moveTo>
                  <a:pt x="3547" y="6226"/>
                </a:moveTo>
                <a:cubicBezTo>
                  <a:pt x="3539" y="6226"/>
                  <a:pt x="3530" y="6226"/>
                  <a:pt x="3522" y="6226"/>
                </a:cubicBezTo>
                <a:cubicBezTo>
                  <a:pt x="3532" y="6264"/>
                  <a:pt x="3534" y="6310"/>
                  <a:pt x="3547" y="6350"/>
                </a:cubicBezTo>
                <a:cubicBezTo>
                  <a:pt x="3564" y="6402"/>
                  <a:pt x="3572" y="6400"/>
                  <a:pt x="3572" y="6449"/>
                </a:cubicBezTo>
              </a:path>
              <a:path w="993" h="522">
                <a:moveTo>
                  <a:pt x="4043" y="6152"/>
                </a:moveTo>
                <a:cubicBezTo>
                  <a:pt x="4066" y="6129"/>
                  <a:pt x="4070" y="6121"/>
                  <a:pt x="4093" y="6127"/>
                </a:cubicBezTo>
                <a:cubicBezTo>
                  <a:pt x="4049" y="6127"/>
                  <a:pt x="4043" y="6133"/>
                  <a:pt x="4018" y="6152"/>
                </a:cubicBezTo>
                <a:cubicBezTo>
                  <a:pt x="3975" y="6184"/>
                  <a:pt x="3969" y="6227"/>
                  <a:pt x="3969" y="6276"/>
                </a:cubicBezTo>
                <a:cubicBezTo>
                  <a:pt x="3969" y="6325"/>
                  <a:pt x="3961" y="6403"/>
                  <a:pt x="4043" y="6375"/>
                </a:cubicBezTo>
                <a:cubicBezTo>
                  <a:pt x="4077" y="6364"/>
                  <a:pt x="4135" y="6282"/>
                  <a:pt x="4142" y="6251"/>
                </a:cubicBezTo>
                <a:cubicBezTo>
                  <a:pt x="4148" y="6224"/>
                  <a:pt x="4142" y="6181"/>
                  <a:pt x="4142" y="6152"/>
                </a:cubicBezTo>
                <a:cubicBezTo>
                  <a:pt x="4191" y="6219"/>
                  <a:pt x="4249" y="6249"/>
                  <a:pt x="4316" y="6300"/>
                </a:cubicBezTo>
                <a:cubicBezTo>
                  <a:pt x="4324" y="6308"/>
                  <a:pt x="4333" y="6317"/>
                  <a:pt x="4341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31960" y="2081160"/>
            <a:ext cx="81000" cy="231840"/>
          </a:xfrm>
          <a:custGeom>
            <a:avLst/>
            <a:gdLst/>
            <a:ahLst/>
            <a:rect l="l" t="t" r="r" b="b"/>
            <a:pathLst>
              <a:path w="224" h="646">
                <a:moveTo>
                  <a:pt x="4837" y="6052"/>
                </a:moveTo>
                <a:cubicBezTo>
                  <a:pt x="4815" y="6082"/>
                  <a:pt x="4794" y="6133"/>
                  <a:pt x="4812" y="6176"/>
                </a:cubicBezTo>
                <a:cubicBezTo>
                  <a:pt x="4835" y="6231"/>
                  <a:pt x="4888" y="6226"/>
                  <a:pt x="4936" y="6226"/>
                </a:cubicBezTo>
                <a:cubicBezTo>
                  <a:pt x="4964" y="6226"/>
                  <a:pt x="4975" y="6224"/>
                  <a:pt x="4986" y="6201"/>
                </a:cubicBezTo>
              </a:path>
              <a:path w="224" h="646">
                <a:moveTo>
                  <a:pt x="4837" y="5779"/>
                </a:moveTo>
                <a:lnTo>
                  <a:pt x="4837" y="5779"/>
                </a:lnTo>
                <a:lnTo>
                  <a:pt x="4837" y="5779"/>
                </a:lnTo>
                <a:lnTo>
                  <a:pt x="4837" y="5779"/>
                </a:lnTo>
                <a:lnTo>
                  <a:pt x="4837" y="5779"/>
                </a:lnTo>
                <a:lnTo>
                  <a:pt x="4837" y="5779"/>
                </a:lnTo>
                <a:lnTo>
                  <a:pt x="4837" y="5779"/>
                </a:lnTo>
              </a:path>
              <a:path w="224" h="646">
                <a:moveTo>
                  <a:pt x="5035" y="6424"/>
                </a:moveTo>
                <a:cubicBezTo>
                  <a:pt x="5021" y="6383"/>
                  <a:pt x="4986" y="6400"/>
                  <a:pt x="4936" y="6400"/>
                </a:cubicBezTo>
                <a:cubicBezTo>
                  <a:pt x="4879" y="6400"/>
                  <a:pt x="4858" y="6398"/>
                  <a:pt x="4812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5880" y="2178000"/>
            <a:ext cx="125280" cy="73080"/>
          </a:xfrm>
          <a:custGeom>
            <a:avLst/>
            <a:gdLst/>
            <a:ahLst/>
            <a:rect l="l" t="t" r="r" b="b"/>
            <a:pathLst>
              <a:path w="348" h="200">
                <a:moveTo>
                  <a:pt x="5755" y="6176"/>
                </a:moveTo>
                <a:cubicBezTo>
                  <a:pt x="5819" y="6176"/>
                  <a:pt x="5716" y="6176"/>
                  <a:pt x="5705" y="6176"/>
                </a:cubicBezTo>
                <a:cubicBezTo>
                  <a:pt x="5614" y="6176"/>
                  <a:pt x="5523" y="6176"/>
                  <a:pt x="5432" y="6176"/>
                </a:cubicBezTo>
              </a:path>
              <a:path w="348" h="200">
                <a:moveTo>
                  <a:pt x="5482" y="6077"/>
                </a:moveTo>
                <a:cubicBezTo>
                  <a:pt x="5504" y="6055"/>
                  <a:pt x="5509" y="6046"/>
                  <a:pt x="5531" y="6052"/>
                </a:cubicBezTo>
                <a:cubicBezTo>
                  <a:pt x="5531" y="6115"/>
                  <a:pt x="5553" y="6142"/>
                  <a:pt x="5556" y="6201"/>
                </a:cubicBezTo>
                <a:cubicBezTo>
                  <a:pt x="5556" y="6218"/>
                  <a:pt x="5556" y="6234"/>
                  <a:pt x="5556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14720" y="2089080"/>
            <a:ext cx="465120" cy="277920"/>
          </a:xfrm>
          <a:custGeom>
            <a:avLst/>
            <a:gdLst/>
            <a:ahLst/>
            <a:rect l="l" t="t" r="r" b="b"/>
            <a:pathLst>
              <a:path w="1290" h="770">
                <a:moveTo>
                  <a:pt x="6176" y="5854"/>
                </a:moveTo>
                <a:cubicBezTo>
                  <a:pt x="6168" y="5854"/>
                  <a:pt x="6160" y="5854"/>
                  <a:pt x="6152" y="5854"/>
                </a:cubicBezTo>
                <a:cubicBezTo>
                  <a:pt x="6165" y="5813"/>
                  <a:pt x="6199" y="5808"/>
                  <a:pt x="6251" y="5804"/>
                </a:cubicBezTo>
                <a:cubicBezTo>
                  <a:pt x="6307" y="5799"/>
                  <a:pt x="6358" y="5795"/>
                  <a:pt x="6400" y="5829"/>
                </a:cubicBezTo>
                <a:cubicBezTo>
                  <a:pt x="6428" y="5852"/>
                  <a:pt x="6440" y="5919"/>
                  <a:pt x="6424" y="5953"/>
                </a:cubicBezTo>
                <a:cubicBezTo>
                  <a:pt x="6402" y="5999"/>
                  <a:pt x="6337" y="6023"/>
                  <a:pt x="6300" y="6052"/>
                </a:cubicBezTo>
                <a:cubicBezTo>
                  <a:pt x="6316" y="6101"/>
                  <a:pt x="6372" y="6085"/>
                  <a:pt x="6424" y="6102"/>
                </a:cubicBezTo>
                <a:cubicBezTo>
                  <a:pt x="6470" y="6118"/>
                  <a:pt x="6549" y="6123"/>
                  <a:pt x="6573" y="6176"/>
                </a:cubicBezTo>
                <a:cubicBezTo>
                  <a:pt x="6573" y="6184"/>
                  <a:pt x="6573" y="6193"/>
                  <a:pt x="6573" y="6201"/>
                </a:cubicBezTo>
                <a:cubicBezTo>
                  <a:pt x="6523" y="6231"/>
                  <a:pt x="6486" y="6226"/>
                  <a:pt x="6424" y="6226"/>
                </a:cubicBezTo>
                <a:cubicBezTo>
                  <a:pt x="6391" y="6226"/>
                  <a:pt x="6358" y="6226"/>
                  <a:pt x="6325" y="6226"/>
                </a:cubicBezTo>
              </a:path>
              <a:path w="1290" h="770">
                <a:moveTo>
                  <a:pt x="6871" y="5978"/>
                </a:moveTo>
                <a:cubicBezTo>
                  <a:pt x="6857" y="5935"/>
                  <a:pt x="6816" y="5949"/>
                  <a:pt x="6772" y="5978"/>
                </a:cubicBezTo>
                <a:cubicBezTo>
                  <a:pt x="6744" y="5997"/>
                  <a:pt x="6711" y="6069"/>
                  <a:pt x="6722" y="6102"/>
                </a:cubicBezTo>
                <a:cubicBezTo>
                  <a:pt x="6731" y="6129"/>
                  <a:pt x="6798" y="6140"/>
                  <a:pt x="6821" y="6127"/>
                </a:cubicBezTo>
                <a:cubicBezTo>
                  <a:pt x="6864" y="6103"/>
                  <a:pt x="6871" y="6071"/>
                  <a:pt x="6871" y="6028"/>
                </a:cubicBezTo>
                <a:cubicBezTo>
                  <a:pt x="6871" y="6003"/>
                  <a:pt x="6871" y="5995"/>
                  <a:pt x="6871" y="5978"/>
                </a:cubicBezTo>
                <a:cubicBezTo>
                  <a:pt x="6881" y="6007"/>
                  <a:pt x="6913" y="6042"/>
                  <a:pt x="6945" y="6077"/>
                </a:cubicBezTo>
                <a:cubicBezTo>
                  <a:pt x="6985" y="6122"/>
                  <a:pt x="6986" y="6119"/>
                  <a:pt x="7045" y="6127"/>
                </a:cubicBezTo>
              </a:path>
              <a:path w="1290" h="770">
                <a:moveTo>
                  <a:pt x="7218" y="6003"/>
                </a:moveTo>
                <a:cubicBezTo>
                  <a:pt x="7255" y="6012"/>
                  <a:pt x="7287" y="6026"/>
                  <a:pt x="7317" y="6052"/>
                </a:cubicBezTo>
                <a:cubicBezTo>
                  <a:pt x="7374" y="6102"/>
                  <a:pt x="7370" y="6136"/>
                  <a:pt x="7392" y="6201"/>
                </a:cubicBezTo>
                <a:cubicBezTo>
                  <a:pt x="7413" y="6263"/>
                  <a:pt x="7438" y="6293"/>
                  <a:pt x="7392" y="6350"/>
                </a:cubicBezTo>
                <a:cubicBezTo>
                  <a:pt x="7363" y="6386"/>
                  <a:pt x="7320" y="6422"/>
                  <a:pt x="7268" y="6400"/>
                </a:cubicBezTo>
                <a:cubicBezTo>
                  <a:pt x="7215" y="6378"/>
                  <a:pt x="7200" y="6321"/>
                  <a:pt x="7193" y="6276"/>
                </a:cubicBezTo>
              </a:path>
              <a:path w="1290" h="770">
                <a:moveTo>
                  <a:pt x="7193" y="5854"/>
                </a:moveTo>
                <a:cubicBezTo>
                  <a:pt x="7193" y="5846"/>
                  <a:pt x="7193" y="5837"/>
                  <a:pt x="7193" y="5829"/>
                </a:cubicBezTo>
              </a:path>
              <a:path w="1290" h="770">
                <a:moveTo>
                  <a:pt x="7417" y="6499"/>
                </a:moveTo>
                <a:cubicBezTo>
                  <a:pt x="7425" y="6499"/>
                  <a:pt x="7433" y="6499"/>
                  <a:pt x="7441" y="6499"/>
                </a:cubicBezTo>
                <a:cubicBezTo>
                  <a:pt x="7424" y="6551"/>
                  <a:pt x="7390" y="6524"/>
                  <a:pt x="7342" y="6548"/>
                </a:cubicBezTo>
                <a:cubicBezTo>
                  <a:pt x="7300" y="6569"/>
                  <a:pt x="7294" y="6573"/>
                  <a:pt x="7243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4040" y="208908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8136" y="5829"/>
                </a:moveTo>
                <a:cubicBezTo>
                  <a:pt x="8144" y="5821"/>
                  <a:pt x="8153" y="5812"/>
                  <a:pt x="8161" y="5804"/>
                </a:cubicBezTo>
                <a:cubicBezTo>
                  <a:pt x="8115" y="5804"/>
                  <a:pt x="8102" y="5824"/>
                  <a:pt x="8062" y="5829"/>
                </a:cubicBezTo>
                <a:cubicBezTo>
                  <a:pt x="8054" y="5829"/>
                  <a:pt x="8045" y="5829"/>
                  <a:pt x="8037" y="5829"/>
                </a:cubicBezTo>
              </a:path>
              <a:path w="174" h="150">
                <a:moveTo>
                  <a:pt x="8161" y="5904"/>
                </a:moveTo>
                <a:cubicBezTo>
                  <a:pt x="8186" y="5904"/>
                  <a:pt x="8194" y="5904"/>
                  <a:pt x="8210" y="5904"/>
                </a:cubicBezTo>
                <a:cubicBezTo>
                  <a:pt x="8199" y="5938"/>
                  <a:pt x="8173" y="5926"/>
                  <a:pt x="8136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87800" y="1990800"/>
            <a:ext cx="268200" cy="23328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9153" y="5606"/>
                </a:moveTo>
                <a:cubicBezTo>
                  <a:pt x="9189" y="5579"/>
                  <a:pt x="9192" y="5589"/>
                  <a:pt x="9203" y="5556"/>
                </a:cubicBezTo>
                <a:cubicBezTo>
                  <a:pt x="9167" y="5529"/>
                  <a:pt x="9129" y="5518"/>
                  <a:pt x="9079" y="5531"/>
                </a:cubicBezTo>
                <a:cubicBezTo>
                  <a:pt x="9002" y="5550"/>
                  <a:pt x="8926" y="5587"/>
                  <a:pt x="8880" y="5655"/>
                </a:cubicBezTo>
                <a:cubicBezTo>
                  <a:pt x="8865" y="5677"/>
                  <a:pt x="8838" y="5748"/>
                  <a:pt x="8855" y="5779"/>
                </a:cubicBezTo>
                <a:cubicBezTo>
                  <a:pt x="8881" y="5825"/>
                  <a:pt x="8963" y="5848"/>
                  <a:pt x="9004" y="5879"/>
                </a:cubicBezTo>
                <a:cubicBezTo>
                  <a:pt x="9044" y="5909"/>
                  <a:pt x="9088" y="5931"/>
                  <a:pt x="9103" y="5978"/>
                </a:cubicBezTo>
                <a:cubicBezTo>
                  <a:pt x="9122" y="6037"/>
                  <a:pt x="9036" y="6049"/>
                  <a:pt x="9004" y="6052"/>
                </a:cubicBezTo>
                <a:cubicBezTo>
                  <a:pt x="8957" y="6056"/>
                  <a:pt x="8942" y="6049"/>
                  <a:pt x="8905" y="6028"/>
                </a:cubicBezTo>
                <a:cubicBezTo>
                  <a:pt x="8914" y="5964"/>
                  <a:pt x="8942" y="5937"/>
                  <a:pt x="8979" y="5879"/>
                </a:cubicBezTo>
                <a:cubicBezTo>
                  <a:pt x="9009" y="5833"/>
                  <a:pt x="9078" y="5708"/>
                  <a:pt x="9128" y="5680"/>
                </a:cubicBezTo>
                <a:cubicBezTo>
                  <a:pt x="9136" y="5680"/>
                  <a:pt x="9145" y="5680"/>
                  <a:pt x="9153" y="5680"/>
                </a:cubicBezTo>
              </a:path>
              <a:path w="745" h="646">
                <a:moveTo>
                  <a:pt x="9401" y="5879"/>
                </a:moveTo>
                <a:cubicBezTo>
                  <a:pt x="9393" y="5879"/>
                  <a:pt x="9384" y="5879"/>
                  <a:pt x="9376" y="5879"/>
                </a:cubicBezTo>
                <a:cubicBezTo>
                  <a:pt x="9376" y="5925"/>
                  <a:pt x="9370" y="5943"/>
                  <a:pt x="9401" y="5978"/>
                </a:cubicBezTo>
                <a:cubicBezTo>
                  <a:pt x="9443" y="6025"/>
                  <a:pt x="9451" y="6040"/>
                  <a:pt x="9500" y="6003"/>
                </a:cubicBezTo>
              </a:path>
              <a:path w="745" h="646">
                <a:moveTo>
                  <a:pt x="9451" y="5755"/>
                </a:moveTo>
                <a:cubicBezTo>
                  <a:pt x="9434" y="5738"/>
                  <a:pt x="9418" y="5722"/>
                  <a:pt x="9401" y="5705"/>
                </a:cubicBezTo>
              </a:path>
              <a:path w="745" h="646">
                <a:moveTo>
                  <a:pt x="9599" y="6176"/>
                </a:moveTo>
                <a:cubicBezTo>
                  <a:pt x="9541" y="6176"/>
                  <a:pt x="9484" y="6176"/>
                  <a:pt x="9426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54280" y="2071800"/>
            <a:ext cx="115920" cy="8100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10195" y="5879"/>
                </a:moveTo>
                <a:cubicBezTo>
                  <a:pt x="10153" y="5879"/>
                  <a:pt x="10131" y="5890"/>
                  <a:pt x="10096" y="5904"/>
                </a:cubicBezTo>
                <a:cubicBezTo>
                  <a:pt x="10030" y="5932"/>
                  <a:pt x="10021" y="5953"/>
                  <a:pt x="9947" y="5953"/>
                </a:cubicBezTo>
                <a:cubicBezTo>
                  <a:pt x="9905" y="5953"/>
                  <a:pt x="9897" y="5953"/>
                  <a:pt x="9872" y="5953"/>
                </a:cubicBezTo>
              </a:path>
              <a:path w="324" h="224">
                <a:moveTo>
                  <a:pt x="9947" y="5779"/>
                </a:moveTo>
                <a:cubicBezTo>
                  <a:pt x="9947" y="5771"/>
                  <a:pt x="9947" y="5763"/>
                  <a:pt x="9947" y="5755"/>
                </a:cubicBezTo>
                <a:cubicBezTo>
                  <a:pt x="9980" y="5800"/>
                  <a:pt x="9993" y="5845"/>
                  <a:pt x="9996" y="5904"/>
                </a:cubicBezTo>
                <a:cubicBezTo>
                  <a:pt x="9996" y="5945"/>
                  <a:pt x="9996" y="5953"/>
                  <a:pt x="9996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11760" y="1928880"/>
            <a:ext cx="1872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10939" y="5432"/>
                </a:moveTo>
                <a:cubicBezTo>
                  <a:pt x="10876" y="5448"/>
                  <a:pt x="10867" y="5491"/>
                  <a:pt x="10864" y="5556"/>
                </a:cubicBezTo>
                <a:cubicBezTo>
                  <a:pt x="10860" y="5652"/>
                  <a:pt x="10862" y="5737"/>
                  <a:pt x="10889" y="5829"/>
                </a:cubicBezTo>
                <a:cubicBezTo>
                  <a:pt x="10911" y="5896"/>
                  <a:pt x="10916" y="5914"/>
                  <a:pt x="10939" y="5953"/>
                </a:cubicBezTo>
              </a:path>
              <a:path w="522" h="596">
                <a:moveTo>
                  <a:pt x="11137" y="5383"/>
                </a:moveTo>
                <a:cubicBezTo>
                  <a:pt x="11137" y="5316"/>
                  <a:pt x="11137" y="5421"/>
                  <a:pt x="11137" y="5432"/>
                </a:cubicBezTo>
                <a:cubicBezTo>
                  <a:pt x="11137" y="5540"/>
                  <a:pt x="11137" y="5647"/>
                  <a:pt x="11137" y="5755"/>
                </a:cubicBezTo>
                <a:cubicBezTo>
                  <a:pt x="11137" y="5817"/>
                  <a:pt x="11160" y="5690"/>
                  <a:pt x="11162" y="5680"/>
                </a:cubicBezTo>
                <a:cubicBezTo>
                  <a:pt x="11178" y="5608"/>
                  <a:pt x="11179" y="5588"/>
                  <a:pt x="11261" y="5581"/>
                </a:cubicBezTo>
                <a:cubicBezTo>
                  <a:pt x="11289" y="5579"/>
                  <a:pt x="11375" y="5645"/>
                  <a:pt x="11385" y="5680"/>
                </a:cubicBezTo>
                <a:cubicBezTo>
                  <a:pt x="11403" y="5746"/>
                  <a:pt x="11372" y="5784"/>
                  <a:pt x="11311" y="5804"/>
                </a:cubicBezTo>
                <a:cubicBezTo>
                  <a:pt x="11265" y="5819"/>
                  <a:pt x="11227" y="5794"/>
                  <a:pt x="11187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05160" y="1901880"/>
            <a:ext cx="492120" cy="312840"/>
          </a:xfrm>
          <a:custGeom>
            <a:avLst/>
            <a:gdLst/>
            <a:ahLst/>
            <a:rect l="l" t="t" r="r" b="b"/>
            <a:pathLst>
              <a:path w="1365" h="870">
                <a:moveTo>
                  <a:pt x="11708" y="5755"/>
                </a:moveTo>
                <a:cubicBezTo>
                  <a:pt x="11700" y="5747"/>
                  <a:pt x="11691" y="5738"/>
                  <a:pt x="11683" y="5730"/>
                </a:cubicBezTo>
                <a:cubicBezTo>
                  <a:pt x="11729" y="5730"/>
                  <a:pt x="11741" y="5710"/>
                  <a:pt x="11782" y="5705"/>
                </a:cubicBezTo>
                <a:cubicBezTo>
                  <a:pt x="11822" y="5701"/>
                  <a:pt x="11866" y="5705"/>
                  <a:pt x="11906" y="5705"/>
                </a:cubicBezTo>
              </a:path>
              <a:path w="1365" h="870">
                <a:moveTo>
                  <a:pt x="12105" y="5581"/>
                </a:moveTo>
                <a:cubicBezTo>
                  <a:pt x="12105" y="5535"/>
                  <a:pt x="12102" y="5513"/>
                  <a:pt x="12154" y="5507"/>
                </a:cubicBezTo>
                <a:cubicBezTo>
                  <a:pt x="12194" y="5503"/>
                  <a:pt x="12282" y="5489"/>
                  <a:pt x="12303" y="5531"/>
                </a:cubicBezTo>
                <a:cubicBezTo>
                  <a:pt x="12320" y="5565"/>
                  <a:pt x="12298" y="5609"/>
                  <a:pt x="12278" y="5631"/>
                </a:cubicBezTo>
                <a:cubicBezTo>
                  <a:pt x="12248" y="5665"/>
                  <a:pt x="12209" y="5684"/>
                  <a:pt x="12204" y="5730"/>
                </a:cubicBezTo>
                <a:cubicBezTo>
                  <a:pt x="12204" y="5738"/>
                  <a:pt x="12204" y="5747"/>
                  <a:pt x="12204" y="5755"/>
                </a:cubicBezTo>
                <a:cubicBezTo>
                  <a:pt x="12251" y="5755"/>
                  <a:pt x="12283" y="5735"/>
                  <a:pt x="12328" y="5730"/>
                </a:cubicBezTo>
                <a:cubicBezTo>
                  <a:pt x="12373" y="5726"/>
                  <a:pt x="12398" y="5705"/>
                  <a:pt x="12452" y="5705"/>
                </a:cubicBezTo>
              </a:path>
              <a:path w="1365" h="870">
                <a:moveTo>
                  <a:pt x="12402" y="5308"/>
                </a:moveTo>
                <a:cubicBezTo>
                  <a:pt x="12424" y="5274"/>
                  <a:pt x="12451" y="5283"/>
                  <a:pt x="12502" y="5283"/>
                </a:cubicBezTo>
                <a:cubicBezTo>
                  <a:pt x="12573" y="5283"/>
                  <a:pt x="12618" y="5329"/>
                  <a:pt x="12650" y="5383"/>
                </a:cubicBezTo>
                <a:cubicBezTo>
                  <a:pt x="12693" y="5456"/>
                  <a:pt x="12736" y="5598"/>
                  <a:pt x="12700" y="5680"/>
                </a:cubicBezTo>
                <a:cubicBezTo>
                  <a:pt x="12668" y="5753"/>
                  <a:pt x="12585" y="5808"/>
                  <a:pt x="12526" y="5854"/>
                </a:cubicBezTo>
                <a:cubicBezTo>
                  <a:pt x="12468" y="5899"/>
                  <a:pt x="12449" y="5876"/>
                  <a:pt x="12402" y="5829"/>
                </a:cubicBezTo>
              </a:path>
              <a:path w="1365" h="870">
                <a:moveTo>
                  <a:pt x="12973" y="5556"/>
                </a:moveTo>
                <a:cubicBezTo>
                  <a:pt x="12998" y="5556"/>
                  <a:pt x="13006" y="5556"/>
                  <a:pt x="13022" y="5556"/>
                </a:cubicBezTo>
                <a:cubicBezTo>
                  <a:pt x="13022" y="5611"/>
                  <a:pt x="13043" y="5650"/>
                  <a:pt x="13047" y="5705"/>
                </a:cubicBezTo>
                <a:cubicBezTo>
                  <a:pt x="13052" y="5772"/>
                  <a:pt x="13078" y="5953"/>
                  <a:pt x="13022" y="6003"/>
                </a:cubicBezTo>
                <a:cubicBezTo>
                  <a:pt x="12995" y="6027"/>
                  <a:pt x="12917" y="5994"/>
                  <a:pt x="12898" y="5978"/>
                </a:cubicBezTo>
                <a:cubicBezTo>
                  <a:pt x="12871" y="5950"/>
                  <a:pt x="12863" y="5936"/>
                  <a:pt x="12874" y="5904"/>
                </a:cubicBezTo>
              </a:path>
              <a:path w="1365" h="870">
                <a:moveTo>
                  <a:pt x="12998" y="5383"/>
                </a:moveTo>
                <a:lnTo>
                  <a:pt x="12998" y="5383"/>
                </a:lnTo>
                <a:lnTo>
                  <a:pt x="12998" y="5383"/>
                </a:lnTo>
                <a:lnTo>
                  <a:pt x="12998" y="5383"/>
                </a:lnTo>
              </a:path>
              <a:path w="1365" h="870">
                <a:moveTo>
                  <a:pt x="13047" y="6127"/>
                </a:moveTo>
                <a:cubicBezTo>
                  <a:pt x="12992" y="6127"/>
                  <a:pt x="12976" y="6139"/>
                  <a:pt x="12923" y="6152"/>
                </a:cubicBezTo>
                <a:cubicBezTo>
                  <a:pt x="12915" y="6152"/>
                  <a:pt x="12906" y="6152"/>
                  <a:pt x="12898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8080" y="2232000"/>
            <a:ext cx="2409840" cy="447840"/>
          </a:xfrm>
          <a:custGeom>
            <a:avLst/>
            <a:gdLst/>
            <a:ahLst/>
            <a:rect l="l" t="t" r="r" b="b"/>
            <a:pathLst>
              <a:path w="6698" h="1241">
                <a:moveTo>
                  <a:pt x="5259" y="6350"/>
                </a:moveTo>
                <a:cubicBezTo>
                  <a:pt x="5259" y="6342"/>
                  <a:pt x="5259" y="6333"/>
                  <a:pt x="5259" y="6325"/>
                </a:cubicBezTo>
                <a:cubicBezTo>
                  <a:pt x="5264" y="6366"/>
                  <a:pt x="5277" y="6386"/>
                  <a:pt x="5283" y="6424"/>
                </a:cubicBezTo>
                <a:cubicBezTo>
                  <a:pt x="5289" y="6459"/>
                  <a:pt x="5304" y="6498"/>
                  <a:pt x="5308" y="6524"/>
                </a:cubicBezTo>
                <a:cubicBezTo>
                  <a:pt x="5313" y="6555"/>
                  <a:pt x="5308" y="6592"/>
                  <a:pt x="5308" y="6623"/>
                </a:cubicBezTo>
                <a:cubicBezTo>
                  <a:pt x="5266" y="6618"/>
                  <a:pt x="5247" y="6604"/>
                  <a:pt x="5209" y="6598"/>
                </a:cubicBezTo>
                <a:cubicBezTo>
                  <a:pt x="5108" y="6581"/>
                  <a:pt x="4997" y="6608"/>
                  <a:pt x="4911" y="6623"/>
                </a:cubicBezTo>
                <a:cubicBezTo>
                  <a:pt x="4810" y="6640"/>
                  <a:pt x="4691" y="6623"/>
                  <a:pt x="4589" y="6623"/>
                </a:cubicBezTo>
                <a:cubicBezTo>
                  <a:pt x="4565" y="6637"/>
                  <a:pt x="4567" y="6645"/>
                  <a:pt x="4514" y="6648"/>
                </a:cubicBezTo>
                <a:cubicBezTo>
                  <a:pt x="4490" y="6648"/>
                  <a:pt x="4481" y="6648"/>
                  <a:pt x="4465" y="6648"/>
                </a:cubicBezTo>
                <a:cubicBezTo>
                  <a:pt x="4442" y="6661"/>
                  <a:pt x="4441" y="6669"/>
                  <a:pt x="4390" y="6672"/>
                </a:cubicBezTo>
                <a:cubicBezTo>
                  <a:pt x="4324" y="6676"/>
                  <a:pt x="4258" y="6672"/>
                  <a:pt x="4192" y="6672"/>
                </a:cubicBezTo>
                <a:cubicBezTo>
                  <a:pt x="4168" y="6686"/>
                  <a:pt x="4170" y="6694"/>
                  <a:pt x="4118" y="6697"/>
                </a:cubicBezTo>
                <a:cubicBezTo>
                  <a:pt x="4014" y="6703"/>
                  <a:pt x="3911" y="6707"/>
                  <a:pt x="3820" y="6722"/>
                </a:cubicBezTo>
                <a:cubicBezTo>
                  <a:pt x="3692" y="6743"/>
                  <a:pt x="3542" y="6727"/>
                  <a:pt x="3423" y="6747"/>
                </a:cubicBezTo>
                <a:cubicBezTo>
                  <a:pt x="3314" y="6765"/>
                  <a:pt x="3186" y="6747"/>
                  <a:pt x="3076" y="6747"/>
                </a:cubicBezTo>
                <a:cubicBezTo>
                  <a:pt x="3076" y="6695"/>
                  <a:pt x="3094" y="6662"/>
                  <a:pt x="3101" y="6623"/>
                </a:cubicBezTo>
                <a:cubicBezTo>
                  <a:pt x="3109" y="6575"/>
                  <a:pt x="3112" y="6571"/>
                  <a:pt x="3125" y="6548"/>
                </a:cubicBezTo>
              </a:path>
              <a:path w="6698" h="1241">
                <a:moveTo>
                  <a:pt x="8632" y="6226"/>
                </a:moveTo>
                <a:cubicBezTo>
                  <a:pt x="8632" y="6284"/>
                  <a:pt x="8632" y="6342"/>
                  <a:pt x="8632" y="6400"/>
                </a:cubicBezTo>
                <a:cubicBezTo>
                  <a:pt x="8758" y="6400"/>
                  <a:pt x="8893" y="6388"/>
                  <a:pt x="9004" y="6424"/>
                </a:cubicBezTo>
                <a:cubicBezTo>
                  <a:pt x="9112" y="6459"/>
                  <a:pt x="9329" y="6431"/>
                  <a:pt x="9426" y="6400"/>
                </a:cubicBezTo>
                <a:cubicBezTo>
                  <a:pt x="9520" y="6370"/>
                  <a:pt x="9674" y="6400"/>
                  <a:pt x="9773" y="6400"/>
                </a:cubicBezTo>
                <a:cubicBezTo>
                  <a:pt x="9773" y="6334"/>
                  <a:pt x="9762" y="6289"/>
                  <a:pt x="9748" y="6226"/>
                </a:cubicBezTo>
                <a:cubicBezTo>
                  <a:pt x="9748" y="6218"/>
                  <a:pt x="9748" y="6209"/>
                  <a:pt x="9748" y="6201"/>
                </a:cubicBezTo>
              </a:path>
              <a:path w="6698" h="1241">
                <a:moveTo>
                  <a:pt x="3572" y="7268"/>
                </a:moveTo>
                <a:cubicBezTo>
                  <a:pt x="3580" y="7268"/>
                  <a:pt x="3589" y="7268"/>
                  <a:pt x="3597" y="7268"/>
                </a:cubicBezTo>
                <a:cubicBezTo>
                  <a:pt x="3597" y="7225"/>
                  <a:pt x="3592" y="7208"/>
                  <a:pt x="3547" y="7193"/>
                </a:cubicBezTo>
                <a:cubicBezTo>
                  <a:pt x="3512" y="7181"/>
                  <a:pt x="3467" y="7151"/>
                  <a:pt x="3423" y="7169"/>
                </a:cubicBezTo>
                <a:cubicBezTo>
                  <a:pt x="3374" y="7189"/>
                  <a:pt x="3352" y="7275"/>
                  <a:pt x="3349" y="7317"/>
                </a:cubicBezTo>
                <a:cubicBezTo>
                  <a:pt x="3344" y="7373"/>
                  <a:pt x="3387" y="7406"/>
                  <a:pt x="3423" y="7441"/>
                </a:cubicBezTo>
                <a:cubicBezTo>
                  <a:pt x="3456" y="7425"/>
                  <a:pt x="3510" y="7366"/>
                  <a:pt x="3522" y="7317"/>
                </a:cubicBezTo>
                <a:cubicBezTo>
                  <a:pt x="3535" y="7261"/>
                  <a:pt x="3518" y="7242"/>
                  <a:pt x="3547" y="7193"/>
                </a:cubicBezTo>
                <a:cubicBezTo>
                  <a:pt x="3587" y="7213"/>
                  <a:pt x="3618" y="7271"/>
                  <a:pt x="3646" y="7317"/>
                </a:cubicBezTo>
                <a:cubicBezTo>
                  <a:pt x="3654" y="7334"/>
                  <a:pt x="3663" y="7350"/>
                  <a:pt x="3671" y="7367"/>
                </a:cubicBezTo>
              </a:path>
              <a:path w="6698" h="1241">
                <a:moveTo>
                  <a:pt x="4118" y="7193"/>
                </a:moveTo>
                <a:cubicBezTo>
                  <a:pt x="4126" y="7193"/>
                  <a:pt x="4134" y="7193"/>
                  <a:pt x="4142" y="7193"/>
                </a:cubicBezTo>
                <a:cubicBezTo>
                  <a:pt x="4076" y="7193"/>
                  <a:pt x="4010" y="7193"/>
                  <a:pt x="3944" y="7193"/>
                </a:cubicBezTo>
              </a:path>
              <a:path w="6698" h="1241">
                <a:moveTo>
                  <a:pt x="4118" y="7293"/>
                </a:moveTo>
                <a:cubicBezTo>
                  <a:pt x="4126" y="7293"/>
                  <a:pt x="4134" y="7293"/>
                  <a:pt x="4142" y="7293"/>
                </a:cubicBezTo>
                <a:cubicBezTo>
                  <a:pt x="4097" y="7308"/>
                  <a:pt x="4117" y="7317"/>
                  <a:pt x="4043" y="7317"/>
                </a:cubicBezTo>
                <a:cubicBezTo>
                  <a:pt x="4004" y="7317"/>
                  <a:pt x="3989" y="7342"/>
                  <a:pt x="3944" y="7342"/>
                </a:cubicBezTo>
              </a:path>
              <a:path w="6698" h="1241">
                <a:moveTo>
                  <a:pt x="4440" y="7020"/>
                </a:moveTo>
                <a:cubicBezTo>
                  <a:pt x="4432" y="7020"/>
                  <a:pt x="4423" y="7020"/>
                  <a:pt x="4415" y="7020"/>
                </a:cubicBezTo>
                <a:cubicBezTo>
                  <a:pt x="4429" y="6979"/>
                  <a:pt x="4436" y="6975"/>
                  <a:pt x="4490" y="6970"/>
                </a:cubicBezTo>
                <a:cubicBezTo>
                  <a:pt x="4541" y="6965"/>
                  <a:pt x="4577" y="6962"/>
                  <a:pt x="4614" y="6995"/>
                </a:cubicBezTo>
                <a:cubicBezTo>
                  <a:pt x="4661" y="7037"/>
                  <a:pt x="4637" y="7093"/>
                  <a:pt x="4614" y="7144"/>
                </a:cubicBezTo>
                <a:cubicBezTo>
                  <a:pt x="4584" y="7213"/>
                  <a:pt x="4549" y="7306"/>
                  <a:pt x="4514" y="7367"/>
                </a:cubicBezTo>
                <a:cubicBezTo>
                  <a:pt x="4492" y="7390"/>
                  <a:pt x="4484" y="7395"/>
                  <a:pt x="4490" y="7417"/>
                </a:cubicBezTo>
                <a:cubicBezTo>
                  <a:pt x="4549" y="7417"/>
                  <a:pt x="4585" y="7394"/>
                  <a:pt x="4638" y="7367"/>
                </a:cubicBezTo>
                <a:cubicBezTo>
                  <a:pt x="4698" y="7337"/>
                  <a:pt x="4747" y="7324"/>
                  <a:pt x="4812" y="7317"/>
                </a:cubicBezTo>
              </a:path>
              <a:path w="6698" h="1241">
                <a:moveTo>
                  <a:pt x="7764" y="6400"/>
                </a:moveTo>
                <a:cubicBezTo>
                  <a:pt x="7743" y="6384"/>
                  <a:pt x="7735" y="6391"/>
                  <a:pt x="7714" y="6375"/>
                </a:cubicBezTo>
                <a:cubicBezTo>
                  <a:pt x="7714" y="6435"/>
                  <a:pt x="7730" y="6468"/>
                  <a:pt x="7739" y="6524"/>
                </a:cubicBezTo>
                <a:cubicBezTo>
                  <a:pt x="7747" y="6574"/>
                  <a:pt x="7757" y="6623"/>
                  <a:pt x="7764" y="6672"/>
                </a:cubicBezTo>
                <a:cubicBezTo>
                  <a:pt x="7768" y="6703"/>
                  <a:pt x="7764" y="6740"/>
                  <a:pt x="7764" y="6772"/>
                </a:cubicBezTo>
                <a:cubicBezTo>
                  <a:pt x="7720" y="6757"/>
                  <a:pt x="7688" y="6760"/>
                  <a:pt x="7640" y="6747"/>
                </a:cubicBezTo>
                <a:cubicBezTo>
                  <a:pt x="7585" y="6733"/>
                  <a:pt x="7549" y="6724"/>
                  <a:pt x="7491" y="6722"/>
                </a:cubicBezTo>
                <a:cubicBezTo>
                  <a:pt x="7429" y="6719"/>
                  <a:pt x="7400" y="6700"/>
                  <a:pt x="7342" y="6697"/>
                </a:cubicBezTo>
                <a:cubicBezTo>
                  <a:pt x="7213" y="6691"/>
                  <a:pt x="7085" y="6695"/>
                  <a:pt x="6970" y="6672"/>
                </a:cubicBezTo>
                <a:cubicBezTo>
                  <a:pt x="6862" y="6650"/>
                  <a:pt x="6503" y="6632"/>
                  <a:pt x="6424" y="6697"/>
                </a:cubicBezTo>
                <a:cubicBezTo>
                  <a:pt x="6400" y="6717"/>
                  <a:pt x="6394" y="6719"/>
                  <a:pt x="6350" y="6722"/>
                </a:cubicBezTo>
                <a:cubicBezTo>
                  <a:pt x="6302" y="6725"/>
                  <a:pt x="6291" y="6735"/>
                  <a:pt x="6251" y="6747"/>
                </a:cubicBezTo>
                <a:cubicBezTo>
                  <a:pt x="6243" y="6747"/>
                  <a:pt x="6234" y="6747"/>
                  <a:pt x="6226" y="6747"/>
                </a:cubicBezTo>
                <a:cubicBezTo>
                  <a:pt x="6226" y="6664"/>
                  <a:pt x="6226" y="6582"/>
                  <a:pt x="6226" y="649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90880" y="2133720"/>
            <a:ext cx="1876320" cy="1216080"/>
          </a:xfrm>
          <a:custGeom>
            <a:avLst/>
            <a:gdLst/>
            <a:ahLst/>
            <a:rect l="l" t="t" r="r" b="b"/>
            <a:pathLst>
              <a:path w="5210" h="3375">
                <a:moveTo>
                  <a:pt x="13469" y="5978"/>
                </a:moveTo>
                <a:cubicBezTo>
                  <a:pt x="13477" y="5993"/>
                  <a:pt x="13482" y="6016"/>
                  <a:pt x="13494" y="6052"/>
                </a:cubicBezTo>
                <a:cubicBezTo>
                  <a:pt x="13508" y="6097"/>
                  <a:pt x="13517" y="6118"/>
                  <a:pt x="13519" y="6176"/>
                </a:cubicBezTo>
                <a:cubicBezTo>
                  <a:pt x="13522" y="6245"/>
                  <a:pt x="13524" y="6293"/>
                  <a:pt x="13494" y="6325"/>
                </a:cubicBezTo>
                <a:cubicBezTo>
                  <a:pt x="13474" y="6347"/>
                  <a:pt x="13470" y="6358"/>
                  <a:pt x="13419" y="6350"/>
                </a:cubicBezTo>
                <a:cubicBezTo>
                  <a:pt x="13370" y="6343"/>
                  <a:pt x="13324" y="6309"/>
                  <a:pt x="13271" y="6300"/>
                </a:cubicBezTo>
                <a:cubicBezTo>
                  <a:pt x="13097" y="6271"/>
                  <a:pt x="12891" y="6305"/>
                  <a:pt x="12725" y="6325"/>
                </a:cubicBezTo>
                <a:cubicBezTo>
                  <a:pt x="12635" y="6336"/>
                  <a:pt x="12538" y="6340"/>
                  <a:pt x="12452" y="6350"/>
                </a:cubicBezTo>
                <a:cubicBezTo>
                  <a:pt x="12363" y="6361"/>
                  <a:pt x="12285" y="6335"/>
                  <a:pt x="12204" y="6325"/>
                </a:cubicBezTo>
                <a:cubicBezTo>
                  <a:pt x="12138" y="6317"/>
                  <a:pt x="12059" y="6307"/>
                  <a:pt x="12005" y="6300"/>
                </a:cubicBezTo>
                <a:cubicBezTo>
                  <a:pt x="11941" y="6292"/>
                  <a:pt x="11882" y="6319"/>
                  <a:pt x="11832" y="6325"/>
                </a:cubicBezTo>
                <a:cubicBezTo>
                  <a:pt x="11787" y="6330"/>
                  <a:pt x="11763" y="6302"/>
                  <a:pt x="11733" y="6300"/>
                </a:cubicBezTo>
                <a:cubicBezTo>
                  <a:pt x="11690" y="6296"/>
                  <a:pt x="11640" y="6279"/>
                  <a:pt x="11609" y="6276"/>
                </a:cubicBezTo>
                <a:cubicBezTo>
                  <a:pt x="11559" y="6271"/>
                  <a:pt x="11527" y="6265"/>
                  <a:pt x="11485" y="6251"/>
                </a:cubicBezTo>
                <a:cubicBezTo>
                  <a:pt x="11433" y="6234"/>
                  <a:pt x="11394" y="6228"/>
                  <a:pt x="11336" y="6226"/>
                </a:cubicBezTo>
                <a:cubicBezTo>
                  <a:pt x="11226" y="6222"/>
                  <a:pt x="10589" y="6294"/>
                  <a:pt x="10542" y="6201"/>
                </a:cubicBezTo>
                <a:cubicBezTo>
                  <a:pt x="10529" y="6176"/>
                  <a:pt x="10515" y="6081"/>
                  <a:pt x="10517" y="6052"/>
                </a:cubicBezTo>
                <a:cubicBezTo>
                  <a:pt x="10520" y="6005"/>
                  <a:pt x="10532" y="5972"/>
                  <a:pt x="10542" y="5928"/>
                </a:cubicBezTo>
              </a:path>
              <a:path w="5210" h="3375">
                <a:moveTo>
                  <a:pt x="8334" y="7516"/>
                </a:moveTo>
                <a:cubicBezTo>
                  <a:pt x="8318" y="7493"/>
                  <a:pt x="8292" y="7450"/>
                  <a:pt x="8310" y="7417"/>
                </a:cubicBezTo>
                <a:cubicBezTo>
                  <a:pt x="8342" y="7358"/>
                  <a:pt x="8384" y="7360"/>
                  <a:pt x="8434" y="7342"/>
                </a:cubicBezTo>
                <a:cubicBezTo>
                  <a:pt x="8499" y="7319"/>
                  <a:pt x="8556" y="7318"/>
                  <a:pt x="8582" y="7392"/>
                </a:cubicBezTo>
                <a:cubicBezTo>
                  <a:pt x="8597" y="7435"/>
                  <a:pt x="8566" y="7492"/>
                  <a:pt x="8533" y="7516"/>
                </a:cubicBezTo>
                <a:cubicBezTo>
                  <a:pt x="8483" y="7552"/>
                  <a:pt x="8433" y="7566"/>
                  <a:pt x="8409" y="7615"/>
                </a:cubicBezTo>
                <a:cubicBezTo>
                  <a:pt x="8434" y="7666"/>
                  <a:pt x="8500" y="7685"/>
                  <a:pt x="8558" y="7714"/>
                </a:cubicBezTo>
                <a:cubicBezTo>
                  <a:pt x="8606" y="7738"/>
                  <a:pt x="8678" y="7753"/>
                  <a:pt x="8682" y="7813"/>
                </a:cubicBezTo>
                <a:cubicBezTo>
                  <a:pt x="8687" y="7878"/>
                  <a:pt x="8644" y="7884"/>
                  <a:pt x="8582" y="7888"/>
                </a:cubicBezTo>
                <a:cubicBezTo>
                  <a:pt x="8515" y="7892"/>
                  <a:pt x="8470" y="7884"/>
                  <a:pt x="8409" y="7863"/>
                </a:cubicBezTo>
              </a:path>
              <a:path w="5210" h="3375">
                <a:moveTo>
                  <a:pt x="8855" y="7665"/>
                </a:moveTo>
                <a:cubicBezTo>
                  <a:pt x="8863" y="7657"/>
                  <a:pt x="8872" y="7648"/>
                  <a:pt x="8880" y="7640"/>
                </a:cubicBezTo>
                <a:cubicBezTo>
                  <a:pt x="8843" y="7612"/>
                  <a:pt x="8794" y="7591"/>
                  <a:pt x="8756" y="7640"/>
                </a:cubicBezTo>
                <a:cubicBezTo>
                  <a:pt x="8719" y="7688"/>
                  <a:pt x="8683" y="7756"/>
                  <a:pt x="8756" y="7789"/>
                </a:cubicBezTo>
                <a:cubicBezTo>
                  <a:pt x="8804" y="7810"/>
                  <a:pt x="8841" y="7749"/>
                  <a:pt x="8855" y="7714"/>
                </a:cubicBezTo>
                <a:cubicBezTo>
                  <a:pt x="8855" y="7706"/>
                  <a:pt x="8855" y="7697"/>
                  <a:pt x="8855" y="7689"/>
                </a:cubicBezTo>
                <a:cubicBezTo>
                  <a:pt x="8918" y="7705"/>
                  <a:pt x="8914" y="7741"/>
                  <a:pt x="8954" y="7789"/>
                </a:cubicBezTo>
                <a:cubicBezTo>
                  <a:pt x="8996" y="7830"/>
                  <a:pt x="9004" y="7838"/>
                  <a:pt x="9029" y="7863"/>
                </a:cubicBezTo>
              </a:path>
              <a:path w="5210" h="3375">
                <a:moveTo>
                  <a:pt x="9599" y="7541"/>
                </a:moveTo>
                <a:cubicBezTo>
                  <a:pt x="9550" y="7570"/>
                  <a:pt x="9512" y="7565"/>
                  <a:pt x="9451" y="7565"/>
                </a:cubicBezTo>
                <a:cubicBezTo>
                  <a:pt x="9443" y="7565"/>
                  <a:pt x="9434" y="7565"/>
                  <a:pt x="9426" y="7565"/>
                </a:cubicBezTo>
              </a:path>
              <a:path w="5210" h="3375">
                <a:moveTo>
                  <a:pt x="9599" y="7665"/>
                </a:moveTo>
                <a:cubicBezTo>
                  <a:pt x="9553" y="7699"/>
                  <a:pt x="9511" y="7689"/>
                  <a:pt x="9451" y="7689"/>
                </a:cubicBezTo>
              </a:path>
              <a:path w="5210" h="3375">
                <a:moveTo>
                  <a:pt x="9947" y="7144"/>
                </a:moveTo>
                <a:cubicBezTo>
                  <a:pt x="9965" y="7086"/>
                  <a:pt x="9973" y="7080"/>
                  <a:pt x="9971" y="7045"/>
                </a:cubicBezTo>
                <a:cubicBezTo>
                  <a:pt x="9971" y="7195"/>
                  <a:pt x="9921" y="7435"/>
                  <a:pt x="9996" y="7565"/>
                </a:cubicBezTo>
                <a:cubicBezTo>
                  <a:pt x="10004" y="7573"/>
                  <a:pt x="10013" y="7582"/>
                  <a:pt x="10021" y="7590"/>
                </a:cubicBezTo>
                <a:cubicBezTo>
                  <a:pt x="10057" y="7581"/>
                  <a:pt x="10101" y="7517"/>
                  <a:pt x="10145" y="7541"/>
                </a:cubicBezTo>
                <a:cubicBezTo>
                  <a:pt x="10186" y="7563"/>
                  <a:pt x="10213" y="7645"/>
                  <a:pt x="10195" y="7689"/>
                </a:cubicBezTo>
                <a:cubicBezTo>
                  <a:pt x="10172" y="7744"/>
                  <a:pt x="10119" y="7739"/>
                  <a:pt x="10071" y="7739"/>
                </a:cubicBezTo>
                <a:cubicBezTo>
                  <a:pt x="10011" y="7739"/>
                  <a:pt x="10009" y="7740"/>
                  <a:pt x="9996" y="7689"/>
                </a:cubicBezTo>
              </a:path>
              <a:path w="5210" h="3375">
                <a:moveTo>
                  <a:pt x="10468" y="7491"/>
                </a:moveTo>
                <a:cubicBezTo>
                  <a:pt x="10517" y="7461"/>
                  <a:pt x="10555" y="7466"/>
                  <a:pt x="10616" y="7466"/>
                </a:cubicBezTo>
                <a:cubicBezTo>
                  <a:pt x="10664" y="7466"/>
                  <a:pt x="10678" y="7468"/>
                  <a:pt x="10716" y="7491"/>
                </a:cubicBezTo>
              </a:path>
              <a:path w="5210" h="3375">
                <a:moveTo>
                  <a:pt x="10939" y="7268"/>
                </a:moveTo>
                <a:cubicBezTo>
                  <a:pt x="10915" y="7250"/>
                  <a:pt x="10865" y="7236"/>
                  <a:pt x="10889" y="7193"/>
                </a:cubicBezTo>
                <a:cubicBezTo>
                  <a:pt x="10920" y="7138"/>
                  <a:pt x="10981" y="7121"/>
                  <a:pt x="11038" y="7119"/>
                </a:cubicBezTo>
                <a:cubicBezTo>
                  <a:pt x="11108" y="7116"/>
                  <a:pt x="11166" y="7114"/>
                  <a:pt x="11187" y="7193"/>
                </a:cubicBezTo>
                <a:cubicBezTo>
                  <a:pt x="11216" y="7300"/>
                  <a:pt x="11114" y="7347"/>
                  <a:pt x="11063" y="7417"/>
                </a:cubicBezTo>
                <a:cubicBezTo>
                  <a:pt x="11020" y="7477"/>
                  <a:pt x="10970" y="7518"/>
                  <a:pt x="10964" y="7590"/>
                </a:cubicBezTo>
                <a:cubicBezTo>
                  <a:pt x="10964" y="7598"/>
                  <a:pt x="10964" y="7607"/>
                  <a:pt x="10964" y="7615"/>
                </a:cubicBezTo>
                <a:cubicBezTo>
                  <a:pt x="11031" y="7615"/>
                  <a:pt x="11082" y="7619"/>
                  <a:pt x="11137" y="7590"/>
                </a:cubicBezTo>
                <a:cubicBezTo>
                  <a:pt x="11190" y="7562"/>
                  <a:pt x="11260" y="7556"/>
                  <a:pt x="11311" y="7541"/>
                </a:cubicBezTo>
                <a:cubicBezTo>
                  <a:pt x="11336" y="7541"/>
                  <a:pt x="11344" y="7541"/>
                  <a:pt x="11336" y="7516"/>
                </a:cubicBezTo>
              </a:path>
              <a:path w="5210" h="3375">
                <a:moveTo>
                  <a:pt x="8731" y="8210"/>
                </a:moveTo>
                <a:cubicBezTo>
                  <a:pt x="8744" y="8173"/>
                  <a:pt x="8756" y="8189"/>
                  <a:pt x="8756" y="8136"/>
                </a:cubicBezTo>
                <a:cubicBezTo>
                  <a:pt x="8756" y="8128"/>
                  <a:pt x="8756" y="8119"/>
                  <a:pt x="8756" y="8111"/>
                </a:cubicBezTo>
                <a:cubicBezTo>
                  <a:pt x="8718" y="8124"/>
                  <a:pt x="8726" y="8133"/>
                  <a:pt x="8706" y="8161"/>
                </a:cubicBezTo>
                <a:cubicBezTo>
                  <a:pt x="8675" y="8204"/>
                  <a:pt x="8635" y="8240"/>
                  <a:pt x="8607" y="8285"/>
                </a:cubicBezTo>
                <a:cubicBezTo>
                  <a:pt x="8577" y="8334"/>
                  <a:pt x="8566" y="8426"/>
                  <a:pt x="8582" y="8483"/>
                </a:cubicBezTo>
                <a:cubicBezTo>
                  <a:pt x="8595" y="8529"/>
                  <a:pt x="8605" y="8609"/>
                  <a:pt x="8657" y="8632"/>
                </a:cubicBezTo>
                <a:cubicBezTo>
                  <a:pt x="8687" y="8645"/>
                  <a:pt x="8746" y="8632"/>
                  <a:pt x="8781" y="8632"/>
                </a:cubicBezTo>
                <a:cubicBezTo>
                  <a:pt x="8781" y="8581"/>
                  <a:pt x="8790" y="8546"/>
                  <a:pt x="8756" y="8508"/>
                </a:cubicBezTo>
                <a:cubicBezTo>
                  <a:pt x="8722" y="8469"/>
                  <a:pt x="8675" y="8484"/>
                  <a:pt x="8632" y="8458"/>
                </a:cubicBezTo>
              </a:path>
              <a:path w="5210" h="3375">
                <a:moveTo>
                  <a:pt x="9302" y="8260"/>
                </a:moveTo>
                <a:cubicBezTo>
                  <a:pt x="9310" y="8260"/>
                  <a:pt x="9319" y="8260"/>
                  <a:pt x="9327" y="8260"/>
                </a:cubicBezTo>
                <a:cubicBezTo>
                  <a:pt x="9286" y="8260"/>
                  <a:pt x="9244" y="8260"/>
                  <a:pt x="9203" y="8260"/>
                </a:cubicBezTo>
              </a:path>
              <a:path w="5210" h="3375">
                <a:moveTo>
                  <a:pt x="9351" y="8359"/>
                </a:moveTo>
                <a:cubicBezTo>
                  <a:pt x="9306" y="8359"/>
                  <a:pt x="9290" y="8346"/>
                  <a:pt x="9277" y="8384"/>
                </a:cubicBezTo>
              </a:path>
              <a:path w="5210" h="3375">
                <a:moveTo>
                  <a:pt x="9798" y="8086"/>
                </a:moveTo>
                <a:cubicBezTo>
                  <a:pt x="9798" y="8022"/>
                  <a:pt x="9798" y="8125"/>
                  <a:pt x="9798" y="8136"/>
                </a:cubicBezTo>
                <a:cubicBezTo>
                  <a:pt x="9798" y="8241"/>
                  <a:pt x="9792" y="8344"/>
                  <a:pt x="9823" y="8434"/>
                </a:cubicBezTo>
                <a:cubicBezTo>
                  <a:pt x="9837" y="8476"/>
                  <a:pt x="9828" y="8412"/>
                  <a:pt x="9847" y="8384"/>
                </a:cubicBezTo>
                <a:cubicBezTo>
                  <a:pt x="9872" y="8346"/>
                  <a:pt x="9925" y="8311"/>
                  <a:pt x="9971" y="8334"/>
                </a:cubicBezTo>
                <a:cubicBezTo>
                  <a:pt x="10025" y="8361"/>
                  <a:pt x="10021" y="8407"/>
                  <a:pt x="10021" y="8458"/>
                </a:cubicBezTo>
                <a:cubicBezTo>
                  <a:pt x="10021" y="8510"/>
                  <a:pt x="9989" y="8508"/>
                  <a:pt x="9947" y="8508"/>
                </a:cubicBezTo>
                <a:cubicBezTo>
                  <a:pt x="9913" y="8508"/>
                  <a:pt x="9841" y="8494"/>
                  <a:pt x="9823" y="8458"/>
                </a:cubicBezTo>
                <a:cubicBezTo>
                  <a:pt x="9823" y="8450"/>
                  <a:pt x="9823" y="8442"/>
                  <a:pt x="9823" y="8434"/>
                </a:cubicBezTo>
              </a:path>
              <a:path w="5210" h="3375">
                <a:moveTo>
                  <a:pt x="10418" y="8310"/>
                </a:moveTo>
                <a:cubicBezTo>
                  <a:pt x="10410" y="8302"/>
                  <a:pt x="10401" y="8293"/>
                  <a:pt x="10393" y="8285"/>
                </a:cubicBezTo>
                <a:cubicBezTo>
                  <a:pt x="10432" y="8275"/>
                  <a:pt x="10448" y="8260"/>
                  <a:pt x="10492" y="8260"/>
                </a:cubicBezTo>
                <a:cubicBezTo>
                  <a:pt x="10517" y="8260"/>
                  <a:pt x="10525" y="8260"/>
                  <a:pt x="10542" y="8260"/>
                </a:cubicBezTo>
              </a:path>
              <a:path w="5210" h="3375">
                <a:moveTo>
                  <a:pt x="10889" y="8111"/>
                </a:moveTo>
                <a:cubicBezTo>
                  <a:pt x="10857" y="8079"/>
                  <a:pt x="10825" y="8067"/>
                  <a:pt x="10815" y="8037"/>
                </a:cubicBezTo>
                <a:cubicBezTo>
                  <a:pt x="10828" y="7997"/>
                  <a:pt x="10862" y="7991"/>
                  <a:pt x="10914" y="7987"/>
                </a:cubicBezTo>
                <a:cubicBezTo>
                  <a:pt x="10950" y="7984"/>
                  <a:pt x="11001" y="7995"/>
                  <a:pt x="11013" y="8037"/>
                </a:cubicBezTo>
                <a:cubicBezTo>
                  <a:pt x="11031" y="8099"/>
                  <a:pt x="11012" y="8180"/>
                  <a:pt x="10988" y="8235"/>
                </a:cubicBezTo>
                <a:cubicBezTo>
                  <a:pt x="10964" y="8291"/>
                  <a:pt x="10951" y="8350"/>
                  <a:pt x="10939" y="8409"/>
                </a:cubicBezTo>
                <a:cubicBezTo>
                  <a:pt x="10996" y="8409"/>
                  <a:pt x="11060" y="8402"/>
                  <a:pt x="11112" y="8384"/>
                </a:cubicBezTo>
                <a:cubicBezTo>
                  <a:pt x="11172" y="8364"/>
                  <a:pt x="11196" y="8359"/>
                  <a:pt x="11261" y="8359"/>
                </a:cubicBezTo>
                <a:cubicBezTo>
                  <a:pt x="11286" y="8359"/>
                  <a:pt x="11294" y="8359"/>
                  <a:pt x="11311" y="8359"/>
                </a:cubicBezTo>
              </a:path>
              <a:path w="5210" h="3375">
                <a:moveTo>
                  <a:pt x="9971" y="8731"/>
                </a:moveTo>
                <a:cubicBezTo>
                  <a:pt x="9971" y="8706"/>
                  <a:pt x="9971" y="8698"/>
                  <a:pt x="9971" y="8682"/>
                </a:cubicBezTo>
                <a:cubicBezTo>
                  <a:pt x="9935" y="8694"/>
                  <a:pt x="9947" y="8712"/>
                  <a:pt x="9947" y="8756"/>
                </a:cubicBezTo>
                <a:cubicBezTo>
                  <a:pt x="9947" y="8862"/>
                  <a:pt x="9949" y="8954"/>
                  <a:pt x="9971" y="9054"/>
                </a:cubicBezTo>
                <a:cubicBezTo>
                  <a:pt x="9978" y="9085"/>
                  <a:pt x="9971" y="9121"/>
                  <a:pt x="9971" y="9153"/>
                </a:cubicBezTo>
                <a:cubicBezTo>
                  <a:pt x="10025" y="9135"/>
                  <a:pt x="9972" y="9122"/>
                  <a:pt x="9996" y="9079"/>
                </a:cubicBezTo>
                <a:cubicBezTo>
                  <a:pt x="10012" y="9051"/>
                  <a:pt x="10036" y="8994"/>
                  <a:pt x="10071" y="8979"/>
                </a:cubicBezTo>
                <a:cubicBezTo>
                  <a:pt x="10115" y="8960"/>
                  <a:pt x="10144" y="9003"/>
                  <a:pt x="10170" y="9029"/>
                </a:cubicBezTo>
                <a:cubicBezTo>
                  <a:pt x="10190" y="9049"/>
                  <a:pt x="10212" y="9097"/>
                  <a:pt x="10195" y="9128"/>
                </a:cubicBezTo>
                <a:cubicBezTo>
                  <a:pt x="10172" y="9168"/>
                  <a:pt x="10109" y="9153"/>
                  <a:pt x="10071" y="9153"/>
                </a:cubicBezTo>
                <a:cubicBezTo>
                  <a:pt x="10031" y="9153"/>
                  <a:pt x="10016" y="9128"/>
                  <a:pt x="9971" y="9128"/>
                </a:cubicBezTo>
              </a:path>
              <a:path w="5210" h="3375">
                <a:moveTo>
                  <a:pt x="9525" y="8930"/>
                </a:moveTo>
                <a:cubicBezTo>
                  <a:pt x="9481" y="8897"/>
                  <a:pt x="9459" y="8905"/>
                  <a:pt x="9401" y="8905"/>
                </a:cubicBezTo>
                <a:cubicBezTo>
                  <a:pt x="9356" y="8905"/>
                  <a:pt x="9341" y="8920"/>
                  <a:pt x="9302" y="8930"/>
                </a:cubicBezTo>
              </a:path>
              <a:path w="5210" h="3375">
                <a:moveTo>
                  <a:pt x="9500" y="9054"/>
                </a:moveTo>
                <a:cubicBezTo>
                  <a:pt x="9508" y="9054"/>
                  <a:pt x="9517" y="9054"/>
                  <a:pt x="9525" y="9054"/>
                </a:cubicBezTo>
                <a:cubicBezTo>
                  <a:pt x="9512" y="9016"/>
                  <a:pt x="9496" y="9029"/>
                  <a:pt x="9451" y="9029"/>
                </a:cubicBezTo>
                <a:cubicBezTo>
                  <a:pt x="9418" y="9029"/>
                  <a:pt x="9384" y="9029"/>
                  <a:pt x="9351" y="9029"/>
                </a:cubicBezTo>
              </a:path>
              <a:path w="5210" h="3375">
                <a:moveTo>
                  <a:pt x="8855" y="8880"/>
                </a:moveTo>
                <a:cubicBezTo>
                  <a:pt x="8881" y="8845"/>
                  <a:pt x="8880" y="8849"/>
                  <a:pt x="8880" y="8806"/>
                </a:cubicBezTo>
                <a:cubicBezTo>
                  <a:pt x="8858" y="8789"/>
                  <a:pt x="8814" y="8762"/>
                  <a:pt x="8781" y="8781"/>
                </a:cubicBezTo>
                <a:cubicBezTo>
                  <a:pt x="8732" y="8808"/>
                  <a:pt x="8707" y="8868"/>
                  <a:pt x="8682" y="8905"/>
                </a:cubicBezTo>
                <a:cubicBezTo>
                  <a:pt x="8667" y="8928"/>
                  <a:pt x="8635" y="8972"/>
                  <a:pt x="8632" y="8979"/>
                </a:cubicBezTo>
                <a:cubicBezTo>
                  <a:pt x="8611" y="9021"/>
                  <a:pt x="8641" y="9042"/>
                  <a:pt x="8657" y="9054"/>
                </a:cubicBezTo>
                <a:cubicBezTo>
                  <a:pt x="8696" y="9083"/>
                  <a:pt x="8743" y="9078"/>
                  <a:pt x="8781" y="9103"/>
                </a:cubicBezTo>
                <a:cubicBezTo>
                  <a:pt x="8828" y="9134"/>
                  <a:pt x="8855" y="9189"/>
                  <a:pt x="8880" y="9227"/>
                </a:cubicBezTo>
                <a:cubicBezTo>
                  <a:pt x="8905" y="9264"/>
                  <a:pt x="8905" y="9257"/>
                  <a:pt x="8905" y="9302"/>
                </a:cubicBezTo>
                <a:cubicBezTo>
                  <a:pt x="8852" y="9302"/>
                  <a:pt x="8708" y="9330"/>
                  <a:pt x="8682" y="9277"/>
                </a:cubicBezTo>
                <a:cubicBezTo>
                  <a:pt x="8656" y="9222"/>
                  <a:pt x="8698" y="9120"/>
                  <a:pt x="8706" y="9079"/>
                </a:cubicBezTo>
                <a:cubicBezTo>
                  <a:pt x="8718" y="9017"/>
                  <a:pt x="8736" y="8961"/>
                  <a:pt x="8756" y="8905"/>
                </a:cubicBezTo>
                <a:cubicBezTo>
                  <a:pt x="8772" y="8860"/>
                  <a:pt x="8780" y="8839"/>
                  <a:pt x="8806" y="8806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074160" cy="502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17760" y="1535040"/>
            <a:ext cx="936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4242" y="4341"/>
                </a:moveTo>
                <a:cubicBezTo>
                  <a:pt x="4242" y="4330"/>
                  <a:pt x="4242" y="4224"/>
                  <a:pt x="4242" y="4291"/>
                </a:cubicBezTo>
                <a:cubicBezTo>
                  <a:pt x="4242" y="4362"/>
                  <a:pt x="4225" y="4422"/>
                  <a:pt x="4217" y="4490"/>
                </a:cubicBezTo>
                <a:cubicBezTo>
                  <a:pt x="4209" y="4562"/>
                  <a:pt x="4217" y="4640"/>
                  <a:pt x="4217" y="4713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60680" y="1500120"/>
            <a:ext cx="447480" cy="187560"/>
          </a:xfrm>
          <a:custGeom>
            <a:avLst/>
            <a:gdLst/>
            <a:ahLst/>
            <a:rect l="l" t="t" r="r" b="b"/>
            <a:pathLst>
              <a:path w="1241" h="522">
                <a:moveTo>
                  <a:pt x="4614" y="4490"/>
                </a:moveTo>
                <a:cubicBezTo>
                  <a:pt x="4614" y="4482"/>
                  <a:pt x="4614" y="4473"/>
                  <a:pt x="4614" y="4465"/>
                </a:cubicBezTo>
                <a:cubicBezTo>
                  <a:pt x="4659" y="4465"/>
                  <a:pt x="4673" y="4443"/>
                  <a:pt x="4713" y="4440"/>
                </a:cubicBezTo>
                <a:cubicBezTo>
                  <a:pt x="4769" y="4436"/>
                  <a:pt x="4809" y="4420"/>
                  <a:pt x="4862" y="4415"/>
                </a:cubicBezTo>
                <a:cubicBezTo>
                  <a:pt x="4887" y="4415"/>
                  <a:pt x="4895" y="4415"/>
                  <a:pt x="4911" y="4415"/>
                </a:cubicBezTo>
              </a:path>
              <a:path w="1241" h="522">
                <a:moveTo>
                  <a:pt x="5085" y="4316"/>
                </a:moveTo>
                <a:cubicBezTo>
                  <a:pt x="5047" y="4303"/>
                  <a:pt x="5060" y="4287"/>
                  <a:pt x="5060" y="4242"/>
                </a:cubicBezTo>
                <a:cubicBezTo>
                  <a:pt x="5060" y="4219"/>
                  <a:pt x="5131" y="4175"/>
                  <a:pt x="5159" y="4167"/>
                </a:cubicBezTo>
                <a:cubicBezTo>
                  <a:pt x="5199" y="4156"/>
                  <a:pt x="5270" y="4169"/>
                  <a:pt x="5283" y="4217"/>
                </a:cubicBezTo>
                <a:cubicBezTo>
                  <a:pt x="5305" y="4294"/>
                  <a:pt x="5290" y="4420"/>
                  <a:pt x="5259" y="4490"/>
                </a:cubicBezTo>
                <a:cubicBezTo>
                  <a:pt x="5234" y="4545"/>
                  <a:pt x="5181" y="4589"/>
                  <a:pt x="5159" y="4638"/>
                </a:cubicBezTo>
                <a:cubicBezTo>
                  <a:pt x="5159" y="4663"/>
                  <a:pt x="5159" y="4671"/>
                  <a:pt x="5159" y="4688"/>
                </a:cubicBezTo>
                <a:cubicBezTo>
                  <a:pt x="5204" y="4677"/>
                  <a:pt x="5229" y="4663"/>
                  <a:pt x="5283" y="4663"/>
                </a:cubicBezTo>
                <a:cubicBezTo>
                  <a:pt x="5333" y="4663"/>
                  <a:pt x="5382" y="4663"/>
                  <a:pt x="5432" y="4663"/>
                </a:cubicBezTo>
              </a:path>
              <a:path w="1241" h="522">
                <a:moveTo>
                  <a:pt x="5606" y="4316"/>
                </a:moveTo>
                <a:cubicBezTo>
                  <a:pt x="5648" y="4316"/>
                  <a:pt x="5595" y="4325"/>
                  <a:pt x="5581" y="4366"/>
                </a:cubicBezTo>
                <a:cubicBezTo>
                  <a:pt x="5557" y="4437"/>
                  <a:pt x="5590" y="4524"/>
                  <a:pt x="5606" y="4589"/>
                </a:cubicBezTo>
                <a:cubicBezTo>
                  <a:pt x="5617" y="4632"/>
                  <a:pt x="5656" y="4614"/>
                  <a:pt x="5705" y="4614"/>
                </a:cubicBezTo>
                <a:cubicBezTo>
                  <a:pt x="5771" y="4614"/>
                  <a:pt x="5793" y="4598"/>
                  <a:pt x="5854" y="4589"/>
                </a:cubicBezTo>
              </a:path>
              <a:path w="1241" h="522">
                <a:moveTo>
                  <a:pt x="5854" y="4465"/>
                </a:moveTo>
                <a:cubicBezTo>
                  <a:pt x="5798" y="4423"/>
                  <a:pt x="5808" y="4447"/>
                  <a:pt x="5755" y="4465"/>
                </a:cubicBezTo>
                <a:cubicBezTo>
                  <a:pt x="5715" y="4479"/>
                  <a:pt x="5676" y="4490"/>
                  <a:pt x="5631" y="4490"/>
                </a:cubicBezTo>
                <a:cubicBezTo>
                  <a:pt x="5623" y="4490"/>
                  <a:pt x="5614" y="4490"/>
                  <a:pt x="5606" y="4490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4080" y="1562040"/>
            <a:ext cx="6192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6300" y="4341"/>
                </a:moveTo>
                <a:cubicBezTo>
                  <a:pt x="6308" y="4341"/>
                  <a:pt x="6317" y="4341"/>
                  <a:pt x="6325" y="4341"/>
                </a:cubicBezTo>
                <a:cubicBezTo>
                  <a:pt x="6312" y="4379"/>
                  <a:pt x="6296" y="4366"/>
                  <a:pt x="6251" y="4366"/>
                </a:cubicBezTo>
                <a:cubicBezTo>
                  <a:pt x="6226" y="4366"/>
                  <a:pt x="6201" y="4366"/>
                  <a:pt x="6176" y="4366"/>
                </a:cubicBezTo>
              </a:path>
              <a:path w="175" h="150">
                <a:moveTo>
                  <a:pt x="6350" y="4440"/>
                </a:moveTo>
                <a:cubicBezTo>
                  <a:pt x="6319" y="4463"/>
                  <a:pt x="6290" y="4486"/>
                  <a:pt x="6251" y="4490"/>
                </a:cubicBezTo>
                <a:cubicBezTo>
                  <a:pt x="6243" y="4490"/>
                  <a:pt x="6234" y="4490"/>
                  <a:pt x="6226" y="4490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94000" y="1517760"/>
            <a:ext cx="195120" cy="125280"/>
          </a:xfrm>
          <a:custGeom>
            <a:avLst/>
            <a:gdLst/>
            <a:ahLst/>
            <a:rect l="l" t="t" r="r" b="b"/>
            <a:pathLst>
              <a:path w="546" h="348">
                <a:moveTo>
                  <a:pt x="6648" y="4366"/>
                </a:moveTo>
                <a:cubicBezTo>
                  <a:pt x="6648" y="4434"/>
                  <a:pt x="6645" y="4323"/>
                  <a:pt x="6648" y="4316"/>
                </a:cubicBezTo>
                <a:cubicBezTo>
                  <a:pt x="6666" y="4283"/>
                  <a:pt x="6740" y="4282"/>
                  <a:pt x="6772" y="4291"/>
                </a:cubicBezTo>
                <a:cubicBezTo>
                  <a:pt x="6838" y="4311"/>
                  <a:pt x="6877" y="4378"/>
                  <a:pt x="6896" y="4440"/>
                </a:cubicBezTo>
                <a:cubicBezTo>
                  <a:pt x="6913" y="4493"/>
                  <a:pt x="6895" y="4521"/>
                  <a:pt x="6871" y="4539"/>
                </a:cubicBezTo>
                <a:cubicBezTo>
                  <a:pt x="6829" y="4571"/>
                  <a:pt x="6803" y="4564"/>
                  <a:pt x="6747" y="4564"/>
                </a:cubicBezTo>
              </a:path>
              <a:path w="546" h="348">
                <a:moveTo>
                  <a:pt x="7069" y="4242"/>
                </a:moveTo>
                <a:cubicBezTo>
                  <a:pt x="7077" y="4234"/>
                  <a:pt x="7086" y="4225"/>
                  <a:pt x="7094" y="4217"/>
                </a:cubicBezTo>
                <a:cubicBezTo>
                  <a:pt x="7051" y="4228"/>
                  <a:pt x="7029" y="4257"/>
                  <a:pt x="6995" y="4291"/>
                </a:cubicBezTo>
                <a:cubicBezTo>
                  <a:pt x="6951" y="4335"/>
                  <a:pt x="6970" y="4368"/>
                  <a:pt x="6995" y="4415"/>
                </a:cubicBezTo>
                <a:cubicBezTo>
                  <a:pt x="7033" y="4485"/>
                  <a:pt x="7070" y="4465"/>
                  <a:pt x="7144" y="4465"/>
                </a:cubicBezTo>
                <a:cubicBezTo>
                  <a:pt x="7160" y="4465"/>
                  <a:pt x="7177" y="4465"/>
                  <a:pt x="7193" y="4465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19120" y="1795320"/>
            <a:ext cx="1170000" cy="258840"/>
          </a:xfrm>
          <a:custGeom>
            <a:avLst/>
            <a:gdLst/>
            <a:ahLst/>
            <a:rect l="l" t="t" r="r" b="b"/>
            <a:pathLst>
              <a:path w="3250" h="720">
                <a:moveTo>
                  <a:pt x="3994" y="5283"/>
                </a:moveTo>
                <a:cubicBezTo>
                  <a:pt x="3971" y="5306"/>
                  <a:pt x="3967" y="5314"/>
                  <a:pt x="3944" y="5308"/>
                </a:cubicBezTo>
                <a:cubicBezTo>
                  <a:pt x="3944" y="5257"/>
                  <a:pt x="3935" y="5222"/>
                  <a:pt x="3969" y="5184"/>
                </a:cubicBezTo>
                <a:cubicBezTo>
                  <a:pt x="3990" y="5160"/>
                  <a:pt x="4085" y="5126"/>
                  <a:pt x="4118" y="5135"/>
                </a:cubicBezTo>
                <a:cubicBezTo>
                  <a:pt x="4173" y="5149"/>
                  <a:pt x="4224" y="5207"/>
                  <a:pt x="4242" y="5259"/>
                </a:cubicBezTo>
                <a:cubicBezTo>
                  <a:pt x="4261" y="5315"/>
                  <a:pt x="4223" y="5388"/>
                  <a:pt x="4192" y="5432"/>
                </a:cubicBezTo>
                <a:cubicBezTo>
                  <a:pt x="4160" y="5477"/>
                  <a:pt x="4142" y="5500"/>
                  <a:pt x="4142" y="5556"/>
                </a:cubicBezTo>
                <a:cubicBezTo>
                  <a:pt x="4197" y="5556"/>
                  <a:pt x="4213" y="5544"/>
                  <a:pt x="4266" y="5531"/>
                </a:cubicBezTo>
                <a:cubicBezTo>
                  <a:pt x="4304" y="5521"/>
                  <a:pt x="4332" y="5518"/>
                  <a:pt x="4366" y="5507"/>
                </a:cubicBezTo>
                <a:cubicBezTo>
                  <a:pt x="4374" y="5507"/>
                  <a:pt x="4382" y="5507"/>
                  <a:pt x="4390" y="5507"/>
                </a:cubicBezTo>
              </a:path>
              <a:path w="3250" h="720">
                <a:moveTo>
                  <a:pt x="4887" y="5358"/>
                </a:moveTo>
                <a:cubicBezTo>
                  <a:pt x="4911" y="5358"/>
                  <a:pt x="4920" y="5358"/>
                  <a:pt x="4936" y="5358"/>
                </a:cubicBezTo>
                <a:cubicBezTo>
                  <a:pt x="4883" y="5358"/>
                  <a:pt x="4862" y="5374"/>
                  <a:pt x="4812" y="5383"/>
                </a:cubicBezTo>
                <a:cubicBezTo>
                  <a:pt x="4746" y="5395"/>
                  <a:pt x="4679" y="5399"/>
                  <a:pt x="4614" y="5407"/>
                </a:cubicBezTo>
              </a:path>
              <a:path w="3250" h="720">
                <a:moveTo>
                  <a:pt x="4688" y="5259"/>
                </a:moveTo>
                <a:cubicBezTo>
                  <a:pt x="4747" y="5297"/>
                  <a:pt x="4756" y="5309"/>
                  <a:pt x="4762" y="5383"/>
                </a:cubicBezTo>
                <a:cubicBezTo>
                  <a:pt x="4766" y="5432"/>
                  <a:pt x="4762" y="5482"/>
                  <a:pt x="4762" y="5531"/>
                </a:cubicBezTo>
              </a:path>
              <a:path w="3250" h="720">
                <a:moveTo>
                  <a:pt x="5234" y="5159"/>
                </a:moveTo>
                <a:cubicBezTo>
                  <a:pt x="5209" y="5127"/>
                  <a:pt x="5188" y="5115"/>
                  <a:pt x="5184" y="5085"/>
                </a:cubicBezTo>
                <a:cubicBezTo>
                  <a:pt x="5178" y="5035"/>
                  <a:pt x="5228" y="5025"/>
                  <a:pt x="5259" y="5011"/>
                </a:cubicBezTo>
                <a:cubicBezTo>
                  <a:pt x="5332" y="4980"/>
                  <a:pt x="5361" y="4978"/>
                  <a:pt x="5432" y="5011"/>
                </a:cubicBezTo>
                <a:cubicBezTo>
                  <a:pt x="5493" y="5039"/>
                  <a:pt x="5507" y="5047"/>
                  <a:pt x="5507" y="5110"/>
                </a:cubicBezTo>
                <a:cubicBezTo>
                  <a:pt x="5507" y="5168"/>
                  <a:pt x="5446" y="5180"/>
                  <a:pt x="5407" y="5209"/>
                </a:cubicBezTo>
                <a:cubicBezTo>
                  <a:pt x="5399" y="5217"/>
                  <a:pt x="5391" y="5226"/>
                  <a:pt x="5383" y="5234"/>
                </a:cubicBezTo>
                <a:cubicBezTo>
                  <a:pt x="5440" y="5234"/>
                  <a:pt x="5487" y="5224"/>
                  <a:pt x="5531" y="5259"/>
                </a:cubicBezTo>
                <a:cubicBezTo>
                  <a:pt x="5577" y="5295"/>
                  <a:pt x="5596" y="5313"/>
                  <a:pt x="5556" y="5358"/>
                </a:cubicBezTo>
                <a:cubicBezTo>
                  <a:pt x="5524" y="5394"/>
                  <a:pt x="5453" y="5441"/>
                  <a:pt x="5407" y="5457"/>
                </a:cubicBezTo>
                <a:cubicBezTo>
                  <a:pt x="5359" y="5473"/>
                  <a:pt x="5356" y="5438"/>
                  <a:pt x="5333" y="5407"/>
                </a:cubicBezTo>
              </a:path>
              <a:path w="3250" h="720">
                <a:moveTo>
                  <a:pt x="5829" y="5035"/>
                </a:moveTo>
                <a:cubicBezTo>
                  <a:pt x="5837" y="5035"/>
                  <a:pt x="5846" y="5035"/>
                  <a:pt x="5854" y="5035"/>
                </a:cubicBezTo>
                <a:cubicBezTo>
                  <a:pt x="5843" y="5078"/>
                  <a:pt x="5812" y="5112"/>
                  <a:pt x="5804" y="5159"/>
                </a:cubicBezTo>
                <a:cubicBezTo>
                  <a:pt x="5798" y="5195"/>
                  <a:pt x="5783" y="5369"/>
                  <a:pt x="5829" y="5383"/>
                </a:cubicBezTo>
                <a:cubicBezTo>
                  <a:pt x="5876" y="5397"/>
                  <a:pt x="5920" y="5383"/>
                  <a:pt x="5953" y="5358"/>
                </a:cubicBezTo>
              </a:path>
              <a:path w="3250" h="720">
                <a:moveTo>
                  <a:pt x="6028" y="5184"/>
                </a:moveTo>
                <a:cubicBezTo>
                  <a:pt x="5973" y="5160"/>
                  <a:pt x="5952" y="5152"/>
                  <a:pt x="5904" y="5184"/>
                </a:cubicBezTo>
                <a:cubicBezTo>
                  <a:pt x="5861" y="5213"/>
                  <a:pt x="5831" y="5209"/>
                  <a:pt x="5779" y="5209"/>
                </a:cubicBezTo>
                <a:cubicBezTo>
                  <a:pt x="5771" y="5209"/>
                  <a:pt x="5763" y="5209"/>
                  <a:pt x="5755" y="5209"/>
                </a:cubicBezTo>
              </a:path>
              <a:path w="3250" h="720">
                <a:moveTo>
                  <a:pt x="6474" y="5011"/>
                </a:moveTo>
                <a:cubicBezTo>
                  <a:pt x="6501" y="5046"/>
                  <a:pt x="6499" y="5041"/>
                  <a:pt x="6499" y="5085"/>
                </a:cubicBezTo>
                <a:cubicBezTo>
                  <a:pt x="6452" y="5085"/>
                  <a:pt x="6420" y="5105"/>
                  <a:pt x="6375" y="5110"/>
                </a:cubicBezTo>
                <a:cubicBezTo>
                  <a:pt x="6350" y="5110"/>
                  <a:pt x="6342" y="5110"/>
                  <a:pt x="6325" y="5110"/>
                </a:cubicBezTo>
              </a:path>
              <a:path w="3250" h="720">
                <a:moveTo>
                  <a:pt x="6474" y="5159"/>
                </a:moveTo>
                <a:cubicBezTo>
                  <a:pt x="6474" y="5167"/>
                  <a:pt x="6474" y="5176"/>
                  <a:pt x="6474" y="5184"/>
                </a:cubicBezTo>
                <a:cubicBezTo>
                  <a:pt x="6443" y="5194"/>
                  <a:pt x="6419" y="5221"/>
                  <a:pt x="6375" y="5234"/>
                </a:cubicBezTo>
                <a:cubicBezTo>
                  <a:pt x="6332" y="5247"/>
                  <a:pt x="6309" y="5251"/>
                  <a:pt x="6300" y="5234"/>
                </a:cubicBezTo>
              </a:path>
              <a:path w="3250" h="720">
                <a:moveTo>
                  <a:pt x="6871" y="5011"/>
                </a:moveTo>
                <a:cubicBezTo>
                  <a:pt x="6848" y="4988"/>
                  <a:pt x="6844" y="4980"/>
                  <a:pt x="6821" y="4986"/>
                </a:cubicBezTo>
                <a:cubicBezTo>
                  <a:pt x="6821" y="5035"/>
                  <a:pt x="6804" y="5103"/>
                  <a:pt x="6846" y="5135"/>
                </a:cubicBezTo>
                <a:cubicBezTo>
                  <a:pt x="6870" y="5153"/>
                  <a:pt x="6958" y="5214"/>
                  <a:pt x="6995" y="5184"/>
                </a:cubicBezTo>
                <a:cubicBezTo>
                  <a:pt x="7032" y="5154"/>
                  <a:pt x="7039" y="5094"/>
                  <a:pt x="7069" y="5060"/>
                </a:cubicBezTo>
                <a:cubicBezTo>
                  <a:pt x="7077" y="5052"/>
                  <a:pt x="7086" y="5043"/>
                  <a:pt x="7094" y="5035"/>
                </a:cubicBezTo>
                <a:cubicBezTo>
                  <a:pt x="7146" y="5100"/>
                  <a:pt x="7183" y="5173"/>
                  <a:pt x="7193" y="5259"/>
                </a:cubicBezTo>
                <a:cubicBezTo>
                  <a:pt x="7207" y="5385"/>
                  <a:pt x="7162" y="5499"/>
                  <a:pt x="7069" y="5581"/>
                </a:cubicBezTo>
                <a:cubicBezTo>
                  <a:pt x="6989" y="5652"/>
                  <a:pt x="6827" y="5690"/>
                  <a:pt x="6722" y="5705"/>
                </a:cubicBezTo>
                <a:cubicBezTo>
                  <a:pt x="6680" y="5711"/>
                  <a:pt x="6554" y="5725"/>
                  <a:pt x="6548" y="5680"/>
                </a:cubicBezTo>
                <a:cubicBezTo>
                  <a:pt x="6548" y="5672"/>
                  <a:pt x="6548" y="5663"/>
                  <a:pt x="6548" y="5655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31920" y="2394000"/>
            <a:ext cx="206280" cy="150840"/>
          </a:xfrm>
          <a:custGeom>
            <a:avLst/>
            <a:gdLst/>
            <a:ahLst/>
            <a:rect l="l" t="t" r="r" b="b"/>
            <a:pathLst>
              <a:path w="572" h="422">
                <a:moveTo>
                  <a:pt x="3473" y="6821"/>
                </a:moveTo>
                <a:cubicBezTo>
                  <a:pt x="3448" y="6821"/>
                  <a:pt x="3440" y="6821"/>
                  <a:pt x="3423" y="6821"/>
                </a:cubicBezTo>
                <a:cubicBezTo>
                  <a:pt x="3423" y="6759"/>
                  <a:pt x="3404" y="6753"/>
                  <a:pt x="3473" y="6747"/>
                </a:cubicBezTo>
                <a:cubicBezTo>
                  <a:pt x="3531" y="6742"/>
                  <a:pt x="3651" y="6727"/>
                  <a:pt x="3696" y="6772"/>
                </a:cubicBezTo>
                <a:cubicBezTo>
                  <a:pt x="3746" y="6821"/>
                  <a:pt x="3763" y="6930"/>
                  <a:pt x="3746" y="6995"/>
                </a:cubicBezTo>
                <a:cubicBezTo>
                  <a:pt x="3723" y="7082"/>
                  <a:pt x="3670" y="7069"/>
                  <a:pt x="3597" y="7069"/>
                </a:cubicBezTo>
                <a:cubicBezTo>
                  <a:pt x="3589" y="7069"/>
                  <a:pt x="3580" y="7069"/>
                  <a:pt x="3572" y="7069"/>
                </a:cubicBezTo>
              </a:path>
              <a:path w="572" h="422">
                <a:moveTo>
                  <a:pt x="3820" y="6697"/>
                </a:moveTo>
                <a:cubicBezTo>
                  <a:pt x="3855" y="6670"/>
                  <a:pt x="3859" y="6680"/>
                  <a:pt x="3870" y="6648"/>
                </a:cubicBezTo>
                <a:cubicBezTo>
                  <a:pt x="3813" y="6648"/>
                  <a:pt x="3799" y="6672"/>
                  <a:pt x="3770" y="6722"/>
                </a:cubicBezTo>
                <a:cubicBezTo>
                  <a:pt x="3731" y="6789"/>
                  <a:pt x="3740" y="6854"/>
                  <a:pt x="3770" y="6921"/>
                </a:cubicBezTo>
                <a:cubicBezTo>
                  <a:pt x="3806" y="7003"/>
                  <a:pt x="3848" y="7004"/>
                  <a:pt x="3919" y="6970"/>
                </a:cubicBezTo>
                <a:cubicBezTo>
                  <a:pt x="3936" y="6962"/>
                  <a:pt x="3952" y="6953"/>
                  <a:pt x="3969" y="6945"/>
                </a:cubicBezTo>
              </a:path>
              <a:path w="572" h="422">
                <a:moveTo>
                  <a:pt x="3845" y="6772"/>
                </a:moveTo>
                <a:cubicBezTo>
                  <a:pt x="3925" y="6788"/>
                  <a:pt x="3924" y="6811"/>
                  <a:pt x="3969" y="6871"/>
                </a:cubicBezTo>
                <a:cubicBezTo>
                  <a:pt x="3995" y="6906"/>
                  <a:pt x="3994" y="6902"/>
                  <a:pt x="3994" y="6945"/>
                </a:cubicBezTo>
                <a:cubicBezTo>
                  <a:pt x="3941" y="6893"/>
                  <a:pt x="3886" y="6832"/>
                  <a:pt x="3845" y="6772"/>
                </a:cubicBezTo>
                <a:cubicBezTo>
                  <a:pt x="3819" y="6734"/>
                  <a:pt x="3804" y="6690"/>
                  <a:pt x="3795" y="6648"/>
                </a:cubicBezTo>
                <a:cubicBezTo>
                  <a:pt x="3847" y="6711"/>
                  <a:pt x="3888" y="6795"/>
                  <a:pt x="3919" y="6871"/>
                </a:cubicBezTo>
                <a:cubicBezTo>
                  <a:pt x="3942" y="6927"/>
                  <a:pt x="3959" y="6987"/>
                  <a:pt x="3969" y="7045"/>
                </a:cubicBezTo>
                <a:cubicBezTo>
                  <a:pt x="3860" y="7031"/>
                  <a:pt x="3792" y="6958"/>
                  <a:pt x="3721" y="6871"/>
                </a:cubicBezTo>
                <a:cubicBezTo>
                  <a:pt x="3674" y="6814"/>
                  <a:pt x="3644" y="6740"/>
                  <a:pt x="3572" y="6722"/>
                </a:cubicBezTo>
                <a:cubicBezTo>
                  <a:pt x="3587" y="6796"/>
                  <a:pt x="3635" y="6868"/>
                  <a:pt x="3646" y="6945"/>
                </a:cubicBezTo>
                <a:cubicBezTo>
                  <a:pt x="3646" y="7011"/>
                  <a:pt x="3646" y="7028"/>
                  <a:pt x="3646" y="7069"/>
                </a:cubicBezTo>
                <a:cubicBezTo>
                  <a:pt x="3551" y="7051"/>
                  <a:pt x="3531" y="6993"/>
                  <a:pt x="3473" y="6921"/>
                </a:cubicBezTo>
                <a:cubicBezTo>
                  <a:pt x="3424" y="6861"/>
                  <a:pt x="3434" y="6894"/>
                  <a:pt x="3473" y="6921"/>
                </a:cubicBezTo>
                <a:cubicBezTo>
                  <a:pt x="3489" y="6929"/>
                  <a:pt x="3506" y="6937"/>
                  <a:pt x="3522" y="6945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43040" y="2347920"/>
            <a:ext cx="492120" cy="196920"/>
          </a:xfrm>
          <a:custGeom>
            <a:avLst/>
            <a:gdLst/>
            <a:ahLst/>
            <a:rect l="l" t="t" r="r" b="b"/>
            <a:pathLst>
              <a:path w="1365" h="546">
                <a:moveTo>
                  <a:pt x="4614" y="6896"/>
                </a:moveTo>
                <a:cubicBezTo>
                  <a:pt x="4597" y="6896"/>
                  <a:pt x="4581" y="6896"/>
                  <a:pt x="4564" y="6896"/>
                </a:cubicBezTo>
                <a:cubicBezTo>
                  <a:pt x="4621" y="6896"/>
                  <a:pt x="4636" y="6874"/>
                  <a:pt x="4688" y="6846"/>
                </a:cubicBezTo>
                <a:cubicBezTo>
                  <a:pt x="4747" y="6814"/>
                  <a:pt x="4796" y="6821"/>
                  <a:pt x="4862" y="6821"/>
                </a:cubicBezTo>
              </a:path>
              <a:path w="1365" h="546">
                <a:moveTo>
                  <a:pt x="5135" y="6672"/>
                </a:moveTo>
                <a:cubicBezTo>
                  <a:pt x="5115" y="6632"/>
                  <a:pt x="5106" y="6626"/>
                  <a:pt x="5110" y="6598"/>
                </a:cubicBezTo>
                <a:cubicBezTo>
                  <a:pt x="5160" y="6585"/>
                  <a:pt x="5203" y="6536"/>
                  <a:pt x="5259" y="6524"/>
                </a:cubicBezTo>
                <a:cubicBezTo>
                  <a:pt x="5321" y="6510"/>
                  <a:pt x="5393" y="6529"/>
                  <a:pt x="5407" y="6598"/>
                </a:cubicBezTo>
                <a:cubicBezTo>
                  <a:pt x="5425" y="6690"/>
                  <a:pt x="5332" y="6777"/>
                  <a:pt x="5283" y="6846"/>
                </a:cubicBezTo>
                <a:cubicBezTo>
                  <a:pt x="5240" y="6908"/>
                  <a:pt x="5198" y="6973"/>
                  <a:pt x="5184" y="7045"/>
                </a:cubicBezTo>
                <a:cubicBezTo>
                  <a:pt x="5236" y="7075"/>
                  <a:pt x="5276" y="7065"/>
                  <a:pt x="5333" y="7045"/>
                </a:cubicBezTo>
                <a:cubicBezTo>
                  <a:pt x="5384" y="7027"/>
                  <a:pt x="5442" y="6980"/>
                  <a:pt x="5482" y="6945"/>
                </a:cubicBezTo>
                <a:cubicBezTo>
                  <a:pt x="5490" y="6937"/>
                  <a:pt x="5499" y="6929"/>
                  <a:pt x="5507" y="6921"/>
                </a:cubicBezTo>
              </a:path>
              <a:path w="1365" h="546">
                <a:moveTo>
                  <a:pt x="5655" y="6648"/>
                </a:moveTo>
                <a:cubicBezTo>
                  <a:pt x="5684" y="6550"/>
                  <a:pt x="5700" y="6526"/>
                  <a:pt x="5655" y="6623"/>
                </a:cubicBezTo>
                <a:cubicBezTo>
                  <a:pt x="5612" y="6715"/>
                  <a:pt x="5625" y="6825"/>
                  <a:pt x="5655" y="6921"/>
                </a:cubicBezTo>
                <a:cubicBezTo>
                  <a:pt x="5681" y="7003"/>
                  <a:pt x="5735" y="7013"/>
                  <a:pt x="5804" y="7045"/>
                </a:cubicBezTo>
              </a:path>
              <a:path w="1365" h="546">
                <a:moveTo>
                  <a:pt x="5928" y="6796"/>
                </a:moveTo>
                <a:cubicBezTo>
                  <a:pt x="5796" y="6740"/>
                  <a:pt x="5801" y="6726"/>
                  <a:pt x="5705" y="6821"/>
                </a:cubicBezTo>
                <a:cubicBezTo>
                  <a:pt x="5677" y="6849"/>
                  <a:pt x="5664" y="6858"/>
                  <a:pt x="5631" y="6846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68360" y="24289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6424" y="6747"/>
                </a:moveTo>
                <a:cubicBezTo>
                  <a:pt x="6432" y="6747"/>
                  <a:pt x="6441" y="6747"/>
                  <a:pt x="6449" y="6747"/>
                </a:cubicBezTo>
                <a:cubicBezTo>
                  <a:pt x="6402" y="6747"/>
                  <a:pt x="6386" y="6764"/>
                  <a:pt x="6350" y="6772"/>
                </a:cubicBezTo>
                <a:cubicBezTo>
                  <a:pt x="6333" y="6772"/>
                  <a:pt x="6317" y="6772"/>
                  <a:pt x="6300" y="6772"/>
                </a:cubicBezTo>
              </a:path>
              <a:path w="150" h="150">
                <a:moveTo>
                  <a:pt x="6424" y="6871"/>
                </a:moveTo>
                <a:cubicBezTo>
                  <a:pt x="6449" y="6871"/>
                  <a:pt x="6457" y="6871"/>
                  <a:pt x="6449" y="6896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44840" y="2313000"/>
            <a:ext cx="196920" cy="152280"/>
          </a:xfrm>
          <a:custGeom>
            <a:avLst/>
            <a:gdLst/>
            <a:ahLst/>
            <a:rect l="l" t="t" r="r" b="b"/>
            <a:pathLst>
              <a:path w="547" h="423">
                <a:moveTo>
                  <a:pt x="7094" y="6573"/>
                </a:moveTo>
                <a:cubicBezTo>
                  <a:pt x="7052" y="6559"/>
                  <a:pt x="7063" y="6534"/>
                  <a:pt x="7094" y="6499"/>
                </a:cubicBezTo>
                <a:cubicBezTo>
                  <a:pt x="7139" y="6449"/>
                  <a:pt x="7197" y="6474"/>
                  <a:pt x="7243" y="6499"/>
                </a:cubicBezTo>
                <a:cubicBezTo>
                  <a:pt x="7300" y="6530"/>
                  <a:pt x="7359" y="6598"/>
                  <a:pt x="7342" y="6672"/>
                </a:cubicBezTo>
                <a:cubicBezTo>
                  <a:pt x="7328" y="6733"/>
                  <a:pt x="7279" y="6793"/>
                  <a:pt x="7243" y="6821"/>
                </a:cubicBezTo>
                <a:cubicBezTo>
                  <a:pt x="7220" y="6844"/>
                  <a:pt x="7216" y="6852"/>
                  <a:pt x="7193" y="6846"/>
                </a:cubicBezTo>
              </a:path>
              <a:path w="547" h="423">
                <a:moveTo>
                  <a:pt x="7441" y="6474"/>
                </a:moveTo>
                <a:cubicBezTo>
                  <a:pt x="7480" y="6435"/>
                  <a:pt x="7512" y="6418"/>
                  <a:pt x="7466" y="6424"/>
                </a:cubicBezTo>
                <a:cubicBezTo>
                  <a:pt x="7430" y="6469"/>
                  <a:pt x="7380" y="6540"/>
                  <a:pt x="7367" y="6598"/>
                </a:cubicBezTo>
                <a:cubicBezTo>
                  <a:pt x="7353" y="6662"/>
                  <a:pt x="7404" y="6754"/>
                  <a:pt x="7466" y="6772"/>
                </a:cubicBezTo>
                <a:cubicBezTo>
                  <a:pt x="7519" y="6788"/>
                  <a:pt x="7571" y="6744"/>
                  <a:pt x="7615" y="6722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57680" y="2340000"/>
            <a:ext cx="115560" cy="17280"/>
          </a:xfrm>
          <a:custGeom>
            <a:avLst/>
            <a:gdLst/>
            <a:ahLst/>
            <a:rect l="l" t="t" r="r" b="b"/>
            <a:pathLst>
              <a:path w="323" h="50">
                <a:moveTo>
                  <a:pt x="7938" y="6548"/>
                </a:moveTo>
                <a:cubicBezTo>
                  <a:pt x="7984" y="6548"/>
                  <a:pt x="8001" y="6531"/>
                  <a:pt x="8037" y="6524"/>
                </a:cubicBezTo>
                <a:cubicBezTo>
                  <a:pt x="8099" y="6511"/>
                  <a:pt x="8173" y="6504"/>
                  <a:pt x="8235" y="6499"/>
                </a:cubicBezTo>
                <a:cubicBezTo>
                  <a:pt x="8243" y="6499"/>
                  <a:pt x="8252" y="6499"/>
                  <a:pt x="8260" y="6499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89160" y="2232000"/>
            <a:ext cx="19080" cy="162000"/>
          </a:xfrm>
          <a:custGeom>
            <a:avLst/>
            <a:gdLst/>
            <a:ahLst/>
            <a:rect l="l" t="t" r="r" b="b"/>
            <a:pathLst>
              <a:path w="51" h="448">
                <a:moveTo>
                  <a:pt x="8582" y="6251"/>
                </a:moveTo>
                <a:cubicBezTo>
                  <a:pt x="8590" y="6234"/>
                  <a:pt x="8599" y="6218"/>
                  <a:pt x="8607" y="6201"/>
                </a:cubicBezTo>
                <a:cubicBezTo>
                  <a:pt x="8607" y="6265"/>
                  <a:pt x="8589" y="6313"/>
                  <a:pt x="8582" y="6375"/>
                </a:cubicBezTo>
                <a:cubicBezTo>
                  <a:pt x="8573" y="6450"/>
                  <a:pt x="8566" y="6557"/>
                  <a:pt x="8607" y="6623"/>
                </a:cubicBezTo>
                <a:cubicBezTo>
                  <a:pt x="8615" y="6631"/>
                  <a:pt x="8624" y="6640"/>
                  <a:pt x="8632" y="6648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3160" y="2554200"/>
            <a:ext cx="1258920" cy="500040"/>
          </a:xfrm>
          <a:custGeom>
            <a:avLst/>
            <a:gdLst/>
            <a:ahLst/>
            <a:rect l="l" t="t" r="r" b="b"/>
            <a:pathLst>
              <a:path w="3498" h="1390">
                <a:moveTo>
                  <a:pt x="5581" y="7640"/>
                </a:moveTo>
                <a:cubicBezTo>
                  <a:pt x="5590" y="7588"/>
                  <a:pt x="5621" y="7569"/>
                  <a:pt x="5606" y="7590"/>
                </a:cubicBezTo>
                <a:cubicBezTo>
                  <a:pt x="5562" y="7652"/>
                  <a:pt x="5556" y="7655"/>
                  <a:pt x="5556" y="7739"/>
                </a:cubicBezTo>
                <a:cubicBezTo>
                  <a:pt x="5556" y="7816"/>
                  <a:pt x="5560" y="7872"/>
                  <a:pt x="5606" y="7938"/>
                </a:cubicBezTo>
                <a:cubicBezTo>
                  <a:pt x="5629" y="7971"/>
                  <a:pt x="5688" y="8002"/>
                  <a:pt x="5730" y="7987"/>
                </a:cubicBezTo>
                <a:cubicBezTo>
                  <a:pt x="5770" y="7967"/>
                  <a:pt x="5776" y="7958"/>
                  <a:pt x="5804" y="7962"/>
                </a:cubicBezTo>
              </a:path>
              <a:path w="3498" h="1390">
                <a:moveTo>
                  <a:pt x="5804" y="7764"/>
                </a:moveTo>
                <a:cubicBezTo>
                  <a:pt x="5748" y="7739"/>
                  <a:pt x="5715" y="7718"/>
                  <a:pt x="5655" y="7714"/>
                </a:cubicBezTo>
                <a:cubicBezTo>
                  <a:pt x="5588" y="7710"/>
                  <a:pt x="5543" y="7727"/>
                  <a:pt x="5482" y="7739"/>
                </a:cubicBezTo>
              </a:path>
              <a:path w="3498" h="1390">
                <a:moveTo>
                  <a:pt x="6474" y="7640"/>
                </a:moveTo>
                <a:cubicBezTo>
                  <a:pt x="6482" y="7640"/>
                  <a:pt x="6491" y="7640"/>
                  <a:pt x="6499" y="7640"/>
                </a:cubicBezTo>
                <a:cubicBezTo>
                  <a:pt x="6450" y="7640"/>
                  <a:pt x="6413" y="7657"/>
                  <a:pt x="6375" y="7665"/>
                </a:cubicBezTo>
                <a:cubicBezTo>
                  <a:pt x="6331" y="7674"/>
                  <a:pt x="6315" y="7679"/>
                  <a:pt x="6276" y="7689"/>
                </a:cubicBezTo>
              </a:path>
              <a:path w="3498" h="1390">
                <a:moveTo>
                  <a:pt x="6474" y="7739"/>
                </a:moveTo>
                <a:cubicBezTo>
                  <a:pt x="6497" y="7762"/>
                  <a:pt x="6505" y="7766"/>
                  <a:pt x="6499" y="7789"/>
                </a:cubicBezTo>
                <a:cubicBezTo>
                  <a:pt x="6474" y="7789"/>
                  <a:pt x="6449" y="7789"/>
                  <a:pt x="6424" y="7789"/>
                </a:cubicBezTo>
              </a:path>
              <a:path w="3498" h="1390">
                <a:moveTo>
                  <a:pt x="7243" y="7317"/>
                </a:moveTo>
                <a:cubicBezTo>
                  <a:pt x="7243" y="7276"/>
                  <a:pt x="7243" y="7234"/>
                  <a:pt x="7243" y="7193"/>
                </a:cubicBezTo>
                <a:cubicBezTo>
                  <a:pt x="7304" y="7213"/>
                  <a:pt x="7249" y="7287"/>
                  <a:pt x="7243" y="7342"/>
                </a:cubicBezTo>
                <a:cubicBezTo>
                  <a:pt x="7231" y="7447"/>
                  <a:pt x="7254" y="7540"/>
                  <a:pt x="7268" y="7640"/>
                </a:cubicBezTo>
                <a:cubicBezTo>
                  <a:pt x="7268" y="7656"/>
                  <a:pt x="7268" y="7673"/>
                  <a:pt x="7268" y="7689"/>
                </a:cubicBezTo>
              </a:path>
              <a:path w="3498" h="1390">
                <a:moveTo>
                  <a:pt x="7665" y="7466"/>
                </a:moveTo>
                <a:cubicBezTo>
                  <a:pt x="7665" y="7458"/>
                  <a:pt x="7665" y="7449"/>
                  <a:pt x="7665" y="7441"/>
                </a:cubicBezTo>
                <a:cubicBezTo>
                  <a:pt x="7719" y="7441"/>
                  <a:pt x="7737" y="7430"/>
                  <a:pt x="7789" y="7417"/>
                </a:cubicBezTo>
                <a:cubicBezTo>
                  <a:pt x="7854" y="7401"/>
                  <a:pt x="7944" y="7417"/>
                  <a:pt x="8012" y="7417"/>
                </a:cubicBezTo>
              </a:path>
              <a:path w="3498" h="1390">
                <a:moveTo>
                  <a:pt x="8310" y="7293"/>
                </a:moveTo>
                <a:cubicBezTo>
                  <a:pt x="8345" y="7281"/>
                  <a:pt x="8334" y="7235"/>
                  <a:pt x="8359" y="7218"/>
                </a:cubicBezTo>
                <a:cubicBezTo>
                  <a:pt x="8400" y="7191"/>
                  <a:pt x="8435" y="7186"/>
                  <a:pt x="8483" y="7218"/>
                </a:cubicBezTo>
                <a:cubicBezTo>
                  <a:pt x="8548" y="7261"/>
                  <a:pt x="8554" y="7351"/>
                  <a:pt x="8558" y="7417"/>
                </a:cubicBezTo>
                <a:cubicBezTo>
                  <a:pt x="8561" y="7457"/>
                  <a:pt x="8491" y="7507"/>
                  <a:pt x="8458" y="7516"/>
                </a:cubicBezTo>
                <a:cubicBezTo>
                  <a:pt x="8419" y="7527"/>
                  <a:pt x="8374" y="7533"/>
                  <a:pt x="8334" y="7541"/>
                </a:cubicBezTo>
              </a:path>
              <a:path w="3498" h="1390">
                <a:moveTo>
                  <a:pt x="8781" y="7144"/>
                </a:moveTo>
                <a:cubicBezTo>
                  <a:pt x="8789" y="7127"/>
                  <a:pt x="8798" y="7111"/>
                  <a:pt x="8806" y="7094"/>
                </a:cubicBezTo>
                <a:cubicBezTo>
                  <a:pt x="8770" y="7118"/>
                  <a:pt x="8752" y="7168"/>
                  <a:pt x="8731" y="7218"/>
                </a:cubicBezTo>
                <a:cubicBezTo>
                  <a:pt x="8702" y="7288"/>
                  <a:pt x="8653" y="7351"/>
                  <a:pt x="8706" y="7417"/>
                </a:cubicBezTo>
                <a:cubicBezTo>
                  <a:pt x="8747" y="7468"/>
                  <a:pt x="8771" y="7480"/>
                  <a:pt x="8830" y="7441"/>
                </a:cubicBezTo>
                <a:cubicBezTo>
                  <a:pt x="8838" y="7433"/>
                  <a:pt x="8847" y="7425"/>
                  <a:pt x="8855" y="7417"/>
                </a:cubicBezTo>
              </a:path>
              <a:path w="3498" h="1390">
                <a:moveTo>
                  <a:pt x="8979" y="7739"/>
                </a:moveTo>
                <a:cubicBezTo>
                  <a:pt x="8873" y="7739"/>
                  <a:pt x="8782" y="7747"/>
                  <a:pt x="8682" y="7764"/>
                </a:cubicBezTo>
                <a:cubicBezTo>
                  <a:pt x="8608" y="7776"/>
                  <a:pt x="8529" y="7777"/>
                  <a:pt x="8458" y="7789"/>
                </a:cubicBezTo>
                <a:cubicBezTo>
                  <a:pt x="8369" y="7804"/>
                  <a:pt x="8273" y="7799"/>
                  <a:pt x="8186" y="7813"/>
                </a:cubicBezTo>
                <a:cubicBezTo>
                  <a:pt x="8055" y="7834"/>
                  <a:pt x="7910" y="7814"/>
                  <a:pt x="7789" y="7838"/>
                </a:cubicBezTo>
                <a:cubicBezTo>
                  <a:pt x="7739" y="7848"/>
                  <a:pt x="7716" y="7815"/>
                  <a:pt x="7665" y="7813"/>
                </a:cubicBezTo>
                <a:cubicBezTo>
                  <a:pt x="7537" y="7807"/>
                  <a:pt x="7414" y="7818"/>
                  <a:pt x="7293" y="7838"/>
                </a:cubicBezTo>
                <a:cubicBezTo>
                  <a:pt x="7235" y="7848"/>
                  <a:pt x="7174" y="7854"/>
                  <a:pt x="7119" y="7863"/>
                </a:cubicBezTo>
                <a:cubicBezTo>
                  <a:pt x="7053" y="7874"/>
                  <a:pt x="6978" y="7877"/>
                  <a:pt x="6921" y="7888"/>
                </a:cubicBezTo>
                <a:cubicBezTo>
                  <a:pt x="6873" y="7898"/>
                  <a:pt x="6870" y="7899"/>
                  <a:pt x="6846" y="7913"/>
                </a:cubicBezTo>
              </a:path>
              <a:path w="3498" h="1390">
                <a:moveTo>
                  <a:pt x="7714" y="8111"/>
                </a:moveTo>
                <a:cubicBezTo>
                  <a:pt x="7689" y="8111"/>
                  <a:pt x="7681" y="8111"/>
                  <a:pt x="7689" y="8136"/>
                </a:cubicBezTo>
                <a:cubicBezTo>
                  <a:pt x="7689" y="8083"/>
                  <a:pt x="7701" y="8075"/>
                  <a:pt x="7739" y="8037"/>
                </a:cubicBezTo>
                <a:cubicBezTo>
                  <a:pt x="7769" y="8007"/>
                  <a:pt x="7820" y="7990"/>
                  <a:pt x="7863" y="7987"/>
                </a:cubicBezTo>
                <a:cubicBezTo>
                  <a:pt x="7903" y="7984"/>
                  <a:pt x="7973" y="8015"/>
                  <a:pt x="7987" y="8062"/>
                </a:cubicBezTo>
                <a:cubicBezTo>
                  <a:pt x="8005" y="8125"/>
                  <a:pt x="7964" y="8183"/>
                  <a:pt x="7938" y="8235"/>
                </a:cubicBezTo>
                <a:cubicBezTo>
                  <a:pt x="7901" y="8310"/>
                  <a:pt x="7869" y="8396"/>
                  <a:pt x="7813" y="8458"/>
                </a:cubicBezTo>
                <a:cubicBezTo>
                  <a:pt x="7805" y="8466"/>
                  <a:pt x="7797" y="8475"/>
                  <a:pt x="7789" y="8483"/>
                </a:cubicBezTo>
                <a:cubicBezTo>
                  <a:pt x="7837" y="8471"/>
                  <a:pt x="7889" y="8434"/>
                  <a:pt x="7938" y="8409"/>
                </a:cubicBezTo>
                <a:cubicBezTo>
                  <a:pt x="8010" y="8373"/>
                  <a:pt x="8082" y="8384"/>
                  <a:pt x="8161" y="8384"/>
                </a:cubicBezTo>
                <a:cubicBezTo>
                  <a:pt x="8194" y="8384"/>
                  <a:pt x="8227" y="8384"/>
                  <a:pt x="8260" y="8384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93920" y="3375000"/>
            <a:ext cx="276120" cy="169920"/>
          </a:xfrm>
          <a:custGeom>
            <a:avLst/>
            <a:gdLst/>
            <a:ahLst/>
            <a:rect l="l" t="t" r="r" b="b"/>
            <a:pathLst>
              <a:path w="769" h="472">
                <a:moveTo>
                  <a:pt x="3870" y="9550"/>
                </a:moveTo>
                <a:cubicBezTo>
                  <a:pt x="3870" y="9509"/>
                  <a:pt x="3879" y="9485"/>
                  <a:pt x="3894" y="9451"/>
                </a:cubicBezTo>
                <a:cubicBezTo>
                  <a:pt x="3927" y="9375"/>
                  <a:pt x="3968" y="9376"/>
                  <a:pt x="4043" y="9376"/>
                </a:cubicBezTo>
                <a:cubicBezTo>
                  <a:pt x="4121" y="9376"/>
                  <a:pt x="4163" y="9365"/>
                  <a:pt x="4192" y="9451"/>
                </a:cubicBezTo>
                <a:cubicBezTo>
                  <a:pt x="4215" y="9517"/>
                  <a:pt x="4167" y="9546"/>
                  <a:pt x="4118" y="9575"/>
                </a:cubicBezTo>
                <a:cubicBezTo>
                  <a:pt x="4069" y="9604"/>
                  <a:pt x="4040" y="9604"/>
                  <a:pt x="4018" y="9649"/>
                </a:cubicBezTo>
                <a:cubicBezTo>
                  <a:pt x="4076" y="9661"/>
                  <a:pt x="4134" y="9689"/>
                  <a:pt x="4192" y="9699"/>
                </a:cubicBezTo>
                <a:cubicBezTo>
                  <a:pt x="4251" y="9709"/>
                  <a:pt x="4268" y="9710"/>
                  <a:pt x="4316" y="9748"/>
                </a:cubicBezTo>
                <a:cubicBezTo>
                  <a:pt x="4299" y="9816"/>
                  <a:pt x="4274" y="9803"/>
                  <a:pt x="4217" y="9823"/>
                </a:cubicBezTo>
                <a:cubicBezTo>
                  <a:pt x="4154" y="9845"/>
                  <a:pt x="4111" y="9847"/>
                  <a:pt x="4043" y="9847"/>
                </a:cubicBezTo>
              </a:path>
              <a:path w="769" h="472">
                <a:moveTo>
                  <a:pt x="4415" y="9475"/>
                </a:moveTo>
                <a:cubicBezTo>
                  <a:pt x="4438" y="9453"/>
                  <a:pt x="4443" y="9445"/>
                  <a:pt x="4465" y="9451"/>
                </a:cubicBezTo>
                <a:cubicBezTo>
                  <a:pt x="4449" y="9478"/>
                  <a:pt x="4411" y="9589"/>
                  <a:pt x="4415" y="9624"/>
                </a:cubicBezTo>
                <a:cubicBezTo>
                  <a:pt x="4418" y="9655"/>
                  <a:pt x="4458" y="9761"/>
                  <a:pt x="4490" y="9773"/>
                </a:cubicBezTo>
                <a:cubicBezTo>
                  <a:pt x="4534" y="9773"/>
                  <a:pt x="4548" y="9776"/>
                  <a:pt x="4564" y="9748"/>
                </a:cubicBezTo>
              </a:path>
              <a:path w="769" h="472">
                <a:moveTo>
                  <a:pt x="4638" y="9599"/>
                </a:moveTo>
                <a:cubicBezTo>
                  <a:pt x="4615" y="9576"/>
                  <a:pt x="4580" y="9527"/>
                  <a:pt x="4539" y="9550"/>
                </a:cubicBezTo>
                <a:cubicBezTo>
                  <a:pt x="4517" y="9572"/>
                  <a:pt x="4512" y="9581"/>
                  <a:pt x="4490" y="9575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03240" y="3384720"/>
            <a:ext cx="71640" cy="80640"/>
          </a:xfrm>
          <a:custGeom>
            <a:avLst/>
            <a:gdLst/>
            <a:ahLst/>
            <a:rect l="l" t="t" r="r" b="b"/>
            <a:pathLst>
              <a:path w="199" h="224">
                <a:moveTo>
                  <a:pt x="5110" y="9426"/>
                </a:moveTo>
                <a:cubicBezTo>
                  <a:pt x="5192" y="9412"/>
                  <a:pt x="5129" y="9419"/>
                  <a:pt x="5184" y="9401"/>
                </a:cubicBezTo>
                <a:cubicBezTo>
                  <a:pt x="5153" y="9409"/>
                  <a:pt x="5111" y="9434"/>
                  <a:pt x="5085" y="9451"/>
                </a:cubicBezTo>
                <a:cubicBezTo>
                  <a:pt x="5053" y="9471"/>
                  <a:pt x="5041" y="9477"/>
                  <a:pt x="5011" y="9500"/>
                </a:cubicBezTo>
              </a:path>
              <a:path w="199" h="224">
                <a:moveTo>
                  <a:pt x="5135" y="9525"/>
                </a:moveTo>
                <a:cubicBezTo>
                  <a:pt x="5176" y="9525"/>
                  <a:pt x="5184" y="9525"/>
                  <a:pt x="5209" y="9525"/>
                </a:cubicBezTo>
                <a:cubicBezTo>
                  <a:pt x="5209" y="9565"/>
                  <a:pt x="5204" y="9590"/>
                  <a:pt x="5159" y="9599"/>
                </a:cubicBezTo>
                <a:cubicBezTo>
                  <a:pt x="5115" y="9608"/>
                  <a:pt x="5099" y="9614"/>
                  <a:pt x="5060" y="9624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09880" y="3276720"/>
            <a:ext cx="500040" cy="312480"/>
          </a:xfrm>
          <a:custGeom>
            <a:avLst/>
            <a:gdLst/>
            <a:ahLst/>
            <a:rect l="l" t="t" r="r" b="b"/>
            <a:pathLst>
              <a:path w="1390" h="869">
                <a:moveTo>
                  <a:pt x="5581" y="9451"/>
                </a:moveTo>
                <a:cubicBezTo>
                  <a:pt x="5581" y="9368"/>
                  <a:pt x="5605" y="9425"/>
                  <a:pt x="5631" y="9475"/>
                </a:cubicBezTo>
                <a:cubicBezTo>
                  <a:pt x="5671" y="9551"/>
                  <a:pt x="5707" y="9604"/>
                  <a:pt x="5779" y="9624"/>
                </a:cubicBezTo>
                <a:cubicBezTo>
                  <a:pt x="5801" y="9595"/>
                  <a:pt x="5815" y="9542"/>
                  <a:pt x="5854" y="9525"/>
                </a:cubicBezTo>
                <a:cubicBezTo>
                  <a:pt x="5933" y="9490"/>
                  <a:pt x="5965" y="9635"/>
                  <a:pt x="5978" y="9674"/>
                </a:cubicBezTo>
                <a:cubicBezTo>
                  <a:pt x="6018" y="9789"/>
                  <a:pt x="6009" y="9836"/>
                  <a:pt x="5928" y="9922"/>
                </a:cubicBezTo>
                <a:cubicBezTo>
                  <a:pt x="5865" y="9989"/>
                  <a:pt x="5762" y="9993"/>
                  <a:pt x="5680" y="9947"/>
                </a:cubicBezTo>
                <a:cubicBezTo>
                  <a:pt x="5650" y="9917"/>
                  <a:pt x="5639" y="9903"/>
                  <a:pt x="5631" y="9872"/>
                </a:cubicBezTo>
              </a:path>
              <a:path w="1390" h="869">
                <a:moveTo>
                  <a:pt x="6226" y="9475"/>
                </a:moveTo>
                <a:cubicBezTo>
                  <a:pt x="6239" y="9426"/>
                  <a:pt x="6250" y="9426"/>
                  <a:pt x="6300" y="9426"/>
                </a:cubicBezTo>
                <a:cubicBezTo>
                  <a:pt x="6360" y="9426"/>
                  <a:pt x="6374" y="9407"/>
                  <a:pt x="6424" y="9401"/>
                </a:cubicBezTo>
                <a:cubicBezTo>
                  <a:pt x="6432" y="9401"/>
                  <a:pt x="6441" y="9401"/>
                  <a:pt x="6449" y="9401"/>
                </a:cubicBezTo>
              </a:path>
              <a:path w="1390" h="869">
                <a:moveTo>
                  <a:pt x="6548" y="9277"/>
                </a:moveTo>
                <a:cubicBezTo>
                  <a:pt x="6548" y="9231"/>
                  <a:pt x="6542" y="9213"/>
                  <a:pt x="6573" y="9178"/>
                </a:cubicBezTo>
                <a:cubicBezTo>
                  <a:pt x="6594" y="9154"/>
                  <a:pt x="6665" y="9094"/>
                  <a:pt x="6697" y="9103"/>
                </a:cubicBezTo>
                <a:cubicBezTo>
                  <a:pt x="6764" y="9122"/>
                  <a:pt x="6792" y="9165"/>
                  <a:pt x="6796" y="9227"/>
                </a:cubicBezTo>
                <a:cubicBezTo>
                  <a:pt x="6801" y="9312"/>
                  <a:pt x="6784" y="9374"/>
                  <a:pt x="6747" y="9451"/>
                </a:cubicBezTo>
                <a:cubicBezTo>
                  <a:pt x="6721" y="9505"/>
                  <a:pt x="6697" y="9517"/>
                  <a:pt x="6697" y="9575"/>
                </a:cubicBezTo>
                <a:cubicBezTo>
                  <a:pt x="6755" y="9575"/>
                  <a:pt x="6791" y="9563"/>
                  <a:pt x="6846" y="9550"/>
                </a:cubicBezTo>
                <a:cubicBezTo>
                  <a:pt x="6884" y="9541"/>
                  <a:pt x="6931" y="9550"/>
                  <a:pt x="6970" y="9550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7120" y="3625920"/>
            <a:ext cx="1044720" cy="534960"/>
          </a:xfrm>
          <a:custGeom>
            <a:avLst/>
            <a:gdLst/>
            <a:ahLst/>
            <a:rect l="l" t="t" r="r" b="b"/>
            <a:pathLst>
              <a:path w="2903" h="1489">
                <a:moveTo>
                  <a:pt x="4291" y="10517"/>
                </a:moveTo>
                <a:cubicBezTo>
                  <a:pt x="4291" y="10492"/>
                  <a:pt x="4291" y="10484"/>
                  <a:pt x="4316" y="10492"/>
                </a:cubicBezTo>
                <a:cubicBezTo>
                  <a:pt x="4291" y="10534"/>
                  <a:pt x="4254" y="10612"/>
                  <a:pt x="4242" y="10666"/>
                </a:cubicBezTo>
                <a:cubicBezTo>
                  <a:pt x="4226" y="10740"/>
                  <a:pt x="4244" y="10829"/>
                  <a:pt x="4291" y="10889"/>
                </a:cubicBezTo>
                <a:cubicBezTo>
                  <a:pt x="4332" y="10941"/>
                  <a:pt x="4355" y="10964"/>
                  <a:pt x="4415" y="10964"/>
                </a:cubicBezTo>
                <a:cubicBezTo>
                  <a:pt x="4440" y="10964"/>
                  <a:pt x="4448" y="10964"/>
                  <a:pt x="4465" y="10964"/>
                </a:cubicBezTo>
              </a:path>
              <a:path w="2903" h="1489">
                <a:moveTo>
                  <a:pt x="4440" y="10740"/>
                </a:moveTo>
                <a:cubicBezTo>
                  <a:pt x="4366" y="10730"/>
                  <a:pt x="4377" y="10720"/>
                  <a:pt x="4316" y="10740"/>
                </a:cubicBezTo>
                <a:cubicBezTo>
                  <a:pt x="4273" y="10754"/>
                  <a:pt x="4283" y="10733"/>
                  <a:pt x="4242" y="10765"/>
                </a:cubicBezTo>
              </a:path>
              <a:path w="2903" h="1489">
                <a:moveTo>
                  <a:pt x="5159" y="10616"/>
                </a:moveTo>
                <a:cubicBezTo>
                  <a:pt x="5106" y="10616"/>
                  <a:pt x="5089" y="10636"/>
                  <a:pt x="5035" y="10641"/>
                </a:cubicBezTo>
                <a:cubicBezTo>
                  <a:pt x="4998" y="10644"/>
                  <a:pt x="4987" y="10665"/>
                  <a:pt x="4961" y="10691"/>
                </a:cubicBezTo>
              </a:path>
              <a:path w="2903" h="1489">
                <a:moveTo>
                  <a:pt x="5135" y="10740"/>
                </a:moveTo>
                <a:cubicBezTo>
                  <a:pt x="5143" y="10740"/>
                  <a:pt x="5151" y="10740"/>
                  <a:pt x="5159" y="10740"/>
                </a:cubicBezTo>
                <a:cubicBezTo>
                  <a:pt x="5149" y="10772"/>
                  <a:pt x="5126" y="10780"/>
                  <a:pt x="5085" y="10790"/>
                </a:cubicBezTo>
              </a:path>
              <a:path w="2903" h="1489">
                <a:moveTo>
                  <a:pt x="5705" y="10418"/>
                </a:moveTo>
                <a:cubicBezTo>
                  <a:pt x="5697" y="10410"/>
                  <a:pt x="5688" y="10401"/>
                  <a:pt x="5680" y="10393"/>
                </a:cubicBezTo>
                <a:cubicBezTo>
                  <a:pt x="5680" y="10446"/>
                  <a:pt x="5681" y="10473"/>
                  <a:pt x="5705" y="10517"/>
                </a:cubicBezTo>
                <a:cubicBezTo>
                  <a:pt x="5737" y="10578"/>
                  <a:pt x="5771" y="10589"/>
                  <a:pt x="5829" y="10542"/>
                </a:cubicBezTo>
                <a:cubicBezTo>
                  <a:pt x="5880" y="10501"/>
                  <a:pt x="5841" y="10449"/>
                  <a:pt x="5904" y="10418"/>
                </a:cubicBezTo>
                <a:cubicBezTo>
                  <a:pt x="5998" y="10445"/>
                  <a:pt x="6020" y="10525"/>
                  <a:pt x="6077" y="10616"/>
                </a:cubicBezTo>
                <a:cubicBezTo>
                  <a:pt x="6126" y="10695"/>
                  <a:pt x="6163" y="10800"/>
                  <a:pt x="6102" y="10889"/>
                </a:cubicBezTo>
                <a:cubicBezTo>
                  <a:pt x="6057" y="10954"/>
                  <a:pt x="5978" y="10984"/>
                  <a:pt x="5904" y="10988"/>
                </a:cubicBezTo>
                <a:cubicBezTo>
                  <a:pt x="5846" y="10991"/>
                  <a:pt x="5786" y="10976"/>
                  <a:pt x="5779" y="10914"/>
                </a:cubicBezTo>
                <a:cubicBezTo>
                  <a:pt x="5779" y="10889"/>
                  <a:pt x="5779" y="10881"/>
                  <a:pt x="5779" y="10864"/>
                </a:cubicBezTo>
              </a:path>
              <a:path w="2903" h="1489">
                <a:moveTo>
                  <a:pt x="6350" y="10393"/>
                </a:moveTo>
                <a:cubicBezTo>
                  <a:pt x="6396" y="10393"/>
                  <a:pt x="6408" y="10373"/>
                  <a:pt x="6449" y="10368"/>
                </a:cubicBezTo>
                <a:cubicBezTo>
                  <a:pt x="6477" y="10368"/>
                  <a:pt x="6488" y="10366"/>
                  <a:pt x="6499" y="10344"/>
                </a:cubicBezTo>
              </a:path>
              <a:path w="2903" h="1489">
                <a:moveTo>
                  <a:pt x="6648" y="10244"/>
                </a:moveTo>
                <a:cubicBezTo>
                  <a:pt x="6648" y="10207"/>
                  <a:pt x="6630" y="10117"/>
                  <a:pt x="6672" y="10096"/>
                </a:cubicBezTo>
                <a:cubicBezTo>
                  <a:pt x="6691" y="10087"/>
                  <a:pt x="6744" y="10055"/>
                  <a:pt x="6772" y="10071"/>
                </a:cubicBezTo>
                <a:cubicBezTo>
                  <a:pt x="6805" y="10090"/>
                  <a:pt x="6842" y="10135"/>
                  <a:pt x="6846" y="10170"/>
                </a:cubicBezTo>
                <a:cubicBezTo>
                  <a:pt x="6854" y="10245"/>
                  <a:pt x="6817" y="10277"/>
                  <a:pt x="6796" y="10344"/>
                </a:cubicBezTo>
                <a:cubicBezTo>
                  <a:pt x="6785" y="10379"/>
                  <a:pt x="6746" y="10443"/>
                  <a:pt x="6796" y="10468"/>
                </a:cubicBezTo>
                <a:cubicBezTo>
                  <a:pt x="6818" y="10479"/>
                  <a:pt x="6908" y="10450"/>
                  <a:pt x="6921" y="10443"/>
                </a:cubicBezTo>
                <a:cubicBezTo>
                  <a:pt x="6956" y="10425"/>
                  <a:pt x="7015" y="10410"/>
                  <a:pt x="7045" y="10393"/>
                </a:cubicBezTo>
                <a:cubicBezTo>
                  <a:pt x="7053" y="10385"/>
                  <a:pt x="7061" y="10376"/>
                  <a:pt x="7069" y="10368"/>
                </a:cubicBezTo>
              </a:path>
              <a:path w="2903" h="1489">
                <a:moveTo>
                  <a:pt x="7144" y="10716"/>
                </a:moveTo>
                <a:cubicBezTo>
                  <a:pt x="7129" y="10672"/>
                  <a:pt x="7073" y="10691"/>
                  <a:pt x="7020" y="10691"/>
                </a:cubicBezTo>
                <a:cubicBezTo>
                  <a:pt x="6893" y="10691"/>
                  <a:pt x="6771" y="10734"/>
                  <a:pt x="6648" y="10765"/>
                </a:cubicBezTo>
                <a:cubicBezTo>
                  <a:pt x="6522" y="10797"/>
                  <a:pt x="6379" y="10849"/>
                  <a:pt x="6251" y="10864"/>
                </a:cubicBezTo>
                <a:cubicBezTo>
                  <a:pt x="6146" y="10876"/>
                  <a:pt x="6056" y="10895"/>
                  <a:pt x="5953" y="10914"/>
                </a:cubicBezTo>
                <a:cubicBezTo>
                  <a:pt x="5913" y="10922"/>
                  <a:pt x="5891" y="10930"/>
                  <a:pt x="5854" y="10939"/>
                </a:cubicBezTo>
              </a:path>
              <a:path w="2903" h="1489">
                <a:moveTo>
                  <a:pt x="6350" y="11162"/>
                </a:moveTo>
                <a:cubicBezTo>
                  <a:pt x="6350" y="11110"/>
                  <a:pt x="6355" y="11113"/>
                  <a:pt x="6400" y="11088"/>
                </a:cubicBezTo>
                <a:cubicBezTo>
                  <a:pt x="6459" y="11054"/>
                  <a:pt x="6510" y="11018"/>
                  <a:pt x="6573" y="11013"/>
                </a:cubicBezTo>
                <a:cubicBezTo>
                  <a:pt x="6581" y="11013"/>
                  <a:pt x="6590" y="11013"/>
                  <a:pt x="6598" y="11013"/>
                </a:cubicBezTo>
                <a:cubicBezTo>
                  <a:pt x="6598" y="11070"/>
                  <a:pt x="6606" y="11112"/>
                  <a:pt x="6573" y="11162"/>
                </a:cubicBezTo>
                <a:cubicBezTo>
                  <a:pt x="6546" y="11202"/>
                  <a:pt x="6504" y="11240"/>
                  <a:pt x="6499" y="11286"/>
                </a:cubicBezTo>
                <a:cubicBezTo>
                  <a:pt x="6491" y="11358"/>
                  <a:pt x="6559" y="11325"/>
                  <a:pt x="6598" y="11336"/>
                </a:cubicBezTo>
                <a:cubicBezTo>
                  <a:pt x="6610" y="11340"/>
                  <a:pt x="6717" y="11377"/>
                  <a:pt x="6722" y="11385"/>
                </a:cubicBezTo>
                <a:cubicBezTo>
                  <a:pt x="6722" y="11393"/>
                  <a:pt x="6722" y="11402"/>
                  <a:pt x="6722" y="11410"/>
                </a:cubicBezTo>
                <a:cubicBezTo>
                  <a:pt x="6681" y="11441"/>
                  <a:pt x="6625" y="11465"/>
                  <a:pt x="6573" y="11485"/>
                </a:cubicBezTo>
                <a:cubicBezTo>
                  <a:pt x="6506" y="11511"/>
                  <a:pt x="6440" y="11530"/>
                  <a:pt x="6375" y="11559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70280" y="1419120"/>
            <a:ext cx="17640" cy="243000"/>
          </a:xfrm>
          <a:custGeom>
            <a:avLst/>
            <a:gdLst/>
            <a:ahLst/>
            <a:rect l="l" t="t" r="r" b="b"/>
            <a:pathLst>
              <a:path w="50" h="671">
                <a:moveTo>
                  <a:pt x="13022" y="3944"/>
                </a:moveTo>
                <a:cubicBezTo>
                  <a:pt x="12979" y="3959"/>
                  <a:pt x="12998" y="4016"/>
                  <a:pt x="12998" y="4068"/>
                </a:cubicBezTo>
                <a:cubicBezTo>
                  <a:pt x="12998" y="4177"/>
                  <a:pt x="12973" y="4278"/>
                  <a:pt x="12973" y="4390"/>
                </a:cubicBezTo>
                <a:cubicBezTo>
                  <a:pt x="12973" y="4465"/>
                  <a:pt x="12973" y="4539"/>
                  <a:pt x="12973" y="4614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95920" y="1482840"/>
            <a:ext cx="428400" cy="142920"/>
          </a:xfrm>
          <a:custGeom>
            <a:avLst/>
            <a:gdLst/>
            <a:ahLst/>
            <a:rect l="l" t="t" r="r" b="b"/>
            <a:pathLst>
              <a:path w="1192" h="397">
                <a:moveTo>
                  <a:pt x="13345" y="4291"/>
                </a:moveTo>
                <a:cubicBezTo>
                  <a:pt x="13322" y="4314"/>
                  <a:pt x="13314" y="4318"/>
                  <a:pt x="13320" y="4341"/>
                </a:cubicBezTo>
                <a:cubicBezTo>
                  <a:pt x="13380" y="4341"/>
                  <a:pt x="13413" y="4326"/>
                  <a:pt x="13469" y="4316"/>
                </a:cubicBezTo>
                <a:cubicBezTo>
                  <a:pt x="13522" y="4307"/>
                  <a:pt x="13588" y="4316"/>
                  <a:pt x="13643" y="4316"/>
                </a:cubicBezTo>
              </a:path>
              <a:path w="1192" h="397">
                <a:moveTo>
                  <a:pt x="13866" y="4266"/>
                </a:moveTo>
                <a:cubicBezTo>
                  <a:pt x="13900" y="4255"/>
                  <a:pt x="13896" y="4232"/>
                  <a:pt x="13940" y="4217"/>
                </a:cubicBezTo>
                <a:cubicBezTo>
                  <a:pt x="13988" y="4201"/>
                  <a:pt x="14047" y="4224"/>
                  <a:pt x="14089" y="4242"/>
                </a:cubicBezTo>
                <a:cubicBezTo>
                  <a:pt x="14149" y="4268"/>
                  <a:pt x="14184" y="4324"/>
                  <a:pt x="14188" y="4390"/>
                </a:cubicBezTo>
                <a:cubicBezTo>
                  <a:pt x="14193" y="4461"/>
                  <a:pt x="14132" y="4499"/>
                  <a:pt x="14064" y="4514"/>
                </a:cubicBezTo>
                <a:cubicBezTo>
                  <a:pt x="14048" y="4514"/>
                  <a:pt x="14031" y="4514"/>
                  <a:pt x="14015" y="4514"/>
                </a:cubicBezTo>
              </a:path>
              <a:path w="1192" h="397">
                <a:moveTo>
                  <a:pt x="14288" y="4142"/>
                </a:moveTo>
                <a:cubicBezTo>
                  <a:pt x="14304" y="4134"/>
                  <a:pt x="14321" y="4126"/>
                  <a:pt x="14337" y="4118"/>
                </a:cubicBezTo>
                <a:cubicBezTo>
                  <a:pt x="14315" y="4161"/>
                  <a:pt x="14267" y="4187"/>
                  <a:pt x="14238" y="4242"/>
                </a:cubicBezTo>
                <a:cubicBezTo>
                  <a:pt x="14198" y="4316"/>
                  <a:pt x="14195" y="4384"/>
                  <a:pt x="14263" y="4440"/>
                </a:cubicBezTo>
                <a:cubicBezTo>
                  <a:pt x="14333" y="4497"/>
                  <a:pt x="14395" y="4448"/>
                  <a:pt x="14461" y="4415"/>
                </a:cubicBezTo>
                <a:cubicBezTo>
                  <a:pt x="14478" y="4407"/>
                  <a:pt x="14494" y="4398"/>
                  <a:pt x="14511" y="4390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97280" y="1625760"/>
            <a:ext cx="955800" cy="285480"/>
          </a:xfrm>
          <a:custGeom>
            <a:avLst/>
            <a:gdLst/>
            <a:ahLst/>
            <a:rect l="l" t="t" r="r" b="b"/>
            <a:pathLst>
              <a:path w="2655" h="795">
                <a:moveTo>
                  <a:pt x="14660" y="4663"/>
                </a:moveTo>
                <a:cubicBezTo>
                  <a:pt x="14634" y="4676"/>
                  <a:pt x="14613" y="4673"/>
                  <a:pt x="14560" y="4688"/>
                </a:cubicBezTo>
                <a:cubicBezTo>
                  <a:pt x="14463" y="4715"/>
                  <a:pt x="14342" y="4731"/>
                  <a:pt x="14238" y="4738"/>
                </a:cubicBezTo>
                <a:cubicBezTo>
                  <a:pt x="13891" y="4762"/>
                  <a:pt x="13539" y="4717"/>
                  <a:pt x="13196" y="4762"/>
                </a:cubicBezTo>
                <a:cubicBezTo>
                  <a:pt x="13148" y="4768"/>
                  <a:pt x="13096" y="4762"/>
                  <a:pt x="13047" y="4762"/>
                </a:cubicBezTo>
              </a:path>
              <a:path w="2655" h="795">
                <a:moveTo>
                  <a:pt x="13568" y="4986"/>
                </a:moveTo>
                <a:cubicBezTo>
                  <a:pt x="13528" y="5006"/>
                  <a:pt x="13512" y="5004"/>
                  <a:pt x="13519" y="5035"/>
                </a:cubicBezTo>
                <a:cubicBezTo>
                  <a:pt x="13555" y="4999"/>
                  <a:pt x="13590" y="4970"/>
                  <a:pt x="13643" y="4961"/>
                </a:cubicBezTo>
                <a:cubicBezTo>
                  <a:pt x="13699" y="4951"/>
                  <a:pt x="13750" y="4954"/>
                  <a:pt x="13791" y="4986"/>
                </a:cubicBezTo>
                <a:cubicBezTo>
                  <a:pt x="13781" y="5036"/>
                  <a:pt x="13751" y="5094"/>
                  <a:pt x="13717" y="5135"/>
                </a:cubicBezTo>
                <a:cubicBezTo>
                  <a:pt x="13702" y="5153"/>
                  <a:pt x="13628" y="5224"/>
                  <a:pt x="13643" y="5259"/>
                </a:cubicBezTo>
                <a:cubicBezTo>
                  <a:pt x="13667" y="5314"/>
                  <a:pt x="13741" y="5319"/>
                  <a:pt x="13791" y="5308"/>
                </a:cubicBezTo>
                <a:cubicBezTo>
                  <a:pt x="13861" y="5293"/>
                  <a:pt x="13924" y="5280"/>
                  <a:pt x="13990" y="5259"/>
                </a:cubicBezTo>
              </a:path>
              <a:path w="2655" h="795">
                <a:moveTo>
                  <a:pt x="15627" y="4514"/>
                </a:moveTo>
                <a:cubicBezTo>
                  <a:pt x="15635" y="4514"/>
                  <a:pt x="15644" y="4514"/>
                  <a:pt x="15652" y="4514"/>
                </a:cubicBezTo>
                <a:cubicBezTo>
                  <a:pt x="15582" y="4514"/>
                  <a:pt x="15397" y="4485"/>
                  <a:pt x="15379" y="4539"/>
                </a:cubicBezTo>
              </a:path>
              <a:path w="2655" h="795">
                <a:moveTo>
                  <a:pt x="15652" y="4638"/>
                </a:moveTo>
                <a:cubicBezTo>
                  <a:pt x="15668" y="4646"/>
                  <a:pt x="15685" y="4655"/>
                  <a:pt x="15701" y="4663"/>
                </a:cubicBezTo>
                <a:cubicBezTo>
                  <a:pt x="15660" y="4663"/>
                  <a:pt x="15618" y="4663"/>
                  <a:pt x="15577" y="4663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72120" y="1393920"/>
            <a:ext cx="571680" cy="534960"/>
          </a:xfrm>
          <a:custGeom>
            <a:avLst/>
            <a:gdLst/>
            <a:ahLst/>
            <a:rect l="l" t="t" r="r" b="b"/>
            <a:pathLst>
              <a:path w="1589" h="1489">
                <a:moveTo>
                  <a:pt x="16867" y="4068"/>
                </a:moveTo>
                <a:cubicBezTo>
                  <a:pt x="16867" y="3964"/>
                  <a:pt x="16859" y="4083"/>
                  <a:pt x="16867" y="4118"/>
                </a:cubicBezTo>
                <a:cubicBezTo>
                  <a:pt x="16886" y="4204"/>
                  <a:pt x="16932" y="4261"/>
                  <a:pt x="17016" y="4266"/>
                </a:cubicBezTo>
                <a:cubicBezTo>
                  <a:pt x="17077" y="4269"/>
                  <a:pt x="17137" y="4203"/>
                  <a:pt x="17190" y="4217"/>
                </a:cubicBezTo>
                <a:cubicBezTo>
                  <a:pt x="17305" y="4248"/>
                  <a:pt x="17325" y="4390"/>
                  <a:pt x="17338" y="4490"/>
                </a:cubicBezTo>
                <a:cubicBezTo>
                  <a:pt x="17351" y="4594"/>
                  <a:pt x="17345" y="4634"/>
                  <a:pt x="17239" y="4638"/>
                </a:cubicBezTo>
                <a:cubicBezTo>
                  <a:pt x="17132" y="4642"/>
                  <a:pt x="17071" y="4601"/>
                  <a:pt x="16991" y="4539"/>
                </a:cubicBezTo>
                <a:cubicBezTo>
                  <a:pt x="16969" y="4517"/>
                  <a:pt x="16960" y="4512"/>
                  <a:pt x="16966" y="4490"/>
                </a:cubicBezTo>
              </a:path>
              <a:path w="1589" h="1489">
                <a:moveTo>
                  <a:pt x="17686" y="4217"/>
                </a:moveTo>
                <a:cubicBezTo>
                  <a:pt x="17678" y="4217"/>
                  <a:pt x="17669" y="4217"/>
                  <a:pt x="17661" y="4217"/>
                </a:cubicBezTo>
                <a:cubicBezTo>
                  <a:pt x="17676" y="4157"/>
                  <a:pt x="17700" y="4167"/>
                  <a:pt x="17760" y="4167"/>
                </a:cubicBezTo>
              </a:path>
              <a:path w="1589" h="1489">
                <a:moveTo>
                  <a:pt x="18033" y="3994"/>
                </a:moveTo>
                <a:cubicBezTo>
                  <a:pt x="18033" y="3931"/>
                  <a:pt x="18024" y="3919"/>
                  <a:pt x="18058" y="3894"/>
                </a:cubicBezTo>
                <a:cubicBezTo>
                  <a:pt x="18100" y="3863"/>
                  <a:pt x="18127" y="3870"/>
                  <a:pt x="18182" y="3870"/>
                </a:cubicBezTo>
                <a:cubicBezTo>
                  <a:pt x="18246" y="3870"/>
                  <a:pt x="18285" y="3905"/>
                  <a:pt x="18306" y="3969"/>
                </a:cubicBezTo>
                <a:cubicBezTo>
                  <a:pt x="18325" y="4026"/>
                  <a:pt x="18240" y="4085"/>
                  <a:pt x="18207" y="4118"/>
                </a:cubicBezTo>
                <a:cubicBezTo>
                  <a:pt x="18157" y="4167"/>
                  <a:pt x="18125" y="4213"/>
                  <a:pt x="18083" y="4266"/>
                </a:cubicBezTo>
                <a:cubicBezTo>
                  <a:pt x="18153" y="4309"/>
                  <a:pt x="18158" y="4279"/>
                  <a:pt x="18231" y="4266"/>
                </a:cubicBezTo>
                <a:cubicBezTo>
                  <a:pt x="18300" y="4254"/>
                  <a:pt x="18358" y="4242"/>
                  <a:pt x="18430" y="4242"/>
                </a:cubicBezTo>
                <a:cubicBezTo>
                  <a:pt x="18438" y="4242"/>
                  <a:pt x="18447" y="4242"/>
                  <a:pt x="18455" y="4242"/>
                </a:cubicBezTo>
              </a:path>
              <a:path w="1589" h="1489">
                <a:moveTo>
                  <a:pt x="18430" y="4638"/>
                </a:moveTo>
                <a:cubicBezTo>
                  <a:pt x="18430" y="4663"/>
                  <a:pt x="18430" y="4671"/>
                  <a:pt x="18455" y="4663"/>
                </a:cubicBezTo>
                <a:cubicBezTo>
                  <a:pt x="18123" y="4663"/>
                  <a:pt x="17790" y="4666"/>
                  <a:pt x="17462" y="4638"/>
                </a:cubicBezTo>
                <a:cubicBezTo>
                  <a:pt x="17352" y="4629"/>
                  <a:pt x="17245" y="4630"/>
                  <a:pt x="17140" y="4614"/>
                </a:cubicBezTo>
                <a:cubicBezTo>
                  <a:pt x="17061" y="4602"/>
                  <a:pt x="16972" y="4614"/>
                  <a:pt x="16892" y="4614"/>
                </a:cubicBezTo>
              </a:path>
              <a:path w="1589" h="1489">
                <a:moveTo>
                  <a:pt x="17338" y="4887"/>
                </a:moveTo>
                <a:cubicBezTo>
                  <a:pt x="17338" y="4821"/>
                  <a:pt x="17340" y="4854"/>
                  <a:pt x="17388" y="4837"/>
                </a:cubicBezTo>
                <a:cubicBezTo>
                  <a:pt x="17463" y="4810"/>
                  <a:pt x="17484" y="4802"/>
                  <a:pt x="17562" y="4837"/>
                </a:cubicBezTo>
                <a:cubicBezTo>
                  <a:pt x="17614" y="4861"/>
                  <a:pt x="17631" y="4900"/>
                  <a:pt x="17611" y="4961"/>
                </a:cubicBezTo>
                <a:cubicBezTo>
                  <a:pt x="17581" y="5056"/>
                  <a:pt x="17532" y="5016"/>
                  <a:pt x="17462" y="5060"/>
                </a:cubicBezTo>
                <a:cubicBezTo>
                  <a:pt x="17438" y="5085"/>
                  <a:pt x="17430" y="5094"/>
                  <a:pt x="17413" y="5110"/>
                </a:cubicBezTo>
                <a:cubicBezTo>
                  <a:pt x="17475" y="5145"/>
                  <a:pt x="17529" y="5148"/>
                  <a:pt x="17587" y="5184"/>
                </a:cubicBezTo>
                <a:cubicBezTo>
                  <a:pt x="17632" y="5212"/>
                  <a:pt x="17660" y="5263"/>
                  <a:pt x="17611" y="5308"/>
                </a:cubicBezTo>
                <a:cubicBezTo>
                  <a:pt x="17543" y="5371"/>
                  <a:pt x="17447" y="5358"/>
                  <a:pt x="17363" y="5358"/>
                </a:cubicBezTo>
                <a:cubicBezTo>
                  <a:pt x="17295" y="5358"/>
                  <a:pt x="17276" y="5361"/>
                  <a:pt x="17239" y="5333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10080" y="2160720"/>
            <a:ext cx="758880" cy="206280"/>
          </a:xfrm>
          <a:custGeom>
            <a:avLst/>
            <a:gdLst/>
            <a:ahLst/>
            <a:rect l="l" t="t" r="r" b="b"/>
            <a:pathLst>
              <a:path w="2110" h="571">
                <a:moveTo>
                  <a:pt x="12551" y="6102"/>
                </a:moveTo>
                <a:cubicBezTo>
                  <a:pt x="12521" y="6043"/>
                  <a:pt x="12556" y="6067"/>
                  <a:pt x="12601" y="6028"/>
                </a:cubicBezTo>
                <a:cubicBezTo>
                  <a:pt x="12654" y="5981"/>
                  <a:pt x="12714" y="6002"/>
                  <a:pt x="12774" y="6028"/>
                </a:cubicBezTo>
                <a:cubicBezTo>
                  <a:pt x="12850" y="6061"/>
                  <a:pt x="12849" y="6100"/>
                  <a:pt x="12849" y="6176"/>
                </a:cubicBezTo>
                <a:cubicBezTo>
                  <a:pt x="12849" y="6256"/>
                  <a:pt x="12822" y="6234"/>
                  <a:pt x="12774" y="6276"/>
                </a:cubicBezTo>
                <a:cubicBezTo>
                  <a:pt x="12744" y="6303"/>
                  <a:pt x="12734" y="6315"/>
                  <a:pt x="12725" y="6350"/>
                </a:cubicBezTo>
                <a:cubicBezTo>
                  <a:pt x="12775" y="6379"/>
                  <a:pt x="12808" y="6408"/>
                  <a:pt x="12849" y="6449"/>
                </a:cubicBezTo>
                <a:cubicBezTo>
                  <a:pt x="12875" y="6475"/>
                  <a:pt x="12896" y="6525"/>
                  <a:pt x="12849" y="6548"/>
                </a:cubicBezTo>
                <a:cubicBezTo>
                  <a:pt x="12806" y="6569"/>
                  <a:pt x="12725" y="6587"/>
                  <a:pt x="12675" y="6573"/>
                </a:cubicBezTo>
                <a:cubicBezTo>
                  <a:pt x="12627" y="6549"/>
                  <a:pt x="12613" y="6540"/>
                  <a:pt x="12576" y="6548"/>
                </a:cubicBezTo>
              </a:path>
              <a:path w="2110" h="571">
                <a:moveTo>
                  <a:pt x="13122" y="6350"/>
                </a:moveTo>
                <a:cubicBezTo>
                  <a:pt x="13114" y="6350"/>
                  <a:pt x="13105" y="6350"/>
                  <a:pt x="13097" y="6350"/>
                </a:cubicBezTo>
                <a:cubicBezTo>
                  <a:pt x="13151" y="6350"/>
                  <a:pt x="13166" y="6328"/>
                  <a:pt x="13221" y="6325"/>
                </a:cubicBezTo>
                <a:cubicBezTo>
                  <a:pt x="13270" y="6322"/>
                  <a:pt x="13321" y="6325"/>
                  <a:pt x="13370" y="6325"/>
                </a:cubicBezTo>
              </a:path>
              <a:path w="2110" h="571">
                <a:moveTo>
                  <a:pt x="13742" y="6077"/>
                </a:moveTo>
                <a:cubicBezTo>
                  <a:pt x="13717" y="6077"/>
                  <a:pt x="13709" y="6077"/>
                  <a:pt x="13692" y="6077"/>
                </a:cubicBezTo>
                <a:cubicBezTo>
                  <a:pt x="13742" y="6047"/>
                  <a:pt x="13802" y="6031"/>
                  <a:pt x="13866" y="6028"/>
                </a:cubicBezTo>
                <a:cubicBezTo>
                  <a:pt x="13907" y="6026"/>
                  <a:pt x="13949" y="6028"/>
                  <a:pt x="13990" y="6028"/>
                </a:cubicBezTo>
                <a:cubicBezTo>
                  <a:pt x="13990" y="6085"/>
                  <a:pt x="13998" y="6127"/>
                  <a:pt x="13965" y="6176"/>
                </a:cubicBezTo>
                <a:cubicBezTo>
                  <a:pt x="13934" y="6222"/>
                  <a:pt x="13915" y="6218"/>
                  <a:pt x="13915" y="6276"/>
                </a:cubicBezTo>
                <a:cubicBezTo>
                  <a:pt x="13915" y="6337"/>
                  <a:pt x="13973" y="6333"/>
                  <a:pt x="14015" y="6350"/>
                </a:cubicBezTo>
                <a:cubicBezTo>
                  <a:pt x="14053" y="6365"/>
                  <a:pt x="14130" y="6417"/>
                  <a:pt x="14089" y="6474"/>
                </a:cubicBezTo>
                <a:cubicBezTo>
                  <a:pt x="14066" y="6506"/>
                  <a:pt x="13953" y="6499"/>
                  <a:pt x="13915" y="6499"/>
                </a:cubicBezTo>
                <a:cubicBezTo>
                  <a:pt x="13907" y="6499"/>
                  <a:pt x="13899" y="6499"/>
                  <a:pt x="13891" y="6499"/>
                </a:cubicBezTo>
              </a:path>
              <a:path w="2110" h="571">
                <a:moveTo>
                  <a:pt x="14288" y="6350"/>
                </a:moveTo>
                <a:cubicBezTo>
                  <a:pt x="14252" y="6323"/>
                  <a:pt x="14249" y="6333"/>
                  <a:pt x="14238" y="6300"/>
                </a:cubicBezTo>
                <a:cubicBezTo>
                  <a:pt x="14283" y="6289"/>
                  <a:pt x="14309" y="6276"/>
                  <a:pt x="14362" y="6276"/>
                </a:cubicBezTo>
                <a:cubicBezTo>
                  <a:pt x="14401" y="6276"/>
                  <a:pt x="14472" y="6301"/>
                  <a:pt x="14486" y="6350"/>
                </a:cubicBezTo>
                <a:cubicBezTo>
                  <a:pt x="14507" y="6423"/>
                  <a:pt x="14440" y="6446"/>
                  <a:pt x="14387" y="6449"/>
                </a:cubicBezTo>
                <a:cubicBezTo>
                  <a:pt x="14347" y="6451"/>
                  <a:pt x="14303" y="6449"/>
                  <a:pt x="14263" y="6449"/>
                </a:cubicBezTo>
              </a:path>
              <a:path w="2110" h="571">
                <a:moveTo>
                  <a:pt x="14511" y="6251"/>
                </a:moveTo>
                <a:cubicBezTo>
                  <a:pt x="14519" y="6243"/>
                  <a:pt x="14528" y="6234"/>
                  <a:pt x="14536" y="6226"/>
                </a:cubicBezTo>
                <a:cubicBezTo>
                  <a:pt x="14500" y="6286"/>
                  <a:pt x="14511" y="6349"/>
                  <a:pt x="14511" y="6424"/>
                </a:cubicBezTo>
                <a:cubicBezTo>
                  <a:pt x="14511" y="6499"/>
                  <a:pt x="14540" y="6518"/>
                  <a:pt x="14610" y="6524"/>
                </a:cubicBezTo>
                <a:cubicBezTo>
                  <a:pt x="14618" y="6524"/>
                  <a:pt x="14627" y="6524"/>
                  <a:pt x="14635" y="6524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0800" y="2152800"/>
            <a:ext cx="90360" cy="619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5528" y="5978"/>
                </a:moveTo>
                <a:cubicBezTo>
                  <a:pt x="15443" y="5978"/>
                  <a:pt x="15376" y="5981"/>
                  <a:pt x="15304" y="6003"/>
                </a:cubicBezTo>
                <a:cubicBezTo>
                  <a:pt x="15296" y="6003"/>
                  <a:pt x="15288" y="6003"/>
                  <a:pt x="15280" y="6003"/>
                </a:cubicBezTo>
              </a:path>
              <a:path w="249" h="175">
                <a:moveTo>
                  <a:pt x="15478" y="6152"/>
                </a:moveTo>
                <a:cubicBezTo>
                  <a:pt x="15486" y="6152"/>
                  <a:pt x="15495" y="6152"/>
                  <a:pt x="15503" y="6152"/>
                </a:cubicBezTo>
                <a:cubicBezTo>
                  <a:pt x="15462" y="6152"/>
                  <a:pt x="15420" y="6152"/>
                  <a:pt x="15379" y="6152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23000" y="2054160"/>
            <a:ext cx="919080" cy="268200"/>
          </a:xfrm>
          <a:custGeom>
            <a:avLst/>
            <a:gdLst/>
            <a:ahLst/>
            <a:rect l="l" t="t" r="r" b="b"/>
            <a:pathLst>
              <a:path w="2556" h="745">
                <a:moveTo>
                  <a:pt x="16222" y="5854"/>
                </a:moveTo>
                <a:cubicBezTo>
                  <a:pt x="16197" y="5879"/>
                  <a:pt x="16189" y="5887"/>
                  <a:pt x="16173" y="5904"/>
                </a:cubicBezTo>
                <a:cubicBezTo>
                  <a:pt x="16173" y="5864"/>
                  <a:pt x="16178" y="5824"/>
                  <a:pt x="16222" y="5804"/>
                </a:cubicBezTo>
                <a:cubicBezTo>
                  <a:pt x="16270" y="5783"/>
                  <a:pt x="16335" y="5810"/>
                  <a:pt x="16371" y="5829"/>
                </a:cubicBezTo>
                <a:cubicBezTo>
                  <a:pt x="16442" y="5867"/>
                  <a:pt x="16421" y="5902"/>
                  <a:pt x="16421" y="5978"/>
                </a:cubicBezTo>
                <a:cubicBezTo>
                  <a:pt x="16421" y="6059"/>
                  <a:pt x="16384" y="6068"/>
                  <a:pt x="16346" y="6127"/>
                </a:cubicBezTo>
                <a:cubicBezTo>
                  <a:pt x="16316" y="6173"/>
                  <a:pt x="16297" y="6198"/>
                  <a:pt x="16297" y="6251"/>
                </a:cubicBezTo>
                <a:cubicBezTo>
                  <a:pt x="16395" y="6251"/>
                  <a:pt x="16478" y="6253"/>
                  <a:pt x="16570" y="6276"/>
                </a:cubicBezTo>
                <a:cubicBezTo>
                  <a:pt x="16594" y="6276"/>
                  <a:pt x="16603" y="6276"/>
                  <a:pt x="16619" y="6276"/>
                </a:cubicBezTo>
              </a:path>
              <a:path w="2556" h="745">
                <a:moveTo>
                  <a:pt x="16842" y="6127"/>
                </a:moveTo>
                <a:cubicBezTo>
                  <a:pt x="16842" y="6102"/>
                  <a:pt x="16842" y="6094"/>
                  <a:pt x="16842" y="6077"/>
                </a:cubicBezTo>
                <a:cubicBezTo>
                  <a:pt x="16849" y="6103"/>
                  <a:pt x="16863" y="6162"/>
                  <a:pt x="16892" y="6176"/>
                </a:cubicBezTo>
                <a:cubicBezTo>
                  <a:pt x="16950" y="6204"/>
                  <a:pt x="16993" y="6143"/>
                  <a:pt x="17041" y="6127"/>
                </a:cubicBezTo>
                <a:cubicBezTo>
                  <a:pt x="17119" y="6101"/>
                  <a:pt x="17141" y="6165"/>
                  <a:pt x="17165" y="6226"/>
                </a:cubicBezTo>
                <a:cubicBezTo>
                  <a:pt x="17198" y="6309"/>
                  <a:pt x="17254" y="6385"/>
                  <a:pt x="17165" y="6449"/>
                </a:cubicBezTo>
                <a:cubicBezTo>
                  <a:pt x="17112" y="6488"/>
                  <a:pt x="16971" y="6436"/>
                  <a:pt x="16917" y="6424"/>
                </a:cubicBezTo>
                <a:cubicBezTo>
                  <a:pt x="16892" y="6424"/>
                  <a:pt x="16884" y="6424"/>
                  <a:pt x="16867" y="6424"/>
                </a:cubicBezTo>
              </a:path>
              <a:path w="2556" h="745">
                <a:moveTo>
                  <a:pt x="17438" y="6102"/>
                </a:moveTo>
                <a:cubicBezTo>
                  <a:pt x="17371" y="6102"/>
                  <a:pt x="17476" y="6102"/>
                  <a:pt x="17487" y="6102"/>
                </a:cubicBezTo>
                <a:cubicBezTo>
                  <a:pt x="17566" y="6102"/>
                  <a:pt x="17647" y="6115"/>
                  <a:pt x="17711" y="6077"/>
                </a:cubicBezTo>
              </a:path>
              <a:path w="2556" h="745">
                <a:moveTo>
                  <a:pt x="17909" y="5854"/>
                </a:moveTo>
                <a:cubicBezTo>
                  <a:pt x="17879" y="5810"/>
                  <a:pt x="17911" y="5825"/>
                  <a:pt x="17959" y="5804"/>
                </a:cubicBezTo>
                <a:cubicBezTo>
                  <a:pt x="18013" y="5780"/>
                  <a:pt x="18068" y="5735"/>
                  <a:pt x="18132" y="5755"/>
                </a:cubicBezTo>
                <a:cubicBezTo>
                  <a:pt x="18187" y="5773"/>
                  <a:pt x="18199" y="5822"/>
                  <a:pt x="18182" y="5879"/>
                </a:cubicBezTo>
                <a:cubicBezTo>
                  <a:pt x="18164" y="5938"/>
                  <a:pt x="18095" y="6024"/>
                  <a:pt x="18058" y="6077"/>
                </a:cubicBezTo>
                <a:cubicBezTo>
                  <a:pt x="18034" y="6111"/>
                  <a:pt x="18018" y="6113"/>
                  <a:pt x="18008" y="6152"/>
                </a:cubicBezTo>
                <a:cubicBezTo>
                  <a:pt x="18065" y="6152"/>
                  <a:pt x="18104" y="6136"/>
                  <a:pt x="18157" y="6127"/>
                </a:cubicBezTo>
                <a:cubicBezTo>
                  <a:pt x="18223" y="6116"/>
                  <a:pt x="18287" y="6102"/>
                  <a:pt x="18355" y="6102"/>
                </a:cubicBezTo>
                <a:cubicBezTo>
                  <a:pt x="18397" y="6102"/>
                  <a:pt x="18405" y="6102"/>
                  <a:pt x="18430" y="6102"/>
                </a:cubicBezTo>
              </a:path>
              <a:path w="2556" h="745">
                <a:moveTo>
                  <a:pt x="16942" y="5755"/>
                </a:moveTo>
                <a:cubicBezTo>
                  <a:pt x="16897" y="5755"/>
                  <a:pt x="16876" y="5748"/>
                  <a:pt x="16842" y="5779"/>
                </a:cubicBezTo>
                <a:cubicBezTo>
                  <a:pt x="16794" y="5822"/>
                  <a:pt x="16757" y="5857"/>
                  <a:pt x="16718" y="5904"/>
                </a:cubicBezTo>
                <a:cubicBezTo>
                  <a:pt x="16683" y="5946"/>
                  <a:pt x="16648" y="5996"/>
                  <a:pt x="16644" y="6052"/>
                </a:cubicBezTo>
                <a:cubicBezTo>
                  <a:pt x="16640" y="6117"/>
                  <a:pt x="16681" y="6176"/>
                  <a:pt x="16718" y="6226"/>
                </a:cubicBezTo>
                <a:cubicBezTo>
                  <a:pt x="16741" y="6249"/>
                  <a:pt x="16745" y="6257"/>
                  <a:pt x="16768" y="6251"/>
                </a:cubicBezTo>
              </a:path>
              <a:path w="2556" h="745">
                <a:moveTo>
                  <a:pt x="18405" y="5730"/>
                </a:moveTo>
                <a:cubicBezTo>
                  <a:pt x="18443" y="5701"/>
                  <a:pt x="18456" y="5705"/>
                  <a:pt x="18504" y="5705"/>
                </a:cubicBezTo>
                <a:cubicBezTo>
                  <a:pt x="18570" y="5705"/>
                  <a:pt x="18616" y="5711"/>
                  <a:pt x="18653" y="5779"/>
                </a:cubicBezTo>
                <a:cubicBezTo>
                  <a:pt x="18696" y="5858"/>
                  <a:pt x="18725" y="5965"/>
                  <a:pt x="18728" y="6052"/>
                </a:cubicBezTo>
                <a:cubicBezTo>
                  <a:pt x="18732" y="6152"/>
                  <a:pt x="18703" y="6197"/>
                  <a:pt x="18628" y="6251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18000" y="2562120"/>
            <a:ext cx="741240" cy="268560"/>
          </a:xfrm>
          <a:custGeom>
            <a:avLst/>
            <a:gdLst/>
            <a:ahLst/>
            <a:rect l="l" t="t" r="r" b="b"/>
            <a:pathLst>
              <a:path w="2060" h="745">
                <a:moveTo>
                  <a:pt x="12601" y="7441"/>
                </a:moveTo>
                <a:cubicBezTo>
                  <a:pt x="12559" y="7441"/>
                  <a:pt x="12563" y="7451"/>
                  <a:pt x="12551" y="7417"/>
                </a:cubicBezTo>
                <a:cubicBezTo>
                  <a:pt x="12561" y="7388"/>
                  <a:pt x="12630" y="7352"/>
                  <a:pt x="12675" y="7342"/>
                </a:cubicBezTo>
                <a:cubicBezTo>
                  <a:pt x="12734" y="7329"/>
                  <a:pt x="12790" y="7340"/>
                  <a:pt x="12824" y="7392"/>
                </a:cubicBezTo>
                <a:cubicBezTo>
                  <a:pt x="12863" y="7451"/>
                  <a:pt x="12861" y="7530"/>
                  <a:pt x="12824" y="7590"/>
                </a:cubicBezTo>
                <a:cubicBezTo>
                  <a:pt x="12807" y="7617"/>
                  <a:pt x="12752" y="7628"/>
                  <a:pt x="12725" y="7640"/>
                </a:cubicBezTo>
                <a:cubicBezTo>
                  <a:pt x="12778" y="7640"/>
                  <a:pt x="12808" y="7652"/>
                  <a:pt x="12849" y="7689"/>
                </a:cubicBezTo>
                <a:cubicBezTo>
                  <a:pt x="12883" y="7719"/>
                  <a:pt x="12923" y="7762"/>
                  <a:pt x="12898" y="7813"/>
                </a:cubicBezTo>
                <a:cubicBezTo>
                  <a:pt x="12871" y="7868"/>
                  <a:pt x="12826" y="7863"/>
                  <a:pt x="12774" y="7863"/>
                </a:cubicBezTo>
                <a:cubicBezTo>
                  <a:pt x="12726" y="7863"/>
                  <a:pt x="12713" y="7861"/>
                  <a:pt x="12675" y="7838"/>
                </a:cubicBezTo>
              </a:path>
              <a:path w="2060" h="745">
                <a:moveTo>
                  <a:pt x="13221" y="7615"/>
                </a:moveTo>
                <a:cubicBezTo>
                  <a:pt x="13204" y="7607"/>
                  <a:pt x="13188" y="7598"/>
                  <a:pt x="13171" y="7590"/>
                </a:cubicBezTo>
                <a:cubicBezTo>
                  <a:pt x="13231" y="7590"/>
                  <a:pt x="13272" y="7575"/>
                  <a:pt x="13320" y="7565"/>
                </a:cubicBezTo>
                <a:cubicBezTo>
                  <a:pt x="13370" y="7565"/>
                  <a:pt x="13386" y="7565"/>
                  <a:pt x="13419" y="7565"/>
                </a:cubicBezTo>
              </a:path>
              <a:path w="2060" h="745">
                <a:moveTo>
                  <a:pt x="13667" y="7243"/>
                </a:moveTo>
                <a:cubicBezTo>
                  <a:pt x="13659" y="7235"/>
                  <a:pt x="13651" y="7226"/>
                  <a:pt x="13643" y="7218"/>
                </a:cubicBezTo>
                <a:cubicBezTo>
                  <a:pt x="13648" y="7202"/>
                  <a:pt x="13665" y="7157"/>
                  <a:pt x="13692" y="7144"/>
                </a:cubicBezTo>
                <a:cubicBezTo>
                  <a:pt x="13727" y="7127"/>
                  <a:pt x="13799" y="7105"/>
                  <a:pt x="13841" y="7119"/>
                </a:cubicBezTo>
                <a:cubicBezTo>
                  <a:pt x="13903" y="7140"/>
                  <a:pt x="13915" y="7161"/>
                  <a:pt x="13915" y="7218"/>
                </a:cubicBezTo>
                <a:cubicBezTo>
                  <a:pt x="13915" y="7268"/>
                  <a:pt x="13858" y="7299"/>
                  <a:pt x="13841" y="7342"/>
                </a:cubicBezTo>
                <a:cubicBezTo>
                  <a:pt x="13822" y="7389"/>
                  <a:pt x="13896" y="7404"/>
                  <a:pt x="13915" y="7417"/>
                </a:cubicBezTo>
                <a:cubicBezTo>
                  <a:pt x="13936" y="7431"/>
                  <a:pt x="14007" y="7452"/>
                  <a:pt x="13990" y="7491"/>
                </a:cubicBezTo>
                <a:cubicBezTo>
                  <a:pt x="13979" y="7517"/>
                  <a:pt x="13914" y="7560"/>
                  <a:pt x="13891" y="7565"/>
                </a:cubicBezTo>
                <a:cubicBezTo>
                  <a:pt x="13874" y="7565"/>
                  <a:pt x="13858" y="7565"/>
                  <a:pt x="13841" y="7565"/>
                </a:cubicBezTo>
              </a:path>
              <a:path w="2060" h="745">
                <a:moveTo>
                  <a:pt x="14188" y="7317"/>
                </a:moveTo>
                <a:cubicBezTo>
                  <a:pt x="14155" y="7301"/>
                  <a:pt x="14203" y="7275"/>
                  <a:pt x="14238" y="7268"/>
                </a:cubicBezTo>
                <a:cubicBezTo>
                  <a:pt x="14289" y="7257"/>
                  <a:pt x="14331" y="7264"/>
                  <a:pt x="14337" y="7317"/>
                </a:cubicBezTo>
                <a:cubicBezTo>
                  <a:pt x="14345" y="7386"/>
                  <a:pt x="14333" y="7418"/>
                  <a:pt x="14263" y="7441"/>
                </a:cubicBezTo>
                <a:cubicBezTo>
                  <a:pt x="14255" y="7441"/>
                  <a:pt x="14246" y="7441"/>
                  <a:pt x="14238" y="7441"/>
                </a:cubicBezTo>
              </a:path>
              <a:path w="2060" h="745">
                <a:moveTo>
                  <a:pt x="14387" y="7193"/>
                </a:moveTo>
                <a:cubicBezTo>
                  <a:pt x="14395" y="7185"/>
                  <a:pt x="14404" y="7177"/>
                  <a:pt x="14412" y="7169"/>
                </a:cubicBezTo>
                <a:cubicBezTo>
                  <a:pt x="14401" y="7224"/>
                  <a:pt x="14370" y="7281"/>
                  <a:pt x="14387" y="7342"/>
                </a:cubicBezTo>
                <a:cubicBezTo>
                  <a:pt x="14403" y="7399"/>
                  <a:pt x="14439" y="7483"/>
                  <a:pt x="14511" y="7466"/>
                </a:cubicBezTo>
                <a:cubicBezTo>
                  <a:pt x="14560" y="7441"/>
                  <a:pt x="14577" y="7433"/>
                  <a:pt x="14610" y="7417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8880" y="255420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5329" y="7119"/>
                </a:moveTo>
                <a:cubicBezTo>
                  <a:pt x="15329" y="7091"/>
                  <a:pt x="15331" y="7085"/>
                  <a:pt x="15354" y="7119"/>
                </a:cubicBezTo>
                <a:cubicBezTo>
                  <a:pt x="15270" y="7119"/>
                  <a:pt x="15174" y="7103"/>
                  <a:pt x="15106" y="7144"/>
                </a:cubicBezTo>
              </a:path>
              <a:path w="249" h="150">
                <a:moveTo>
                  <a:pt x="15280" y="7193"/>
                </a:moveTo>
                <a:cubicBezTo>
                  <a:pt x="15316" y="7221"/>
                  <a:pt x="15318" y="7210"/>
                  <a:pt x="15329" y="7243"/>
                </a:cubicBezTo>
                <a:cubicBezTo>
                  <a:pt x="15288" y="7243"/>
                  <a:pt x="15246" y="7243"/>
                  <a:pt x="15205" y="7243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32640" y="2419200"/>
            <a:ext cx="785520" cy="295560"/>
          </a:xfrm>
          <a:custGeom>
            <a:avLst/>
            <a:gdLst/>
            <a:ahLst/>
            <a:rect l="l" t="t" r="r" b="b"/>
            <a:pathLst>
              <a:path w="2183" h="820">
                <a:moveTo>
                  <a:pt x="15949" y="6921"/>
                </a:moveTo>
                <a:cubicBezTo>
                  <a:pt x="15941" y="6929"/>
                  <a:pt x="15933" y="6937"/>
                  <a:pt x="15925" y="6945"/>
                </a:cubicBezTo>
                <a:cubicBezTo>
                  <a:pt x="15932" y="6917"/>
                  <a:pt x="15964" y="6856"/>
                  <a:pt x="15999" y="6846"/>
                </a:cubicBezTo>
                <a:cubicBezTo>
                  <a:pt x="16051" y="6831"/>
                  <a:pt x="16135" y="6840"/>
                  <a:pt x="16173" y="6871"/>
                </a:cubicBezTo>
                <a:cubicBezTo>
                  <a:pt x="16232" y="6919"/>
                  <a:pt x="16235" y="6983"/>
                  <a:pt x="16197" y="7045"/>
                </a:cubicBezTo>
                <a:cubicBezTo>
                  <a:pt x="16168" y="7092"/>
                  <a:pt x="16132" y="7148"/>
                  <a:pt x="16098" y="7193"/>
                </a:cubicBezTo>
                <a:cubicBezTo>
                  <a:pt x="16075" y="7216"/>
                  <a:pt x="16067" y="7220"/>
                  <a:pt x="16073" y="7243"/>
                </a:cubicBezTo>
                <a:cubicBezTo>
                  <a:pt x="16170" y="7243"/>
                  <a:pt x="16263" y="7240"/>
                  <a:pt x="16346" y="7268"/>
                </a:cubicBezTo>
                <a:cubicBezTo>
                  <a:pt x="16354" y="7268"/>
                  <a:pt x="16363" y="7268"/>
                  <a:pt x="16371" y="7268"/>
                </a:cubicBezTo>
              </a:path>
              <a:path w="2183" h="820">
                <a:moveTo>
                  <a:pt x="16446" y="7169"/>
                </a:moveTo>
                <a:cubicBezTo>
                  <a:pt x="16446" y="7141"/>
                  <a:pt x="16448" y="7130"/>
                  <a:pt x="16470" y="7119"/>
                </a:cubicBezTo>
                <a:cubicBezTo>
                  <a:pt x="16470" y="7078"/>
                  <a:pt x="16454" y="7155"/>
                  <a:pt x="16470" y="7193"/>
                </a:cubicBezTo>
                <a:cubicBezTo>
                  <a:pt x="16481" y="7219"/>
                  <a:pt x="16503" y="7245"/>
                  <a:pt x="16520" y="7268"/>
                </a:cubicBezTo>
                <a:cubicBezTo>
                  <a:pt x="16610" y="7255"/>
                  <a:pt x="16585" y="7193"/>
                  <a:pt x="16669" y="7169"/>
                </a:cubicBezTo>
                <a:cubicBezTo>
                  <a:pt x="16740" y="7148"/>
                  <a:pt x="16816" y="7242"/>
                  <a:pt x="16842" y="7293"/>
                </a:cubicBezTo>
                <a:cubicBezTo>
                  <a:pt x="16885" y="7375"/>
                  <a:pt x="16891" y="7470"/>
                  <a:pt x="16818" y="7516"/>
                </a:cubicBezTo>
                <a:cubicBezTo>
                  <a:pt x="16763" y="7550"/>
                  <a:pt x="16656" y="7558"/>
                  <a:pt x="16594" y="7541"/>
                </a:cubicBezTo>
                <a:cubicBezTo>
                  <a:pt x="16546" y="7517"/>
                  <a:pt x="16532" y="7508"/>
                  <a:pt x="16495" y="7516"/>
                </a:cubicBezTo>
              </a:path>
              <a:path w="2183" h="820">
                <a:moveTo>
                  <a:pt x="17165" y="7119"/>
                </a:moveTo>
                <a:cubicBezTo>
                  <a:pt x="17142" y="7096"/>
                  <a:pt x="17134" y="7092"/>
                  <a:pt x="17140" y="7069"/>
                </a:cubicBezTo>
                <a:cubicBezTo>
                  <a:pt x="17199" y="7069"/>
                  <a:pt x="17192" y="7033"/>
                  <a:pt x="17239" y="7020"/>
                </a:cubicBezTo>
                <a:cubicBezTo>
                  <a:pt x="17279" y="7009"/>
                  <a:pt x="17346" y="7020"/>
                  <a:pt x="17388" y="7020"/>
                </a:cubicBezTo>
              </a:path>
              <a:path w="2183" h="820">
                <a:moveTo>
                  <a:pt x="17611" y="6772"/>
                </a:moveTo>
                <a:cubicBezTo>
                  <a:pt x="17619" y="6755"/>
                  <a:pt x="17628" y="6739"/>
                  <a:pt x="17636" y="6722"/>
                </a:cubicBezTo>
                <a:cubicBezTo>
                  <a:pt x="17677" y="6777"/>
                  <a:pt x="17640" y="6778"/>
                  <a:pt x="17636" y="6846"/>
                </a:cubicBezTo>
                <a:cubicBezTo>
                  <a:pt x="17633" y="6902"/>
                  <a:pt x="17587" y="6959"/>
                  <a:pt x="17611" y="7020"/>
                </a:cubicBezTo>
                <a:cubicBezTo>
                  <a:pt x="17632" y="7074"/>
                  <a:pt x="17689" y="7069"/>
                  <a:pt x="17735" y="7069"/>
                </a:cubicBezTo>
                <a:cubicBezTo>
                  <a:pt x="17840" y="7069"/>
                  <a:pt x="17942" y="7074"/>
                  <a:pt x="18033" y="7045"/>
                </a:cubicBezTo>
                <a:cubicBezTo>
                  <a:pt x="18052" y="7039"/>
                  <a:pt x="18087" y="7045"/>
                  <a:pt x="18107" y="7045"/>
                </a:cubicBezTo>
              </a:path>
              <a:path w="2183" h="820">
                <a:moveTo>
                  <a:pt x="17959" y="6896"/>
                </a:moveTo>
                <a:cubicBezTo>
                  <a:pt x="17852" y="6907"/>
                  <a:pt x="17840" y="6908"/>
                  <a:pt x="17835" y="7020"/>
                </a:cubicBezTo>
                <a:cubicBezTo>
                  <a:pt x="17831" y="7094"/>
                  <a:pt x="17835" y="7169"/>
                  <a:pt x="17835" y="7243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68880" y="2911320"/>
            <a:ext cx="1179360" cy="320760"/>
          </a:xfrm>
          <a:custGeom>
            <a:avLst/>
            <a:gdLst/>
            <a:ahLst/>
            <a:rect l="l" t="t" r="r" b="b"/>
            <a:pathLst>
              <a:path w="3275" h="894">
                <a:moveTo>
                  <a:pt x="12254" y="8508"/>
                </a:moveTo>
                <a:cubicBezTo>
                  <a:pt x="12172" y="8508"/>
                  <a:pt x="12109" y="8524"/>
                  <a:pt x="12030" y="8533"/>
                </a:cubicBezTo>
                <a:cubicBezTo>
                  <a:pt x="11966" y="8540"/>
                  <a:pt x="11919" y="8550"/>
                  <a:pt x="11857" y="8558"/>
                </a:cubicBezTo>
              </a:path>
              <a:path w="3275" h="894">
                <a:moveTo>
                  <a:pt x="12551" y="8334"/>
                </a:moveTo>
                <a:cubicBezTo>
                  <a:pt x="12518" y="8291"/>
                  <a:pt x="12524" y="8269"/>
                  <a:pt x="12576" y="8235"/>
                </a:cubicBezTo>
                <a:cubicBezTo>
                  <a:pt x="12608" y="8215"/>
                  <a:pt x="12739" y="8183"/>
                  <a:pt x="12774" y="8210"/>
                </a:cubicBezTo>
                <a:cubicBezTo>
                  <a:pt x="12820" y="8245"/>
                  <a:pt x="12802" y="8304"/>
                  <a:pt x="12774" y="8334"/>
                </a:cubicBezTo>
                <a:cubicBezTo>
                  <a:pt x="12721" y="8391"/>
                  <a:pt x="12658" y="8413"/>
                  <a:pt x="12650" y="8483"/>
                </a:cubicBezTo>
                <a:cubicBezTo>
                  <a:pt x="12640" y="8566"/>
                  <a:pt x="12735" y="8621"/>
                  <a:pt x="12799" y="8657"/>
                </a:cubicBezTo>
                <a:cubicBezTo>
                  <a:pt x="12851" y="8686"/>
                  <a:pt x="12860" y="8667"/>
                  <a:pt x="12874" y="8706"/>
                </a:cubicBezTo>
                <a:cubicBezTo>
                  <a:pt x="12864" y="8737"/>
                  <a:pt x="12818" y="8763"/>
                  <a:pt x="12774" y="8781"/>
                </a:cubicBezTo>
                <a:cubicBezTo>
                  <a:pt x="12709" y="8808"/>
                  <a:pt x="12690" y="8806"/>
                  <a:pt x="12626" y="8806"/>
                </a:cubicBezTo>
              </a:path>
              <a:path w="3275" h="894">
                <a:moveTo>
                  <a:pt x="13022" y="8582"/>
                </a:moveTo>
                <a:cubicBezTo>
                  <a:pt x="12986" y="8570"/>
                  <a:pt x="12970" y="8545"/>
                  <a:pt x="12998" y="8508"/>
                </a:cubicBezTo>
                <a:cubicBezTo>
                  <a:pt x="13026" y="8471"/>
                  <a:pt x="13070" y="8417"/>
                  <a:pt x="13122" y="8434"/>
                </a:cubicBezTo>
                <a:cubicBezTo>
                  <a:pt x="13193" y="8457"/>
                  <a:pt x="13215" y="8549"/>
                  <a:pt x="13221" y="8607"/>
                </a:cubicBezTo>
                <a:cubicBezTo>
                  <a:pt x="13226" y="8655"/>
                  <a:pt x="13194" y="8724"/>
                  <a:pt x="13146" y="8731"/>
                </a:cubicBezTo>
                <a:cubicBezTo>
                  <a:pt x="13130" y="8731"/>
                  <a:pt x="13113" y="8731"/>
                  <a:pt x="13097" y="8731"/>
                </a:cubicBezTo>
              </a:path>
              <a:path w="3275" h="894">
                <a:moveTo>
                  <a:pt x="13271" y="8434"/>
                </a:moveTo>
                <a:cubicBezTo>
                  <a:pt x="13279" y="8417"/>
                  <a:pt x="13287" y="8401"/>
                  <a:pt x="13295" y="8384"/>
                </a:cubicBezTo>
                <a:cubicBezTo>
                  <a:pt x="13285" y="8428"/>
                  <a:pt x="13219" y="8486"/>
                  <a:pt x="13221" y="8533"/>
                </a:cubicBezTo>
                <a:cubicBezTo>
                  <a:pt x="13225" y="8622"/>
                  <a:pt x="13279" y="8688"/>
                  <a:pt x="13345" y="8706"/>
                </a:cubicBezTo>
              </a:path>
              <a:path w="3275" h="894">
                <a:moveTo>
                  <a:pt x="13791" y="8508"/>
                </a:moveTo>
                <a:cubicBezTo>
                  <a:pt x="13775" y="8500"/>
                  <a:pt x="13758" y="8491"/>
                  <a:pt x="13742" y="8483"/>
                </a:cubicBezTo>
                <a:cubicBezTo>
                  <a:pt x="13795" y="8496"/>
                  <a:pt x="13827" y="8508"/>
                  <a:pt x="13891" y="8508"/>
                </a:cubicBezTo>
                <a:cubicBezTo>
                  <a:pt x="13957" y="8508"/>
                  <a:pt x="14003" y="8495"/>
                  <a:pt x="14064" y="8483"/>
                </a:cubicBezTo>
              </a:path>
              <a:path w="3275" h="894">
                <a:moveTo>
                  <a:pt x="14312" y="8210"/>
                </a:moveTo>
                <a:cubicBezTo>
                  <a:pt x="14288" y="8210"/>
                  <a:pt x="14279" y="8210"/>
                  <a:pt x="14263" y="8210"/>
                </a:cubicBezTo>
                <a:cubicBezTo>
                  <a:pt x="14263" y="8139"/>
                  <a:pt x="14256" y="8157"/>
                  <a:pt x="14312" y="8111"/>
                </a:cubicBezTo>
                <a:cubicBezTo>
                  <a:pt x="14346" y="8083"/>
                  <a:pt x="14414" y="8070"/>
                  <a:pt x="14461" y="8086"/>
                </a:cubicBezTo>
                <a:cubicBezTo>
                  <a:pt x="14519" y="8105"/>
                  <a:pt x="14534" y="8176"/>
                  <a:pt x="14511" y="8235"/>
                </a:cubicBezTo>
                <a:cubicBezTo>
                  <a:pt x="14490" y="8289"/>
                  <a:pt x="14440" y="8354"/>
                  <a:pt x="14412" y="8409"/>
                </a:cubicBezTo>
                <a:cubicBezTo>
                  <a:pt x="14385" y="8462"/>
                  <a:pt x="14362" y="8499"/>
                  <a:pt x="14362" y="8558"/>
                </a:cubicBezTo>
                <a:cubicBezTo>
                  <a:pt x="14421" y="8549"/>
                  <a:pt x="14458" y="8524"/>
                  <a:pt x="14511" y="8508"/>
                </a:cubicBezTo>
                <a:cubicBezTo>
                  <a:pt x="14546" y="8497"/>
                  <a:pt x="14597" y="8508"/>
                  <a:pt x="14635" y="8508"/>
                </a:cubicBezTo>
              </a:path>
              <a:path w="3275" h="894">
                <a:moveTo>
                  <a:pt x="14734" y="8359"/>
                </a:moveTo>
                <a:cubicBezTo>
                  <a:pt x="14734" y="8351"/>
                  <a:pt x="14734" y="8342"/>
                  <a:pt x="14734" y="8334"/>
                </a:cubicBezTo>
                <a:cubicBezTo>
                  <a:pt x="14697" y="8346"/>
                  <a:pt x="14718" y="8389"/>
                  <a:pt x="14734" y="8434"/>
                </a:cubicBezTo>
                <a:cubicBezTo>
                  <a:pt x="14751" y="8483"/>
                  <a:pt x="14760" y="8518"/>
                  <a:pt x="14784" y="8558"/>
                </a:cubicBezTo>
                <a:cubicBezTo>
                  <a:pt x="14873" y="8532"/>
                  <a:pt x="14870" y="8475"/>
                  <a:pt x="14908" y="8384"/>
                </a:cubicBezTo>
                <a:cubicBezTo>
                  <a:pt x="14928" y="8343"/>
                  <a:pt x="14925" y="8326"/>
                  <a:pt x="14957" y="8334"/>
                </a:cubicBezTo>
                <a:cubicBezTo>
                  <a:pt x="15046" y="8412"/>
                  <a:pt x="15108" y="8557"/>
                  <a:pt x="15131" y="8682"/>
                </a:cubicBezTo>
                <a:cubicBezTo>
                  <a:pt x="15156" y="8820"/>
                  <a:pt x="15109" y="8913"/>
                  <a:pt x="14982" y="8954"/>
                </a:cubicBezTo>
                <a:cubicBezTo>
                  <a:pt x="14858" y="8994"/>
                  <a:pt x="14734" y="8987"/>
                  <a:pt x="14610" y="8954"/>
                </a:cubicBezTo>
                <a:cubicBezTo>
                  <a:pt x="14585" y="8946"/>
                  <a:pt x="14561" y="8938"/>
                  <a:pt x="14536" y="8930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6720" y="2946240"/>
            <a:ext cx="90360" cy="54000"/>
          </a:xfrm>
          <a:custGeom>
            <a:avLst/>
            <a:gdLst/>
            <a:ahLst/>
            <a:rect l="l" t="t" r="r" b="b"/>
            <a:pathLst>
              <a:path w="249" h="149">
                <a:moveTo>
                  <a:pt x="15776" y="8210"/>
                </a:moveTo>
                <a:cubicBezTo>
                  <a:pt x="15776" y="8202"/>
                  <a:pt x="15776" y="8194"/>
                  <a:pt x="15776" y="8186"/>
                </a:cubicBezTo>
                <a:cubicBezTo>
                  <a:pt x="15731" y="8186"/>
                  <a:pt x="15717" y="8206"/>
                  <a:pt x="15677" y="8210"/>
                </a:cubicBezTo>
                <a:cubicBezTo>
                  <a:pt x="15624" y="8216"/>
                  <a:pt x="15641" y="8222"/>
                  <a:pt x="15602" y="8235"/>
                </a:cubicBezTo>
              </a:path>
              <a:path w="249" h="149">
                <a:moveTo>
                  <a:pt x="15850" y="8334"/>
                </a:moveTo>
                <a:cubicBezTo>
                  <a:pt x="15809" y="8334"/>
                  <a:pt x="15767" y="8334"/>
                  <a:pt x="15726" y="8334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29200" y="2840040"/>
            <a:ext cx="455760" cy="196920"/>
          </a:xfrm>
          <a:custGeom>
            <a:avLst/>
            <a:gdLst/>
            <a:ahLst/>
            <a:rect l="l" t="t" r="r" b="b"/>
            <a:pathLst>
              <a:path w="1266" h="547">
                <a:moveTo>
                  <a:pt x="16470" y="8235"/>
                </a:moveTo>
                <a:cubicBezTo>
                  <a:pt x="16509" y="8225"/>
                  <a:pt x="16525" y="8210"/>
                  <a:pt x="16570" y="8210"/>
                </a:cubicBezTo>
                <a:cubicBezTo>
                  <a:pt x="16669" y="8210"/>
                  <a:pt x="16768" y="8210"/>
                  <a:pt x="16867" y="8210"/>
                </a:cubicBezTo>
              </a:path>
              <a:path w="1266" h="547">
                <a:moveTo>
                  <a:pt x="17165" y="7913"/>
                </a:moveTo>
                <a:cubicBezTo>
                  <a:pt x="17157" y="7905"/>
                  <a:pt x="17148" y="7896"/>
                  <a:pt x="17140" y="7888"/>
                </a:cubicBezTo>
                <a:cubicBezTo>
                  <a:pt x="17300" y="7888"/>
                  <a:pt x="17455" y="7892"/>
                  <a:pt x="17611" y="7913"/>
                </a:cubicBezTo>
                <a:cubicBezTo>
                  <a:pt x="17650" y="7918"/>
                  <a:pt x="17695" y="7913"/>
                  <a:pt x="17735" y="7913"/>
                </a:cubicBezTo>
                <a:cubicBezTo>
                  <a:pt x="17687" y="7962"/>
                  <a:pt x="17640" y="8023"/>
                  <a:pt x="17611" y="8086"/>
                </a:cubicBezTo>
                <a:cubicBezTo>
                  <a:pt x="17580" y="8154"/>
                  <a:pt x="17528" y="8261"/>
                  <a:pt x="17512" y="8334"/>
                </a:cubicBezTo>
                <a:cubicBezTo>
                  <a:pt x="17506" y="8361"/>
                  <a:pt x="17512" y="8405"/>
                  <a:pt x="17512" y="8434"/>
                </a:cubicBezTo>
              </a:path>
            </a:pathLst>
          </a:custGeom>
          <a:noFill/>
          <a:ln cap="rnd"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42362"/>
          <a:stretch/>
        </p:blipFill>
        <p:spPr>
          <a:xfrm>
            <a:off x="-36360" y="-27000"/>
            <a:ext cx="914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59201" r="0" b="0"/>
          <a:stretch/>
        </p:blipFill>
        <p:spPr>
          <a:xfrm>
            <a:off x="-36360" y="-27000"/>
            <a:ext cx="9145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0:16:10Z</dcterms:created>
  <dc:creator>N Holden</dc:creator>
  <dc:description/>
  <dc:language>en-US</dc:language>
  <cp:lastModifiedBy>N Holden</cp:lastModifiedBy>
  <dcterms:modified xsi:type="dcterms:W3CDTF">2009-03-10T16:10:06Z</dcterms:modified>
  <cp:revision>5</cp:revision>
  <dc:subject/>
  <dc:title>IB Revision 4</dc:title>
</cp:coreProperties>
</file>